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EE2-7D6E-4C8E-BE3B-473AFB15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B90-B6D4-45D3-BCA3-03456171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DE4-0396-4227-9DB2-DE800602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082-6CD7-40AF-918E-EFC00F30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0BC-F096-4412-8695-04AC9499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5DE-2BF0-4AD7-8725-66CF37C0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510-D9B9-4291-9AE3-9313E16E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561-5027-4E37-9AFF-A30F4915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0F7-31F0-4753-88D4-16C27308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E13-FD8E-4077-A001-A96D05B0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5BE-E1A9-436C-96E3-AF824090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B64-F36B-4344-B169-B2E2C0F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2AC2C4-625F-4EC4-A50A-79F18D1C1B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езентац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7964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 ТЕМ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о АЛЖИР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Подготовили учащиеся 7 класс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Руководитель: Булыгина Л.Н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г.Тольятти МОУ сш № 9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бразование и здравоохран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Алжир добился заметных достижений в области образования. В стране функционируют 8 университетов , 170 других высших учебных заведений, 700 центров профессионально-технического образов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 1974 года введено бесплатное медицинское обслужива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лима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8320" y="1534680"/>
            <a:ext cx="489096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Климат Северного Алжира — субтропический средиземноморский. Климат Алжирской Сахары — тропический пустынный, осадков менее 50 мм в год.Речная сеть развита слабо.Растительный покров и почвы Северного Алжира типично средиземноморские. Среди лесов и кустарников выделяются массивы пробкового дуба, в полупустыне — трава альфа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59280" y="2519280"/>
            <a:ext cx="34830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Picture 3" descr="file:///C:/Documents%20and%20Settings/Слава70/Рабочий%20стол/Алжир/Алжир/11.jpg"/>
          <p:cNvPicPr/>
          <p:nvPr/>
        </p:nvPicPr>
        <p:blipFill>
          <a:blip r:embed=""/>
          <a:stretch/>
        </p:blipFill>
        <p:spPr>
          <a:xfrm>
            <a:off x="469800" y="360360"/>
            <a:ext cx="9069480" cy="683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Documents and Settings\Дом\Рабочий стол\algeria.jpg"/>
          <p:cNvPicPr/>
          <p:nvPr/>
        </p:nvPicPr>
        <p:blipFill>
          <a:blip r:embed="rId1"/>
          <a:stretch/>
        </p:blipFill>
        <p:spPr>
          <a:xfrm>
            <a:off x="539640" y="56520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4483080" y="4851360"/>
            <a:ext cx="4568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характеристики стр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Географическое положение стра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Государственные символ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Государственное устройст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Экономи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Насел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6. Образование и здравоохран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7. При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ографическое полаж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757760" cy="432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ходится Алжир на севере Африки. Одно из крупнейших государств континента. Общая площадь страны 2 381 740 км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ый флаг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822240" y="2138400"/>
          <a:ext cx="41068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38400"/>
                    <a:ext cx="4106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С</a:t>
            </a:r>
            <a:r>
              <a:rPr b="0" lang="en-US" sz="2800" spc="-1" strike="noStrike">
                <a:solidFill>
                  <a:srgbClr val="333333"/>
                </a:solidFill>
                <a:latin typeface="sans-serif;Arial"/>
              </a:rPr>
              <a:t>остоит из двух вертикальных полос одинаковой ширины зелёного и белого цвета. В центре расположены красная звезда и полумесяц. Флаг принят 3 июля 1962 года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826160" y="2565360"/>
            <a:ext cx="4564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б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40160" y="2136600"/>
            <a:ext cx="4397040" cy="441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ное устройство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9840" y="2138400"/>
            <a:ext cx="327348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8920" y="1979640"/>
            <a:ext cx="43830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Официальное название — Алжи́рская Наро́дная Демократи́ческая Респу́б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Глава государства —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Президент. С апреля 1999 президент —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Абдельазиз Бутеф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498920" y="4859280"/>
            <a:ext cx="469800" cy="828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Экономи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418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а экономики Алжира                                               -газ и нефть. Они дают 30 % ВВП, 60 %           доходной части госбюджета, 95 % экспортной выручки. По запасам газа Алжир занимает 8-е место в мире и 4-е                   место в мире по экспорту га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D:\Documents and Settings\Дом\Рабочий стол\picture-390h.jpg"/>
          <p:cNvPicPr/>
          <p:nvPr/>
        </p:nvPicPr>
        <p:blipFill>
          <a:blip r:embed="rId1"/>
          <a:stretch/>
        </p:blipFill>
        <p:spPr>
          <a:xfrm>
            <a:off x="754200" y="636480"/>
            <a:ext cx="307152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алюта  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193800" y="220824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жирский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Дом\Рабочий стол\223997b.jpg"/>
          <p:cNvPicPr/>
          <p:nvPr/>
        </p:nvPicPr>
        <p:blipFill>
          <a:blip r:embed="rId1"/>
          <a:stretch/>
        </p:blipFill>
        <p:spPr>
          <a:xfrm>
            <a:off x="896760" y="1708200"/>
            <a:ext cx="4029120" cy="390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Documents and Settings\Дом\Рабочий стол\243233b.jpg"/>
          <p:cNvPicPr/>
          <p:nvPr/>
        </p:nvPicPr>
        <p:blipFill>
          <a:blip r:embed="rId2"/>
          <a:stretch/>
        </p:blipFill>
        <p:spPr>
          <a:xfrm>
            <a:off x="5611680" y="1565280"/>
            <a:ext cx="3500640" cy="5286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97720" y="6208560"/>
            <a:ext cx="239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жирский 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сел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Численность населения — 34,2 млн 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одовой прирост — 1,2 % (1,8 рождений на женщину)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Этнический состав — арабы 83 %, берберы 16 %, прочие мене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Языки — арабский официальный, берберские диалекты, распространён французский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Религия — мусульмане-сунниты 99 %, прочи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рамотность — 79 % мужчин, 60 % женщин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6:55:12Z</dcterms:created>
  <dc:creator>SamLab.ws</dc:creator>
  <dc:description/>
  <dc:language>en-US</dc:language>
  <cp:lastModifiedBy>Admin</cp:lastModifiedBy>
  <dcterms:modified xsi:type="dcterms:W3CDTF">2010-01-10T12:37:59Z</dcterms:modified>
  <cp:revision>17</cp:revision>
  <dc:subject/>
  <dc:title>Учавствовали в презентации:</dc:title>
</cp:coreProperties>
</file>