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759-27E2-4539-A9CC-FE6B0994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A2B-7D99-488E-9712-3FED9B1B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AC1-CBF4-481E-9039-50BB1F39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0B1-7EE5-4371-ACB9-0EA7C286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3A9-2683-4D38-B083-CF9E117F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972-8CA3-4D83-B6F9-AFC23C5C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F95-7B07-4485-B61D-2DCAD3B9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F72-483F-4B80-A328-9B1EBCD1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44E-30E3-4CAF-9367-A0DAE635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049-BC42-4343-BA26-6F2EE965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3CA9-2A03-4713-A552-8B9B0F5A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033-2505-4440-967B-AF11B89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0F358F-DE2F-432B-AA51-960741DBC4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резентац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1880" y="197964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О ТЕМ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о АЛЖИР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Подготовили учащиеся 7 класса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Руководитель: Булыгина Л.Н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г.Тольятти МОУ сш № 9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Образование и здравоохран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Алжир добился заметных достижений в области образования. В стране функционируют 8 университетов , 170 других высших учебных заведений, 700 центров профессионально-технического образован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С 1974 года введено бесплатное медицинское обслужива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Климат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8320" y="1534680"/>
            <a:ext cx="489096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33"/>
                </a:solidFill>
                <a:latin typeface="Arial"/>
              </a:rPr>
              <a:t>Климат Северного Алжира — субтропический средиземноморский. Климат Алжирской Сахары — тропический пустынный, осадков менее 50 мм в год.Речная сеть развита слабо.Растительный покров и почвы Северного Алжира типично средиземноморские. Среди лесов и кустарников выделяются массивы пробкового дуба, в полупустыне — трава альфа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759280" y="2519280"/>
            <a:ext cx="348300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6" name="Picture 3" descr="file:///C:/Documents%20and%20Settings/Слава70/Рабочий%20стол/Алжир/Алжир/11.jpg"/>
          <p:cNvPicPr/>
          <p:nvPr/>
        </p:nvPicPr>
        <p:blipFill>
          <a:blip r:embed=""/>
          <a:stretch/>
        </p:blipFill>
        <p:spPr>
          <a:xfrm>
            <a:off x="469800" y="360360"/>
            <a:ext cx="9069480" cy="6832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Documents and Settings\Дом\Рабочий стол\algeria.jpg"/>
          <p:cNvPicPr/>
          <p:nvPr/>
        </p:nvPicPr>
        <p:blipFill>
          <a:blip r:embed="rId1"/>
          <a:stretch/>
        </p:blipFill>
        <p:spPr>
          <a:xfrm>
            <a:off x="539640" y="565200"/>
            <a:ext cx="8786880" cy="6429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4483080" y="4851360"/>
            <a:ext cx="45684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лан характеристики страны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1. Географическое положение стран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2. Государственные символ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3. Государственное устройство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4. Экономик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5. Насел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6. Образование и здравоохран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7. Природ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ографическое полаж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822240" y="2160720"/>
            <a:ext cx="4757760" cy="4322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ходится Алжир на севере Африки. Одно из крупнейших государств континента. Общая площадь страны 2 381 740 км²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ый флаг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822240" y="2138400"/>
          <a:ext cx="41068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2138400"/>
                    <a:ext cx="41068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23396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   </a:t>
            </a: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С</a:t>
            </a:r>
            <a:r>
              <a:rPr b="0" lang="en-US" sz="2800" spc="-1" strike="noStrike">
                <a:solidFill>
                  <a:srgbClr val="333333"/>
                </a:solidFill>
                <a:latin typeface="sans-serif;Arial"/>
              </a:rPr>
              <a:t>остоит из двух вертикальных полос одинаковой ширины зелёного и белого цвета. В центре расположены красная звезда и полумесяц. Флаг принят 3 июля 1962 года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826160" y="2565360"/>
            <a:ext cx="456408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рб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540160" y="2136600"/>
            <a:ext cx="4397040" cy="4413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ное устройство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39840" y="2138400"/>
            <a:ext cx="3273480" cy="4762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8920" y="1979640"/>
            <a:ext cx="43830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Официальное название — Алжи́рская Наро́дная Демократи́ческая Респу́б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Глава государства —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Президент. С апреля 1999 президент —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Абдельазиз Бутеф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498920" y="4859280"/>
            <a:ext cx="469800" cy="8287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    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Экономик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5120" y="1779480"/>
            <a:ext cx="8418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а экономики Алжира                                               -газ и нефть. Они дают 30 % ВВП, 60 %           доходной части госбюджета, 95 % экспортной выручки. По запасам газа Алжир занимает 8-е место в мире и 4-е                   место в мире по экспорту газ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Picture 4" descr="D:\Documents and Settings\Дом\Рабочий стол\picture-390h.jpg"/>
          <p:cNvPicPr/>
          <p:nvPr/>
        </p:nvPicPr>
        <p:blipFill>
          <a:blip r:embed="rId1"/>
          <a:stretch/>
        </p:blipFill>
        <p:spPr>
          <a:xfrm>
            <a:off x="754200" y="636480"/>
            <a:ext cx="3071520" cy="250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алюта  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193800" y="2208240"/>
            <a:ext cx="2198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жирский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D:\Documents and Settings\Дом\Рабочий стол\223997b.jpg"/>
          <p:cNvPicPr/>
          <p:nvPr/>
        </p:nvPicPr>
        <p:blipFill>
          <a:blip r:embed="rId1"/>
          <a:stretch/>
        </p:blipFill>
        <p:spPr>
          <a:xfrm>
            <a:off x="896760" y="1708200"/>
            <a:ext cx="4029120" cy="390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Documents and Settings\Дом\Рабочий стол\243233b.jpg"/>
          <p:cNvPicPr/>
          <p:nvPr/>
        </p:nvPicPr>
        <p:blipFill>
          <a:blip r:embed="rId2"/>
          <a:stretch/>
        </p:blipFill>
        <p:spPr>
          <a:xfrm>
            <a:off x="5611680" y="1565280"/>
            <a:ext cx="3500640" cy="5286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197720" y="6208560"/>
            <a:ext cx="2390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лжирский 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Насел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Численность населения — 34,2 млн 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одовой прирост — 1,2 % (1,8 рождений на женщину)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Этнический состав — арабы 83 %, берберы 16 %, прочие мене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Языки — арабский официальный, берберские диалекты, распространён французский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Религия — мусульмане-сунниты 99 %, прочи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рамотность — 79 % мужчин, 60 % женщин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6:55:12Z</dcterms:created>
  <dc:creator>SamLab.ws</dc:creator>
  <dc:description/>
  <dc:language>en-US</dc:language>
  <cp:lastModifiedBy>Admin</cp:lastModifiedBy>
  <dcterms:modified xsi:type="dcterms:W3CDTF">2010-01-10T12:37:59Z</dcterms:modified>
  <cp:revision>17</cp:revision>
  <dc:subject/>
  <dc:title>Учавствовали в презентации:</dc:title>
</cp:coreProperties>
</file>