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408-903B-4FBF-9FA7-BBDC9812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B72-B9AE-445D-B7F0-21931E71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C5D-74CD-4E81-90F9-3C8E0C26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089-AB59-49CE-B005-E1C920D1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B105-87D7-446D-A4B1-E1850F2C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74C5-A148-4702-BC6D-6A6BF8BA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9C2C-C16D-4C3D-87CA-F210CEBF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09D9-1A0B-40C2-9550-A2B0BB4B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7526-C175-4BE3-8DAD-8711285B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91C1-E45C-4EA6-ABF4-68F9AD99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C79-48D2-4229-A310-3360D7A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392-FDD5-48F6-B47C-3DDA0BE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4948-E75A-433A-AEEC-F382E4E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8593-184C-48A4-841B-43F9842A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E061-36D4-4F5F-9C61-58FBE882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E3D5-DC2A-47DE-90C7-66A74959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0BC5-5475-4862-864E-5ACC1EAE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023-F9EA-485B-BC84-2344CAE8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7B7-7133-423E-B03B-0C149B6E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F47-4528-422A-AD65-CE973416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DFF-FD5D-4C2B-BA01-E816A8EA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4A7-4F68-45E7-9063-7AAB5FE8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CD1-44D4-49F0-A05F-775BFE9D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5C59-D1A5-4B06-AF66-7EAFB65E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3162-B682-4311-A184-34CFD6C572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9277-5861-431E-94CF-AE5BD0D955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40464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ОБЩЕОБРАЗОВАТЕЛЬНАЯ ШКОЛА /№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55640" y="1557360"/>
            <a:ext cx="69850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став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сональн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4005360"/>
            <a:ext cx="3240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: Файзуллин Ф. 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еника 8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ерил: Петухова И.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595008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рг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003280" y="1773360"/>
            <a:ext cx="41403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Монито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кропроцесс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еративная памя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91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есткий дис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               устройства П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нипулятор «мышь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вуковые колон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де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115920"/>
            <a:ext cx="73454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став персонального компьюте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4608720" cy="273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300"/>
                            </p:stCondLst>
                            <p:childTnLst>
                              <p:par>
                                <p:cTn id="5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350"/>
                            </p:stCondLst>
                            <p:childTnLst>
                              <p:par>
                                <p:cTn id="6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8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98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6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9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1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465300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03160"/>
                <a:tab algn="l" pos="1349280"/>
                <a:tab algn="l" pos="1617840"/>
                <a:tab algn="l" pos="1795320"/>
                <a:tab algn="l" pos="2063880"/>
                <a:tab algn="l" pos="2330280"/>
                <a:tab algn="l" pos="2776680"/>
                <a:tab algn="l" pos="3044880"/>
                <a:tab algn="l" pos="3322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итор служит для общения компьютера с пользователем. На нем компьютер отображает текст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сунки. Изображение на мониторе состоит из отдельных маленьких точек, называемых пикселя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21462600">
            <a:off x="1692000" y="404640"/>
            <a:ext cx="4895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нито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39610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476360" y="5157360"/>
            <a:ext cx="5446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авиатура предназначена для в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формации в память компьют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979640" y="333360"/>
            <a:ext cx="43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виату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920000" cy="3249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712360" y="642636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кропроцессор – микросхема, выполняющая обработку всей информации в компьютере. Микропроцессор – «мозг» компьюте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63640" y="115920"/>
            <a:ext cx="5327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97400" cy="35542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Жесткий диск встроен внутрь системного блока и постоянно находится там. Жесткий диск представляет собой набор металлических или керамических дисков, покрытых магнитным сло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00000" y="404640"/>
            <a:ext cx="6121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есткий дис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274920" cy="4740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ативная память предназначена для хранения программ и данных, которые используются процессором в текущий момент. Содержимое оперативной памяти пропадает после выключения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 rot="358800">
            <a:off x="1044720" y="17640"/>
            <a:ext cx="662760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перативная памя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27640" y="2708280"/>
            <a:ext cx="4500360" cy="1863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15169" y="3837"/>
                </a:moveTo>
                <a:lnTo>
                  <a:pt x="17745" y="6448"/>
                </a:ln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lnTo>
                  <a:pt x="22132" y="10800"/>
                </a:lnTo>
                <a:lnTo>
                  <a:pt x="20478" y="10800"/>
                </a:lnTo>
                <a:lnTo>
                  <a:pt x="20478" y="17989"/>
                </a:lnTo>
                <a:lnTo>
                  <a:pt x="9860" y="17989"/>
                </a:lnTo>
                <a:lnTo>
                  <a:pt x="9860" y="10800"/>
                </a:lnTo>
                <a:lnTo>
                  <a:pt x="8206" y="10800"/>
                </a:lnTo>
                <a:close/>
              </a:path>
              <a:path fill="darkenLess" w="30338" h="21600">
                <a:moveTo>
                  <a:pt x="17745" y="6448"/>
                </a:moveTo>
                <a:lnTo>
                  <a:pt x="17745" y="4707"/>
                </a:lnTo>
                <a:lnTo>
                  <a:pt x="19521" y="4707"/>
                </a:lnTo>
                <a:lnTo>
                  <a:pt x="19521" y="8224"/>
                </a:lnTo>
                <a:close/>
              </a:path>
              <a:path fill="darkenLess" w="30338" h="21600">
                <a:moveTo>
                  <a:pt x="14246" y="14299"/>
                </a:moveTo>
                <a:lnTo>
                  <a:pt x="16092" y="14299"/>
                </a:lnTo>
                <a:lnTo>
                  <a:pt x="16092" y="17989"/>
                </a:lnTo>
                <a:lnTo>
                  <a:pt x="20478" y="17989"/>
                </a:lnTo>
                <a:lnTo>
                  <a:pt x="20478" y="10800"/>
                </a:lnTo>
                <a:lnTo>
                  <a:pt x="9860" y="10800"/>
                </a:lnTo>
                <a:lnTo>
                  <a:pt x="9860" y="17989"/>
                </a:lnTo>
                <a:lnTo>
                  <a:pt x="14246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19:21:38Z</dcterms:created>
  <dc:creator>comp28-11</dc:creator>
  <dc:description/>
  <dc:language>en-US</dc:language>
  <cp:lastModifiedBy>comp28-11</cp:lastModifiedBy>
  <dcterms:modified xsi:type="dcterms:W3CDTF">2006-12-31T19:38:01Z</dcterms:modified>
  <cp:revision>5</cp:revision>
  <dc:subject/>
  <dc:title>Слайд 1</dc:title>
</cp:coreProperties>
</file>