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8D8F-2019-4768-8D7B-D58BF488D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9D12-5609-4B32-AB0E-C543CD5E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3140-126C-48C7-AF0B-0CBDE73AB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1C09-AFDE-4593-A98E-8641EAF30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7098-BA6F-4548-8006-D3EBC5B43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A2FD-7A64-4A78-BD02-FB5E28FD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9600-A6A8-4B7D-AB1A-3C0BE4FA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236F-5B47-4791-8F9F-6529D730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53D9-7D3F-472E-A331-2DBCB02D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7460-E312-4EC2-8AF6-AD31B3C8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2D1A-227D-4180-AD0D-605C7AAA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83D6-0D49-4F01-98A8-47BA6959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A72A-0EF3-4B02-B641-94F48EA6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FBDB-82CC-46A6-8D29-E57F1B3F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20D2-7D06-495C-B2E3-9B4E2717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2854-62A7-4889-9BEA-1D817F896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4823-8276-4302-9A8E-90CA50D40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5BBB-9181-4D5B-838C-5DC33099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934A-2E5F-42AA-9968-06F325B0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5603-820B-4BE9-A0FC-E78CD2B6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0C49-44FE-44B9-B369-AB1C30A3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8E1B-37D1-44C5-B80C-4DFE1C9B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07C4-F627-4478-BDB2-F92D76A6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9192-7FC9-4BC2-A5E7-6AEB1FE0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82A8-8FFE-426B-B9F8-9A36E89F58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BE2D-EA37-4BFD-87B8-0620787C91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24000" y="40464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НИЦИПАЛЬНОЕ ОБРАЗОВАТЕЛЬНОЕ УЧРЕ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НЯЯ ОБЩЕОБРАЗОВАТЕЛЬНАЯ ШКОЛА /№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755640" y="1557360"/>
            <a:ext cx="698508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став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сональног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мпьютер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80000" y="4005360"/>
            <a:ext cx="3240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ил: Файзуллин Ф. 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еника 8 «Г»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верил: Петухова И. 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 информа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19640" y="5950080"/>
            <a:ext cx="100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ургу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003280" y="1773360"/>
            <a:ext cx="4140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 устройства П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Монито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Клавиату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истемный бло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919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5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икропроцессо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919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5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перативная памя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919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5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Жесткий дис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полнительные                устройства П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анипулятор «мышь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вуковые колон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нте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оде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55640" y="115920"/>
            <a:ext cx="734544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став персонального компьютер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79280" y="2276640"/>
            <a:ext cx="4608720" cy="27302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300"/>
                            </p:stCondLst>
                            <p:childTnLst>
                              <p:par>
                                <p:cTn id="5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250"/>
                            </p:stCondLst>
                            <p:childTnLst>
                              <p:par>
                                <p:cTn id="6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350"/>
                            </p:stCondLst>
                            <p:childTnLst>
                              <p:par>
                                <p:cTn id="67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800"/>
                            </p:stCondLst>
                            <p:childTnLst>
                              <p:par>
                                <p:cTn id="7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9800"/>
                            </p:stCondLst>
                            <p:childTnLst>
                              <p:par>
                                <p:cTn id="8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1600"/>
                            </p:stCondLst>
                            <p:childTnLst>
                              <p:par>
                                <p:cTn id="9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2900"/>
                            </p:stCondLst>
                            <p:childTnLst>
                              <p:par>
                                <p:cTn id="97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4100"/>
                            </p:stCondLst>
                            <p:childTnLst>
                              <p:par>
                                <p:cTn id="103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900"/>
                            </p:stCondLst>
                            <p:childTnLst>
                              <p:par>
                                <p:cTn id="10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23640" y="4653000"/>
            <a:ext cx="8497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 algn="just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03160"/>
                <a:tab algn="l" pos="1349280"/>
                <a:tab algn="l" pos="1617840"/>
                <a:tab algn="l" pos="1795320"/>
                <a:tab algn="l" pos="2063880"/>
                <a:tab algn="l" pos="2330280"/>
                <a:tab algn="l" pos="2776680"/>
                <a:tab algn="l" pos="304488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нитор служит для общения компьютера с пользователем. На нем компьютер отображает текст 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исунки. Изображение на мониторе состоит из отдельных маленьких точек, называемых пикселя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 rot="21462600">
            <a:off x="1692000" y="404640"/>
            <a:ext cx="489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нитор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2499" y="3837"/>
                </a:moveTo>
                <a:lnTo>
                  <a:pt x="15075" y="6448"/>
                </a:ln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lnTo>
                  <a:pt x="19462" y="10800"/>
                </a:lnTo>
                <a:lnTo>
                  <a:pt x="17808" y="10800"/>
                </a:lnTo>
                <a:lnTo>
                  <a:pt x="17808" y="17989"/>
                </a:lnTo>
                <a:lnTo>
                  <a:pt x="7190" y="17989"/>
                </a:lnTo>
                <a:lnTo>
                  <a:pt x="7190" y="10800"/>
                </a:lnTo>
                <a:lnTo>
                  <a:pt x="5536" y="10800"/>
                </a:lnTo>
                <a:close/>
              </a:path>
              <a:path fill="darkenLess" w="24998" h="21600">
                <a:moveTo>
                  <a:pt x="15075" y="6448"/>
                </a:move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close/>
              </a:path>
              <a:path fill="darkenLess" w="24998" h="21600">
                <a:moveTo>
                  <a:pt x="11577" y="14299"/>
                </a:moveTo>
                <a:lnTo>
                  <a:pt x="13422" y="14299"/>
                </a:lnTo>
                <a:lnTo>
                  <a:pt x="13422" y="17989"/>
                </a:lnTo>
                <a:lnTo>
                  <a:pt x="17808" y="17989"/>
                </a:lnTo>
                <a:lnTo>
                  <a:pt x="17808" y="10800"/>
                </a:lnTo>
                <a:lnTo>
                  <a:pt x="7190" y="10800"/>
                </a:lnTo>
                <a:lnTo>
                  <a:pt x="7190" y="17989"/>
                </a:lnTo>
                <a:lnTo>
                  <a:pt x="115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2268360" y="1557360"/>
            <a:ext cx="3961080" cy="2990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476360" y="5157360"/>
            <a:ext cx="5446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лавиатура предназначена для вво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нформации в память компьюте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979640" y="333360"/>
            <a:ext cx="439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0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лавиату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7920000" cy="32493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8712360" y="6426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икропроцессор – микросхема, выполняющая обработку всей информации в компьютере. Микропроцессор – «мозг» компьюте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63640" y="115920"/>
            <a:ext cx="5327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икропроцессо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397400" cy="35542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2499" y="3837"/>
                </a:moveTo>
                <a:lnTo>
                  <a:pt x="15075" y="6448"/>
                </a:ln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lnTo>
                  <a:pt x="19462" y="10800"/>
                </a:lnTo>
                <a:lnTo>
                  <a:pt x="17808" y="10800"/>
                </a:lnTo>
                <a:lnTo>
                  <a:pt x="17808" y="17989"/>
                </a:lnTo>
                <a:lnTo>
                  <a:pt x="7190" y="17989"/>
                </a:lnTo>
                <a:lnTo>
                  <a:pt x="7190" y="10800"/>
                </a:lnTo>
                <a:lnTo>
                  <a:pt x="5536" y="10800"/>
                </a:lnTo>
                <a:close/>
              </a:path>
              <a:path fill="darkenLess" w="24998" h="21600">
                <a:moveTo>
                  <a:pt x="15075" y="6448"/>
                </a:move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close/>
              </a:path>
              <a:path fill="darkenLess" w="24998" h="21600">
                <a:moveTo>
                  <a:pt x="11577" y="14299"/>
                </a:moveTo>
                <a:lnTo>
                  <a:pt x="13422" y="14299"/>
                </a:lnTo>
                <a:lnTo>
                  <a:pt x="13422" y="17989"/>
                </a:lnTo>
                <a:lnTo>
                  <a:pt x="17808" y="17989"/>
                </a:lnTo>
                <a:lnTo>
                  <a:pt x="17808" y="10800"/>
                </a:lnTo>
                <a:lnTo>
                  <a:pt x="7190" y="10800"/>
                </a:lnTo>
                <a:lnTo>
                  <a:pt x="7190" y="17989"/>
                </a:lnTo>
                <a:lnTo>
                  <a:pt x="115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71600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есткий диск встроен внутрь системного блока и постоянно находится там. Жесткий диск представляет собой набор металлических или керамических дисков, покрытых магнитным сло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900000" y="404640"/>
            <a:ext cx="6121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Жесткий диск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274920" cy="47404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8675640" y="6524640"/>
            <a:ext cx="468360" cy="333360"/>
          </a:xfrm>
          <a:custGeom>
            <a:avLst/>
            <a:gdLst>
              <a:gd name="textAreaLeft" fmla="*/ 21600 w 468360"/>
              <a:gd name="textAreaRight" fmla="*/ 446760 w 46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338" h="21600">
                <a:moveTo>
                  <a:pt x="0" y="0"/>
                </a:moveTo>
                <a:lnTo>
                  <a:pt x="30338" y="0"/>
                </a:lnTo>
                <a:lnTo>
                  <a:pt x="30338" y="21600"/>
                </a:lnTo>
                <a:lnTo>
                  <a:pt x="0" y="21600"/>
                </a:lnTo>
                <a:close/>
              </a:path>
              <a:path fill="lightenLess" w="30338" h="21600">
                <a:moveTo>
                  <a:pt x="0" y="0"/>
                </a:moveTo>
                <a:lnTo>
                  <a:pt x="30338" y="0"/>
                </a:lnTo>
                <a:lnTo>
                  <a:pt x="28938" y="1400"/>
                </a:lnTo>
                <a:lnTo>
                  <a:pt x="1400" y="1400"/>
                </a:lnTo>
                <a:close/>
              </a:path>
              <a:path fill="darken" w="30338" h="21600">
                <a:moveTo>
                  <a:pt x="30338" y="0"/>
                </a:moveTo>
                <a:lnTo>
                  <a:pt x="30338" y="21600"/>
                </a:lnTo>
                <a:lnTo>
                  <a:pt x="28938" y="20200"/>
                </a:lnTo>
                <a:lnTo>
                  <a:pt x="28938" y="1400"/>
                </a:lnTo>
                <a:close/>
              </a:path>
              <a:path fill="darkenLess" w="30338" h="21600">
                <a:moveTo>
                  <a:pt x="3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8" y="20200"/>
                </a:lnTo>
                <a:close/>
              </a:path>
              <a:path fill="lighten" w="3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38" h="21600">
                <a:moveTo>
                  <a:pt x="15169" y="3837"/>
                </a:moveTo>
                <a:lnTo>
                  <a:pt x="17745" y="6448"/>
                </a:lnTo>
                <a:lnTo>
                  <a:pt x="17745" y="4707"/>
                </a:lnTo>
                <a:lnTo>
                  <a:pt x="19521" y="4707"/>
                </a:lnTo>
                <a:lnTo>
                  <a:pt x="19521" y="8224"/>
                </a:lnTo>
                <a:lnTo>
                  <a:pt x="22132" y="10800"/>
                </a:lnTo>
                <a:lnTo>
                  <a:pt x="20478" y="10800"/>
                </a:lnTo>
                <a:lnTo>
                  <a:pt x="20478" y="17989"/>
                </a:lnTo>
                <a:lnTo>
                  <a:pt x="9860" y="17989"/>
                </a:lnTo>
                <a:lnTo>
                  <a:pt x="9860" y="10800"/>
                </a:lnTo>
                <a:lnTo>
                  <a:pt x="8206" y="10800"/>
                </a:lnTo>
                <a:close/>
              </a:path>
              <a:path fill="darkenLess" w="30338" h="21600">
                <a:moveTo>
                  <a:pt x="17745" y="6448"/>
                </a:moveTo>
                <a:lnTo>
                  <a:pt x="17745" y="4707"/>
                </a:lnTo>
                <a:lnTo>
                  <a:pt x="19521" y="4707"/>
                </a:lnTo>
                <a:lnTo>
                  <a:pt x="19521" y="8224"/>
                </a:lnTo>
                <a:close/>
              </a:path>
              <a:path fill="darkenLess" w="30338" h="21600">
                <a:moveTo>
                  <a:pt x="14246" y="14299"/>
                </a:moveTo>
                <a:lnTo>
                  <a:pt x="16092" y="14299"/>
                </a:lnTo>
                <a:lnTo>
                  <a:pt x="16092" y="17989"/>
                </a:lnTo>
                <a:lnTo>
                  <a:pt x="20478" y="17989"/>
                </a:lnTo>
                <a:lnTo>
                  <a:pt x="20478" y="10800"/>
                </a:lnTo>
                <a:lnTo>
                  <a:pt x="9860" y="10800"/>
                </a:lnTo>
                <a:lnTo>
                  <a:pt x="9860" y="17989"/>
                </a:lnTo>
                <a:lnTo>
                  <a:pt x="14246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перативная память предназначена для хранения программ и данных, которые используются процессором в текущий момент. Содержимое оперативной памяти пропадает после выключения пит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 rot="358800">
            <a:off x="1044720" y="17640"/>
            <a:ext cx="6627600" cy="181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перативная памя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427640" y="2708280"/>
            <a:ext cx="4500360" cy="18637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8675640" y="6524640"/>
            <a:ext cx="468360" cy="333360"/>
          </a:xfrm>
          <a:custGeom>
            <a:avLst/>
            <a:gdLst>
              <a:gd name="textAreaLeft" fmla="*/ 21600 w 468360"/>
              <a:gd name="textAreaRight" fmla="*/ 446760 w 46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338" h="21600">
                <a:moveTo>
                  <a:pt x="0" y="0"/>
                </a:moveTo>
                <a:lnTo>
                  <a:pt x="30338" y="0"/>
                </a:lnTo>
                <a:lnTo>
                  <a:pt x="30338" y="21600"/>
                </a:lnTo>
                <a:lnTo>
                  <a:pt x="0" y="21600"/>
                </a:lnTo>
                <a:close/>
              </a:path>
              <a:path fill="lightenLess" w="30338" h="21600">
                <a:moveTo>
                  <a:pt x="0" y="0"/>
                </a:moveTo>
                <a:lnTo>
                  <a:pt x="30338" y="0"/>
                </a:lnTo>
                <a:lnTo>
                  <a:pt x="28938" y="1400"/>
                </a:lnTo>
                <a:lnTo>
                  <a:pt x="1400" y="1400"/>
                </a:lnTo>
                <a:close/>
              </a:path>
              <a:path fill="darken" w="30338" h="21600">
                <a:moveTo>
                  <a:pt x="30338" y="0"/>
                </a:moveTo>
                <a:lnTo>
                  <a:pt x="30338" y="21600"/>
                </a:lnTo>
                <a:lnTo>
                  <a:pt x="28938" y="20200"/>
                </a:lnTo>
                <a:lnTo>
                  <a:pt x="28938" y="1400"/>
                </a:lnTo>
                <a:close/>
              </a:path>
              <a:path fill="darkenLess" w="30338" h="21600">
                <a:moveTo>
                  <a:pt x="3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8" y="20200"/>
                </a:lnTo>
                <a:close/>
              </a:path>
              <a:path fill="lighten" w="3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38" h="21600">
                <a:moveTo>
                  <a:pt x="15169" y="3837"/>
                </a:moveTo>
                <a:lnTo>
                  <a:pt x="17745" y="6448"/>
                </a:lnTo>
                <a:lnTo>
                  <a:pt x="17745" y="4707"/>
                </a:lnTo>
                <a:lnTo>
                  <a:pt x="19521" y="4707"/>
                </a:lnTo>
                <a:lnTo>
                  <a:pt x="19521" y="8224"/>
                </a:lnTo>
                <a:lnTo>
                  <a:pt x="22132" y="10800"/>
                </a:lnTo>
                <a:lnTo>
                  <a:pt x="20478" y="10800"/>
                </a:lnTo>
                <a:lnTo>
                  <a:pt x="20478" y="17989"/>
                </a:lnTo>
                <a:lnTo>
                  <a:pt x="9860" y="17989"/>
                </a:lnTo>
                <a:lnTo>
                  <a:pt x="9860" y="10800"/>
                </a:lnTo>
                <a:lnTo>
                  <a:pt x="8206" y="10800"/>
                </a:lnTo>
                <a:close/>
              </a:path>
              <a:path fill="darkenLess" w="30338" h="21600">
                <a:moveTo>
                  <a:pt x="17745" y="6448"/>
                </a:moveTo>
                <a:lnTo>
                  <a:pt x="17745" y="4707"/>
                </a:lnTo>
                <a:lnTo>
                  <a:pt x="19521" y="4707"/>
                </a:lnTo>
                <a:lnTo>
                  <a:pt x="19521" y="8224"/>
                </a:lnTo>
                <a:close/>
              </a:path>
              <a:path fill="darkenLess" w="30338" h="21600">
                <a:moveTo>
                  <a:pt x="14246" y="14299"/>
                </a:moveTo>
                <a:lnTo>
                  <a:pt x="16092" y="14299"/>
                </a:lnTo>
                <a:lnTo>
                  <a:pt x="16092" y="17989"/>
                </a:lnTo>
                <a:lnTo>
                  <a:pt x="20478" y="17989"/>
                </a:lnTo>
                <a:lnTo>
                  <a:pt x="20478" y="10800"/>
                </a:lnTo>
                <a:lnTo>
                  <a:pt x="9860" y="10800"/>
                </a:lnTo>
                <a:lnTo>
                  <a:pt x="9860" y="17989"/>
                </a:lnTo>
                <a:lnTo>
                  <a:pt x="14246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19:21:38Z</dcterms:created>
  <dc:creator>comp28-11</dc:creator>
  <dc:description/>
  <dc:language>en-US</dc:language>
  <cp:lastModifiedBy>comp28-11</cp:lastModifiedBy>
  <dcterms:modified xsi:type="dcterms:W3CDTF">2006-12-31T19:38:01Z</dcterms:modified>
  <cp:revision>5</cp:revision>
  <dc:subject/>
  <dc:title>Слайд 1</dc:title>
</cp:coreProperties>
</file>