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79B3-13CE-4818-8266-5A021A8F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839-EEA4-4130-8E62-AD855091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EE8-F96E-442F-A849-10F6A167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899-305F-4C40-85C8-E25B92C7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981-FC9A-4ED9-BFC3-098DA55D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157-5191-4974-BC2B-0857EF9E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752-5180-420A-8651-D6BC12D7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DE3-28FC-4C45-B0F2-0C9BC3B8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AB5-F10F-408A-8B51-569444F5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8FA-9995-43A9-979C-DC0A4238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B1C-E8CF-4254-977E-3024DE6D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87C-03F2-4D0A-B2E9-8199C1C5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2790-5BBD-4FF7-879B-A2A914674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182400">
            <a:off x="529920" y="581040"/>
            <a:ext cx="77770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</a:t>
            </a:r>
            <a:endParaRPr b="0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95280" y="2133720"/>
            <a:ext cx="8424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Математик -</a:t>
            </a:r>
            <a:endParaRPr b="1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изнесмен"</a:t>
            </a:r>
            <a:endParaRPr b="1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419640" y="5084640"/>
            <a:ext cx="5184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ОУ «Волго-Каспийская СОШ» Камызякского района Астраханской об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итель математики Фролова С. 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1258920" y="333360"/>
            <a:ext cx="6553080" cy="6093000"/>
          </a:xfrm>
          <a:custGeom>
            <a:avLst/>
            <a:gdLst>
              <a:gd name="textAreaLeft" fmla="*/ 1495800 w 6553080"/>
              <a:gd name="textAreaRight" fmla="*/ 5057280 w 6553080"/>
              <a:gd name="textAreaTop" fmla="*/ 1390680 h 6093000"/>
              <a:gd name="textAreaBottom" fmla="*/ 4702320 h 609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7fea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27280" y="2060640"/>
            <a:ext cx="37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называется отношени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>
            <a:hlinkClick r:id="rId1" action="ppaction://hlinksldjump"/>
          </p:cNvPr>
          <p:cNvSpPr/>
          <p:nvPr/>
        </p:nvSpPr>
        <p:spPr>
          <a:xfrm>
            <a:off x="7740720" y="602136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10800"/>
                </a:moveTo>
                <a:lnTo>
                  <a:pt x="24974" y="3794"/>
                </a:lnTo>
                <a:lnTo>
                  <a:pt x="249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1258920" y="333360"/>
            <a:ext cx="6553080" cy="6093000"/>
          </a:xfrm>
          <a:custGeom>
            <a:avLst/>
            <a:gdLst>
              <a:gd name="textAreaLeft" fmla="*/ 1495800 w 6553080"/>
              <a:gd name="textAreaRight" fmla="*/ 5057280 w 6553080"/>
              <a:gd name="textAreaTop" fmla="*/ 1390680 h 6093000"/>
              <a:gd name="textAreaBottom" fmla="*/ 4702320 h 609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7fea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627280" y="2060640"/>
            <a:ext cx="37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показывает отнош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258920" y="333360"/>
            <a:ext cx="6553080" cy="6093000"/>
          </a:xfrm>
          <a:custGeom>
            <a:avLst/>
            <a:gdLst>
              <a:gd name="textAreaLeft" fmla="*/ 1495800 w 6553080"/>
              <a:gd name="textAreaRight" fmla="*/ 5057280 w 6553080"/>
              <a:gd name="textAreaTop" fmla="*/ 1390680 h 6093000"/>
              <a:gd name="textAreaBottom" fmla="*/ 4702320 h 609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7fea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627280" y="2060640"/>
            <a:ext cx="37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называется пропорци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>
            <a:hlinkClick r:id="rId1" action="ppaction://hlinksldjump"/>
          </p:cNvPr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1258920" y="333360"/>
            <a:ext cx="6553080" cy="6093000"/>
          </a:xfrm>
          <a:custGeom>
            <a:avLst/>
            <a:gdLst>
              <a:gd name="textAreaLeft" fmla="*/ 1495800 w 6553080"/>
              <a:gd name="textAreaRight" fmla="*/ 5057280 w 6553080"/>
              <a:gd name="textAreaTop" fmla="*/ 1390680 h 6093000"/>
              <a:gd name="textAreaBottom" fmla="*/ 4702320 h 609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7fea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627280" y="1844640"/>
            <a:ext cx="3745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формулиро-вать основное свойство пропор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1258920" y="333360"/>
            <a:ext cx="6553080" cy="6093000"/>
          </a:xfrm>
          <a:custGeom>
            <a:avLst/>
            <a:gdLst>
              <a:gd name="textAreaLeft" fmla="*/ 1495800 w 6553080"/>
              <a:gd name="textAreaRight" fmla="*/ 5057280 w 6553080"/>
              <a:gd name="textAreaTop" fmla="*/ 1390680 h 6093000"/>
              <a:gd name="textAreaBottom" fmla="*/ 4702320 h 609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7fea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556000" y="1557360"/>
            <a:ext cx="374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ая зависимость между величинами называется прям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rId1" action="ppaction://hlinksldjump"/>
          </p:cNvPr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258920" y="333360"/>
            <a:ext cx="6553080" cy="6093000"/>
          </a:xfrm>
          <a:custGeom>
            <a:avLst/>
            <a:gdLst>
              <a:gd name="textAreaLeft" fmla="*/ 1495800 w 6553080"/>
              <a:gd name="textAreaRight" fmla="*/ 5057280 w 6553080"/>
              <a:gd name="textAreaTop" fmla="*/ 1390680 h 6093000"/>
              <a:gd name="textAreaBottom" fmla="*/ 4702320 h 609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7fea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556000" y="1557360"/>
            <a:ext cx="374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ая зависимость между величинами называется обрат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1258920" y="333360"/>
            <a:ext cx="6553080" cy="6093000"/>
          </a:xfrm>
          <a:custGeom>
            <a:avLst/>
            <a:gdLst>
              <a:gd name="textAreaLeft" fmla="*/ 1495800 w 6553080"/>
              <a:gd name="textAreaRight" fmla="*/ 5057280 w 6553080"/>
              <a:gd name="textAreaTop" fmla="*/ 1390680 h 6093000"/>
              <a:gd name="textAreaBottom" fmla="*/ 4702320 h 609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7fea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556000" y="1557360"/>
            <a:ext cx="3744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56000" y="2060640"/>
            <a:ext cx="374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называется масштаб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4932360" y="105264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 : 1,2 = 2: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3640" y="1916280"/>
            <a:ext cx="3240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х =1,2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х = 2,4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= 2,4 : 3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= 0,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: 0,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d04970_"/>
          <p:cNvPicPr/>
          <p:nvPr/>
        </p:nvPicPr>
        <p:blipFill>
          <a:blip r:embed="rId1"/>
          <a:stretch/>
        </p:blipFill>
        <p:spPr>
          <a:xfrm>
            <a:off x="250920" y="1268280"/>
            <a:ext cx="4572000" cy="33242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7"/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4815000" y="311040"/>
                <a:ext cx="354636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3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Text Box 6"/>
          <p:cNvSpPr/>
          <p:nvPr/>
        </p:nvSpPr>
        <p:spPr>
          <a:xfrm>
            <a:off x="4716360" y="1844640"/>
            <a:ext cx="395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716360" y="1844640"/>
            <a:ext cx="3529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х = 6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• 3,5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7х = 21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Х = 21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7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Х =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твет: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bd07205_"/>
          <p:cNvPicPr/>
          <p:nvPr/>
        </p:nvPicPr>
        <p:blipFill>
          <a:blip r:embed="rId1"/>
          <a:stretch/>
        </p:blipFill>
        <p:spPr>
          <a:xfrm>
            <a:off x="468360" y="1909800"/>
            <a:ext cx="4103640" cy="3402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9"/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4716360" y="476280"/>
            <a:ext cx="395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2627280" y="549360"/>
            <a:ext cx="504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5"/>
              <p:cNvSpPr txBox="1"/>
              <p:nvPr/>
            </p:nvSpPr>
            <p:spPr>
              <a:xfrm>
                <a:off x="4932360" y="404640"/>
                <a:ext cx="12636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2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4"/>
              <p:cNvSpPr txBox="1"/>
              <p:nvPr/>
            </p:nvSpPr>
            <p:spPr>
              <a:xfrm>
                <a:off x="6300720" y="549360"/>
                <a:ext cx="10605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4716360" y="1844640"/>
            <a:ext cx="4103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х =0,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0,10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,7х = 0,02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= 0,02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0,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= 0,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0,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" descr="bd07210_"/>
          <p:cNvPicPr/>
          <p:nvPr/>
        </p:nvPicPr>
        <p:blipFill>
          <a:blip r:embed="rId1"/>
          <a:stretch/>
        </p:blipFill>
        <p:spPr>
          <a:xfrm>
            <a:off x="0" y="2781360"/>
            <a:ext cx="4691160" cy="32796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0"/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611280" y="836640"/>
            <a:ext cx="19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ель: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203640" y="692280"/>
            <a:ext cx="5400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бщение и систематизация знаний учащихся по теме «Пропор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накомление учащихся с историческим матери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навыков учащихся применения знаний математики в жизнен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4572000" y="1341360"/>
            <a:ext cx="381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1,7х = 14,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,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1,7х = 90,09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= 7,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7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500720" y="476280"/>
            <a:ext cx="388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,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6,3 = 14,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ed00316_"/>
          <p:cNvPicPr/>
          <p:nvPr/>
        </p:nvPicPr>
        <p:blipFill>
          <a:blip r:embed="rId1"/>
          <a:stretch/>
        </p:blipFill>
        <p:spPr>
          <a:xfrm>
            <a:off x="395280" y="3213000"/>
            <a:ext cx="4103640" cy="31813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7"/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9640" y="47628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 человека за 6 дней пропололи участок клубники. За сколько дней выполнят ту же работу 36 человек, если будут работать с той же производительност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DSC01559"/>
          <p:cNvPicPr/>
          <p:nvPr/>
        </p:nvPicPr>
        <p:blipFill>
          <a:blip r:embed="rId1"/>
          <a:stretch/>
        </p:blipFill>
        <p:spPr>
          <a:xfrm>
            <a:off x="1835280" y="2421000"/>
            <a:ext cx="5581440" cy="370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187280" y="40464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-во рабо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64000" y="404640"/>
            <a:ext cx="288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-во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1042920" y="105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5292720" y="105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239840" y="2851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1332000" y="2060640"/>
                <a:ext cx="15112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1042920" y="3284640"/>
                <a:ext cx="20163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13"/>
          <p:cNvSpPr/>
          <p:nvPr/>
        </p:nvSpPr>
        <p:spPr>
          <a:xfrm>
            <a:off x="1116000" y="4508640"/>
            <a:ext cx="676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ак, за 4 дня прополют участок 36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4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684360" y="620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тояние на карте между посёлком Волго-Каспийский и Астраханью 5 см. Чему равно это расстояние в действительности, если масштаб карты 1 : 48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Копия (4) Карта200-3 экспорт"/>
          <p:cNvPicPr/>
          <p:nvPr/>
        </p:nvPicPr>
        <p:blipFill>
          <a:blip r:embed="rId1"/>
          <a:stretch/>
        </p:blipFill>
        <p:spPr>
          <a:xfrm>
            <a:off x="1908000" y="2357280"/>
            <a:ext cx="5472360" cy="41799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11280" y="333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FuturaOrtoRg"/>
              </a:rPr>
              <a:t>На карте        На мес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62120" y="16002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900000" y="105264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см                        :               480000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187280" y="17002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 см                       :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Карта Астраханской области"/>
          <p:cNvPicPr/>
          <p:nvPr/>
        </p:nvPicPr>
        <p:blipFill>
          <a:blip r:embed="rId1"/>
          <a:stretch/>
        </p:blipFill>
        <p:spPr>
          <a:xfrm>
            <a:off x="4572000" y="2708280"/>
            <a:ext cx="4248000" cy="2844720"/>
          </a:xfrm>
          <a:prstGeom prst="rect">
            <a:avLst/>
          </a:prstGeom>
          <a:ln w="0">
            <a:noFill/>
          </a:ln>
        </p:spPr>
      </p:pic>
      <p:sp>
        <p:nvSpPr>
          <p:cNvPr id="159" name="Line 12"/>
          <p:cNvSpPr/>
          <p:nvPr/>
        </p:nvSpPr>
        <p:spPr>
          <a:xfrm flipV="1">
            <a:off x="118728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V="1">
            <a:off x="5435640" y="126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468360" y="2565360"/>
            <a:ext cx="35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5"/>
              <p:cNvSpPr txBox="1"/>
              <p:nvPr/>
            </p:nvSpPr>
            <p:spPr>
              <a:xfrm>
                <a:off x="971640" y="2421000"/>
                <a:ext cx="223200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Text Box 17"/>
          <p:cNvSpPr/>
          <p:nvPr/>
        </p:nvSpPr>
        <p:spPr>
          <a:xfrm>
            <a:off x="900000" y="3645000"/>
            <a:ext cx="3743280" cy="27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 = 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4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 = 2400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так, 24 км расстояние от п. Волго – Каспийский до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вет: 24 килом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755640" y="0"/>
            <a:ext cx="7488360" cy="19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Длина ночной сорочки на выкройке 75см. Какова длина её на чертеже, если он выполнен в масштабе 1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419720" y="457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msotw9_temp0"/>
          <p:cNvPicPr/>
          <p:nvPr/>
        </p:nvPicPr>
        <p:blipFill>
          <a:blip r:embed="rId1">
            <a:lum bright="12000"/>
          </a:blip>
          <a:srcRect l="11767" t="9366" r="54907" b="69751"/>
          <a:stretch/>
        </p:blipFill>
        <p:spPr>
          <a:xfrm>
            <a:off x="1979640" y="2579760"/>
            <a:ext cx="4537080" cy="3870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1042920" y="404640"/>
            <a:ext cx="309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чер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076720" y="404640"/>
            <a:ext cx="31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ыкрой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 flipV="1">
            <a:off x="4932360" y="10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900000" y="98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826920" y="2421000"/>
            <a:ext cx="482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1258920" y="2133720"/>
                <a:ext cx="129528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Text Box 11"/>
          <p:cNvSpPr/>
          <p:nvPr/>
        </p:nvSpPr>
        <p:spPr>
          <a:xfrm>
            <a:off x="1042920" y="3429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=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2"/>
              <p:cNvSpPr txBox="1"/>
              <p:nvPr/>
            </p:nvSpPr>
            <p:spPr>
              <a:xfrm>
                <a:off x="1692360" y="3357720"/>
                <a:ext cx="909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Text Box 14"/>
          <p:cNvSpPr/>
          <p:nvPr/>
        </p:nvSpPr>
        <p:spPr>
          <a:xfrm>
            <a:off x="1116000" y="4365720"/>
            <a:ext cx="4465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ак, 15 см. длина ночной рубашки на черт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1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5" descr="bd07204_"/>
          <p:cNvPicPr/>
          <p:nvPr/>
        </p:nvPicPr>
        <p:blipFill>
          <a:blip r:embed="rId1"/>
          <a:stretch/>
        </p:blipFill>
        <p:spPr>
          <a:xfrm>
            <a:off x="4572000" y="2924280"/>
            <a:ext cx="4191120" cy="27320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6"/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826920" y="333360"/>
            <a:ext cx="73152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Для получения 20,3 г сульфата бария взяли 12,2 г серной кислоты. Сколько сульфата бария получится, если взять 36,6 г серной кисло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j0076135"/>
          <p:cNvPicPr/>
          <p:nvPr/>
        </p:nvPicPr>
        <p:blipFill>
          <a:blip r:embed="rId1"/>
          <a:stretch/>
        </p:blipFill>
        <p:spPr>
          <a:xfrm>
            <a:off x="3059280" y="3213000"/>
            <a:ext cx="4340160" cy="3152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1042920" y="404640"/>
            <a:ext cx="388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ЛЬФАТ Б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,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932360" y="404640"/>
            <a:ext cx="352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,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6,6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 flipV="1">
            <a:off x="6084720" y="98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2195640" y="98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932360" y="2349360"/>
            <a:ext cx="460836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 = 60,9(г.)сульфата бария получ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60,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5796000" y="3357720"/>
                <a:ext cx="20876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4"/>
              <p:cNvSpPr txBox="1"/>
              <p:nvPr/>
            </p:nvSpPr>
            <p:spPr>
              <a:xfrm>
                <a:off x="5435640" y="2060640"/>
                <a:ext cx="230508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3" name="Picture 16" descr="DSC01690"/>
          <p:cNvPicPr/>
          <p:nvPr/>
        </p:nvPicPr>
        <p:blipFill>
          <a:blip r:embed="rId1"/>
          <a:stretch/>
        </p:blipFill>
        <p:spPr>
          <a:xfrm>
            <a:off x="324000" y="3068640"/>
            <a:ext cx="4084560" cy="30639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7"/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7"/>
          <p:cNvSpPr txBox="1"/>
          <p:nvPr/>
        </p:nvSpPr>
        <p:spPr>
          <a:xfrm rot="252600">
            <a:off x="912600" y="4221000"/>
            <a:ext cx="720072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4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</a:t>
            </a:r>
            <a:endParaRPr b="0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4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4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вых</a:t>
            </a:r>
            <a:endParaRPr b="0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4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4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треч!!!</a:t>
            </a:r>
            <a:endParaRPr b="0" lang="en-US" sz="1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4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1979640" y="549360"/>
            <a:ext cx="67705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игры</a:t>
            </a:r>
            <a:endParaRPr b="0" lang="en-US" sz="1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95280" y="1554120"/>
            <a:ext cx="849636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игре участвуют две команды, каждая из которых представляет правление банка. Игроки каждой команды выбирают себе президента ба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зидент имеет право принимать окончательное решение по данному заданию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андам предлагается по очереди выбирать себе задания различной стоимости, в зависимости от слож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ртовый капитал каждой команды – 500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команда даёт правильный ответ, то её капитал увеличивается на стоимость задания. Если ответ неверный, т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питал уменьшается на 100% стоимости задания, если другая команда даёт правильный отв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питал уменьшается на 50% стоимости задания, если другая команда не сможет ответить прави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анда может продать своё задание сопернику или купить его задание по взаимному соглас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обдумывание задания даётся от 1 до 5 минут, в зависимости от слож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а считается оконченной, если одна из команд обанкротилась, или закончились все з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бедителем объявляется тот, в чьём банке будет больше «денег»  по окончанию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BS00979_"/>
          <p:cNvPicPr/>
          <p:nvPr/>
        </p:nvPicPr>
        <p:blipFill>
          <a:blip r:embed="rId3"/>
          <a:stretch/>
        </p:blipFill>
        <p:spPr>
          <a:xfrm>
            <a:off x="250920" y="0"/>
            <a:ext cx="1525320" cy="1628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395280" y="2276640"/>
            <a:ext cx="287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я,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ойства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826920" y="5300640"/>
            <a:ext cx="15526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WordArt 8"/>
          <p:cNvSpPr txBox="1"/>
          <p:nvPr/>
        </p:nvSpPr>
        <p:spPr>
          <a:xfrm>
            <a:off x="755640" y="549360"/>
            <a:ext cx="2303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много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рии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4140360" y="836640"/>
            <a:ext cx="43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0"/>
          <p:cNvSpPr txBox="1"/>
          <p:nvPr/>
        </p:nvSpPr>
        <p:spPr>
          <a:xfrm>
            <a:off x="5148360" y="836640"/>
            <a:ext cx="444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1"/>
          <p:cNvSpPr txBox="1"/>
          <p:nvPr/>
        </p:nvSpPr>
        <p:spPr>
          <a:xfrm>
            <a:off x="6084720" y="83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2"/>
          <p:cNvSpPr txBox="1"/>
          <p:nvPr/>
        </p:nvSpPr>
        <p:spPr>
          <a:xfrm>
            <a:off x="6948360" y="83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13"/>
          <p:cNvSpPr txBox="1"/>
          <p:nvPr/>
        </p:nvSpPr>
        <p:spPr>
          <a:xfrm>
            <a:off x="7956720" y="83664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14"/>
          <p:cNvSpPr txBox="1"/>
          <p:nvPr/>
        </p:nvSpPr>
        <p:spPr>
          <a:xfrm>
            <a:off x="3564000" y="2637000"/>
            <a:ext cx="431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15"/>
          <p:cNvSpPr txBox="1"/>
          <p:nvPr/>
        </p:nvSpPr>
        <p:spPr>
          <a:xfrm>
            <a:off x="4356000" y="2637000"/>
            <a:ext cx="444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16"/>
          <p:cNvSpPr txBox="1"/>
          <p:nvPr/>
        </p:nvSpPr>
        <p:spPr>
          <a:xfrm>
            <a:off x="5076720" y="263700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17"/>
          <p:cNvSpPr txBox="1"/>
          <p:nvPr/>
        </p:nvSpPr>
        <p:spPr>
          <a:xfrm>
            <a:off x="5796000" y="263700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18"/>
          <p:cNvSpPr txBox="1"/>
          <p:nvPr/>
        </p:nvSpPr>
        <p:spPr>
          <a:xfrm>
            <a:off x="6443640" y="263700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9"/>
          <p:cNvSpPr txBox="1"/>
          <p:nvPr/>
        </p:nvSpPr>
        <p:spPr>
          <a:xfrm>
            <a:off x="7164360" y="263700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20"/>
          <p:cNvSpPr txBox="1"/>
          <p:nvPr/>
        </p:nvSpPr>
        <p:spPr>
          <a:xfrm>
            <a:off x="7812000" y="263700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22"/>
          <p:cNvSpPr txBox="1"/>
          <p:nvPr/>
        </p:nvSpPr>
        <p:spPr>
          <a:xfrm>
            <a:off x="611280" y="4221000"/>
            <a:ext cx="23335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авнения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23"/>
          <p:cNvSpPr txBox="1"/>
          <p:nvPr/>
        </p:nvSpPr>
        <p:spPr>
          <a:xfrm>
            <a:off x="3635280" y="422100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WordArt 24"/>
          <p:cNvSpPr txBox="1"/>
          <p:nvPr/>
        </p:nvSpPr>
        <p:spPr>
          <a:xfrm>
            <a:off x="4500720" y="4221000"/>
            <a:ext cx="444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WordArt 25"/>
          <p:cNvSpPr txBox="1"/>
          <p:nvPr/>
        </p:nvSpPr>
        <p:spPr>
          <a:xfrm>
            <a:off x="5435640" y="422100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26"/>
          <p:cNvSpPr txBox="1"/>
          <p:nvPr/>
        </p:nvSpPr>
        <p:spPr>
          <a:xfrm>
            <a:off x="6300720" y="422100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27"/>
          <p:cNvSpPr txBox="1"/>
          <p:nvPr/>
        </p:nvSpPr>
        <p:spPr>
          <a:xfrm>
            <a:off x="3564000" y="544500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28"/>
          <p:cNvSpPr txBox="1"/>
          <p:nvPr/>
        </p:nvSpPr>
        <p:spPr>
          <a:xfrm>
            <a:off x="4572000" y="5445000"/>
            <a:ext cx="444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29"/>
          <p:cNvSpPr txBox="1"/>
          <p:nvPr/>
        </p:nvSpPr>
        <p:spPr>
          <a:xfrm>
            <a:off x="5435640" y="544500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WordArt 30"/>
          <p:cNvSpPr txBox="1"/>
          <p:nvPr/>
        </p:nvSpPr>
        <p:spPr>
          <a:xfrm>
            <a:off x="6372360" y="544500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1116000" y="17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30 ру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971640" y="3716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40 ру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971640" y="486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50 ру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971640" y="6165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60 ру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539640" y="692280"/>
            <a:ext cx="8209080" cy="5732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3f3f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76360" y="1700280"/>
            <a:ext cx="68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Что означает слово «пропорция»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rId1" action="ppaction://hlinksldjump"/>
          </p:cNvPr>
          <p:cNvSpPr/>
          <p:nvPr/>
        </p:nvSpPr>
        <p:spPr>
          <a:xfrm>
            <a:off x="7885080" y="6165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/>
          <p:cNvSpPr/>
          <p:nvPr/>
        </p:nvSpPr>
        <p:spPr>
          <a:xfrm>
            <a:off x="539640" y="692280"/>
            <a:ext cx="8209080" cy="5732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3f3f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476360" y="1628640"/>
            <a:ext cx="698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называли математики древности и средневековья деление отрезка, при котором длина всего отрезка так относится к длине его большей части, как длина большей части к меньш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934920" cy="35892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6229" h="21600">
                <a:moveTo>
                  <a:pt x="0" y="0"/>
                </a:moveTo>
                <a:lnTo>
                  <a:pt x="56229" y="0"/>
                </a:lnTo>
                <a:lnTo>
                  <a:pt x="56229" y="21600"/>
                </a:lnTo>
                <a:lnTo>
                  <a:pt x="0" y="21600"/>
                </a:lnTo>
                <a:close/>
              </a:path>
              <a:path fill="lightenLess" w="56229" h="21600">
                <a:moveTo>
                  <a:pt x="0" y="0"/>
                </a:moveTo>
                <a:lnTo>
                  <a:pt x="56229" y="0"/>
                </a:lnTo>
                <a:lnTo>
                  <a:pt x="54829" y="1400"/>
                </a:lnTo>
                <a:lnTo>
                  <a:pt x="1400" y="1400"/>
                </a:lnTo>
                <a:close/>
              </a:path>
              <a:path fill="darken" w="56229" h="21600">
                <a:moveTo>
                  <a:pt x="56229" y="0"/>
                </a:moveTo>
                <a:lnTo>
                  <a:pt x="56229" y="21600"/>
                </a:lnTo>
                <a:lnTo>
                  <a:pt x="54829" y="20200"/>
                </a:lnTo>
                <a:lnTo>
                  <a:pt x="54829" y="1400"/>
                </a:lnTo>
                <a:close/>
              </a:path>
              <a:path fill="darkenLess" w="56229" h="21600">
                <a:moveTo>
                  <a:pt x="56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829" y="20200"/>
                </a:lnTo>
                <a:close/>
              </a:path>
              <a:path fill="lighten" w="56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229" h="21600">
                <a:moveTo>
                  <a:pt x="21108" y="10800"/>
                </a:moveTo>
                <a:lnTo>
                  <a:pt x="35121" y="3794"/>
                </a:lnTo>
                <a:lnTo>
                  <a:pt x="351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4"/>
          <p:cNvSpPr/>
          <p:nvPr/>
        </p:nvSpPr>
        <p:spPr>
          <a:xfrm>
            <a:off x="611280" y="549360"/>
            <a:ext cx="8136000" cy="5805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3f3f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619280" y="1413000"/>
            <a:ext cx="676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трудах какого учёного древности была подробно изложена теория отношений и пропорци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>
            <a:hlinkClick r:id="rId1" action="ppaction://hlinksldjump"/>
          </p:cNvPr>
          <p:cNvSpPr/>
          <p:nvPr/>
        </p:nvSpPr>
        <p:spPr>
          <a:xfrm>
            <a:off x="8028000" y="6237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539640" y="692280"/>
            <a:ext cx="8209080" cy="5732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3f3f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692360" y="1484280"/>
            <a:ext cx="684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Чему равно отношение золотого сечения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7740720" y="6093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539640" y="333360"/>
            <a:ext cx="8209080" cy="6091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3f3f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619280" y="1413000"/>
            <a:ext cx="669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иведите примеры применения «Золотого сечения», где оно встречаетс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>
            <a:hlinkClick r:id="rId1" action="ppaction://hlinksldjump"/>
          </p:cNvPr>
          <p:cNvSpPr/>
          <p:nvPr/>
        </p:nvSpPr>
        <p:spPr>
          <a:xfrm>
            <a:off x="7667640" y="6237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5:36:13Z</dcterms:created>
  <dc:creator>User</dc:creator>
  <dc:description/>
  <dc:language>en-US</dc:language>
  <cp:lastModifiedBy>Я</cp:lastModifiedBy>
  <dcterms:modified xsi:type="dcterms:W3CDTF">2012-01-10T19:03:30Z</dcterms:modified>
  <cp:revision>21</cp:revision>
  <dc:subject/>
  <dc:title>Слайд 1</dc:title>
</cp:coreProperties>
</file>