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applause.wav" ContentType="audio/x-wav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20.gif" ContentType="image/gif"/>
  <Override PartName="/ppt/media/image18.png" ContentType="image/png"/>
  <Override PartName="/ppt/media/image17.png" ContentType="image/png"/>
  <Override PartName="/ppt/media/image4.gif" ContentType="image/gif"/>
  <Override PartName="/ppt/media/chimes.wav" ContentType="audio/x-wav"/>
  <Override PartName="/ppt/media/image16.png" ContentType="image/png"/>
  <Override PartName="/ppt/media/drumroll.wav" ContentType="audio/x-wav"/>
  <Override PartName="/ppt/media/image15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0013-48B0-4D64-8CFB-3658670B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64B-981B-435A-A2A7-AF6B3436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2CDF-1DC1-4F65-9B1F-3C5559A6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9562-36A9-45C9-8E2D-E4BD4522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13D9-7370-4058-BAC6-6AA813D7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FD6B-4070-407D-BA92-A3096E89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4B2A-F031-4BF7-9BE1-4F5416CD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C333-16B2-4B6A-BEC8-257E1118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64B4-D824-4A66-A070-134B2884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EC36-1DEC-4599-9D99-06802ABC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0357-0C5E-4340-9447-EAEEEF77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5EC-2FA2-4FA3-845F-73D50401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7859-D48A-4AAC-B95D-7E03A9EC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C20F-3618-424D-A1AA-3A4A4A16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18A2-5E7C-4D44-A929-3EB685E2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7C3F-A99C-46BD-B4D5-E38D717F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3641-7FF4-4B78-BC59-A24006DF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D190-24E2-4251-9BFE-10781795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CBEA-F88B-4D56-8FF1-C118354E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AA45-90BE-47D3-BBDA-B7FB9AB4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E4DC-E08B-4528-BA9A-7105494F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024-ABE7-48A7-91E6-718F0E30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F2AA-3F4A-4089-8218-68F10B5B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B48-CBC6-413A-BB6F-C3A7A610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1F62-8958-4788-B7B0-40B7D95816B5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9970-9A3D-4D68-92C6-F0CA26238911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image" Target="../media/image5.gif"/><Relationship Id="rId4" Type="http://schemas.openxmlformats.org/officeDocument/2006/relationships/slide" Target="slide29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29.xml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774072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ТЕМА УРОК</a:t>
            </a:r>
            <a:r>
              <a:rPr b="1" lang="uk-UA" sz="1800" spc="-1" strike="noStrike">
                <a:solidFill>
                  <a:srgbClr val="cc66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Додава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акогон Світлана Олександрівна, вчитель математики СЗШ №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.С</a:t>
            </a:r>
            <a:r>
              <a:rPr b="1" lang="uk-UA" sz="1600" spc="-1" strike="noStrike">
                <a:solidFill>
                  <a:srgbClr val="990000"/>
                </a:solidFill>
                <a:latin typeface="Times New Roman"/>
              </a:rPr>
              <a:t>євєродонецьк Луганська об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4751280" cy="28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255+570+(-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піраміди Хеопса 147 метр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477800" y="1820880"/>
            <a:ext cx="766620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198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|17+(-126)+59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ідстань, з якої було видн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маяк – 50 к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916360" y="1822320"/>
            <a:ext cx="470664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67280" y="19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-54,46+130,28+(-35,8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7760" y="2923920"/>
            <a:ext cx="762624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ерхня тераса сад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Семіраміди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находилас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на висоті 40 м над земле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481040" y="1824120"/>
            <a:ext cx="7662960" cy="50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76000" y="2133360"/>
            <a:ext cx="3737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</a:t>
            </a: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35640" y="1844640"/>
                <a:ext cx="35193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304560"/>
            <a:ext cx="7616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і числа називають раціональними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Цілі числа  +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+ дробові числа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=  раціональні числ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7760" y="3860640"/>
            <a:ext cx="762624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статуї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40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0800" y="1825560"/>
            <a:ext cx="48992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56000" y="2060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9240" y="256536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9240" y="3068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9240" y="3573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9240" y="4076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9240" y="4581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59240" y="508464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9240" y="558972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56000" y="609300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9124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22880" y="2565360"/>
            <a:ext cx="4334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5632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8796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1996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16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8360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1524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422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76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449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129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9064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016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16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724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436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2060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733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369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1964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5164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8472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167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1964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458136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9640" y="4581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88000" y="4581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508464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08464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508464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19640" y="558972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5164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7188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7440" y="333360"/>
            <a:ext cx="748656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488960" y="1817640"/>
            <a:ext cx="76550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88600" y="3227040"/>
            <a:ext cx="7626600" cy="25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Храм Артеміди в Ефес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аймав площу 10349 кв.м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або 1,0349 г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476360" y="1825560"/>
            <a:ext cx="76676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4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+28,6+(-11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7760" y="3573360"/>
            <a:ext cx="762624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Висота статуї 13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Times New Roman"/>
              </a:rPr>
              <a:t>Дякую за урок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476360" y="4267080"/>
            <a:ext cx="37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219640" y="1833480"/>
            <a:ext cx="392436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476360" y="1836720"/>
            <a:ext cx="3708360" cy="5021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Відповідь невірна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однаков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однакових знаків потрібно додати їх модулі і перед сумою поставити знак доданкі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4)+(+5)=+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4)+(-5)=-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Правильно! Молодець!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476360" y="1820880"/>
            <a:ext cx="3708360" cy="503712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Від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’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ємні числа товаришують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 flipH="1">
            <a:off x="1692000" y="2060640"/>
            <a:ext cx="2701800" cy="3666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364000" y="2060640"/>
            <a:ext cx="2767320" cy="3605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–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15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різн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різних знаків потрібно від більшого модуля відняти менший і перед результатом поставити знак доданка з більшим модул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17)+(-20)=-(20-17)=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7)+(-5)=+(7-5)=+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12)+4=-(12-4)=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Числа з різними знаками сваряться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547640" y="2637000"/>
            <a:ext cx="2738520" cy="2662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435640" y="1268280"/>
            <a:ext cx="4567320" cy="5045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,7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5,9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2,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Історична довідк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боргів є борг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майнів є майно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майна і боргу дорівнює їх різниці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427880" y="514188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244000" y="4437000"/>
            <a:ext cx="10540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0920" y="260280"/>
            <a:ext cx="756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Алгоритм </a:t>
            </a: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додавання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77080" y="14400"/>
            <a:ext cx="2266920" cy="1600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742840" y="1523880"/>
            <a:ext cx="39625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вись на зн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13336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3400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2852640"/>
            <a:ext cx="2360520" cy="608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Однаков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99040" y="2852640"/>
            <a:ext cx="23623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Різн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3586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033800"/>
            <a:ext cx="3505320" cy="11192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спільний зна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657760"/>
            <a:ext cx="3538440" cy="8384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дода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86680" y="3581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4033800"/>
            <a:ext cx="3657600" cy="1081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знак більш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8668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62480" y="5688000"/>
            <a:ext cx="363060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відня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81040" y="1832040"/>
            <a:ext cx="7662960" cy="5025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64200" y="1936800"/>
            <a:ext cx="27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1:48:30Z</dcterms:created>
  <dc:creator>Макогон</dc:creator>
  <dc:description/>
  <dc:language>en-US</dc:language>
  <cp:lastModifiedBy>Одмин</cp:lastModifiedBy>
  <dcterms:modified xsi:type="dcterms:W3CDTF">2012-01-30T18:04:29Z</dcterms:modified>
  <cp:revision>105</cp:revision>
  <dc:subject/>
  <dc:title>Сложение</dc:title>
</cp:coreProperties>
</file>