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png" ContentType="image/png"/>
  <Override PartName="/ppt/media/applause.wav" ContentType="audio/x-wav"/>
  <Override PartName="/ppt/media/image9.gif" ContentType="image/gif"/>
  <Override PartName="/ppt/media/image8.gif" ContentType="image/gif"/>
  <Override PartName="/ppt/media/image7.gif" ContentType="image/gif"/>
  <Override PartName="/ppt/media/image11.gif" ContentType="image/gif"/>
  <Override PartName="/ppt/media/image14.png" ContentType="image/png"/>
  <Override PartName="/ppt/media/image6.gif" ContentType="image/gif"/>
  <Override PartName="/ppt/media/image20.gif" ContentType="image/gif"/>
  <Override PartName="/ppt/media/image18.png" ContentType="image/png"/>
  <Override PartName="/ppt/media/image17.png" ContentType="image/png"/>
  <Override PartName="/ppt/media/image4.gif" ContentType="image/gif"/>
  <Override PartName="/ppt/media/chimes.wav" ContentType="audio/x-wav"/>
  <Override PartName="/ppt/media/image16.png" ContentType="image/png"/>
  <Override PartName="/ppt/media/drumroll.wav" ContentType="audio/x-wav"/>
  <Override PartName="/ppt/media/image15.png" ContentType="image/png"/>
  <Override PartName="/ppt/media/image19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3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D381-C2D9-40B3-9653-370E34C65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545E-62DB-48D6-810C-0CCC7E18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618E-B6D0-490F-977B-3303E978E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B4C6-E7FB-4C66-A69C-89CB268EB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5F79-6988-46E8-97DA-5EBC7E0E0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A9C4-15F5-47A8-A439-0F8AC39E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AE61-4D0A-475E-B350-969D66A6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2B3E-4846-4241-80E7-6593A28C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5D18-7174-4867-AABE-48E6F158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AD92-D52C-4420-8622-AD217910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6BE2-BBAB-4F38-AD37-D69D2E37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C76F-EB8B-403A-A757-25E7A2B3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AA7F-5070-4E69-9834-6F83C597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5FC7-2F2A-45A3-82A6-37A3AFA1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B0F22-2C87-4885-A201-ACE666A3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5708-55F6-46E3-8EB7-A259C5A28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E871-5742-4B09-83F2-A00559C8E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F0D5-8BFF-4957-91DE-37A7A8FA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8140-A9FF-433A-9F75-E281B27C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AE48-4673-458F-912D-382A6C38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6D63-1FD4-4358-8E07-8D21D140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490B-C15B-401D-A9AE-D562E556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A69E-E19B-40DE-8B84-DC1E69D7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7C7C-EEF8-4EB3-98E6-9E6EDC82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A5E8-55E6-4F5D-9E6F-C9D64567DBF3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6E7A-7B4C-4840-A105-360CA368A999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9.xml"/><Relationship Id="rId3" Type="http://schemas.openxmlformats.org/officeDocument/2006/relationships/image" Target="../media/image5.gif"/><Relationship Id="rId4" Type="http://schemas.openxmlformats.org/officeDocument/2006/relationships/slide" Target="slide29.xm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30.xml"/><Relationship Id="rId5" Type="http://schemas.openxmlformats.org/officeDocument/2006/relationships/slide" Target="slide29.xml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7740720" cy="31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Times New Roman"/>
              </a:rPr>
              <a:t>ТЕМА УРОК</a:t>
            </a:r>
            <a:r>
              <a:rPr b="1" lang="uk-UA" sz="1800" spc="-1" strike="noStrike">
                <a:solidFill>
                  <a:srgbClr val="cc66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Додаванн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раціональних чисе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Макогон Світлана Олександрівна, вчитель математики СЗШ №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м.С</a:t>
            </a:r>
            <a:r>
              <a:rPr b="1" lang="uk-UA" sz="1600" spc="-1" strike="noStrike">
                <a:solidFill>
                  <a:srgbClr val="990000"/>
                </a:solidFill>
                <a:latin typeface="Times New Roman"/>
              </a:rPr>
              <a:t>євєродонецьк Луганська об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916360" y="189000"/>
            <a:ext cx="4751280" cy="282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00"/>
                </a:solidFill>
                <a:latin typeface="Times New Roman"/>
              </a:rPr>
              <a:t>Єгипетські піраміди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345276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3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686560" y="1989000"/>
            <a:ext cx="33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00"/>
                </a:solidFill>
                <a:latin typeface="Times New Roman"/>
              </a:rPr>
              <a:t>-255+570+(-16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-3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4" action="ppaction://hlinksldjump"/>
          </p:cNvPr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-1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1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Єгипетські піраміди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7760" y="3284640"/>
            <a:ext cx="7626240" cy="19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Висота піраміди Хеопса 147 метрі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Олександрійський маяк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477800" y="1820880"/>
            <a:ext cx="7666200" cy="503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Олександрійський маяк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345276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19890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|17+(-126)+59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2" action="ppaction://hlinksldjump"/>
          </p:cNvPr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-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3" action="ppaction://hlinksldjump"/>
          </p:cNvPr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6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4" action="ppaction://hlinksldjump"/>
          </p:cNvPr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5" action="ppaction://hlinksldjump"/>
          </p:cNvPr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Олександрійський маяк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7760" y="3284640"/>
            <a:ext cx="7626240" cy="19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Відстань, з якої було видн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маяк – 50 к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Висячі сади Вавилон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916360" y="1822320"/>
            <a:ext cx="4706640" cy="503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Висячі сади Вавилон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345276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67280" y="1989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-54,46+130,28+(-35,8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-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-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Висячі сади Вавилон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7760" y="2923920"/>
            <a:ext cx="7626240" cy="25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Верхня тераса саді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Семіраміди </a:t>
            </a: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знаходилас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на висоті 40 м над земле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Колос Родоський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481040" y="1824120"/>
            <a:ext cx="7662960" cy="503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Колос Родоський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76000" y="2133360"/>
            <a:ext cx="373716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3" action="ppaction://hlinksldjump"/>
          </p:cNvPr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-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3</a:t>
            </a: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435640" y="1844640"/>
                <a:ext cx="351936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500"/>
                            </p:stCondLst>
                            <p:childTnLst>
                              <p:par>
                                <p:cTn id="3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360" y="304560"/>
            <a:ext cx="7616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Які числа називають раціональними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?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Цілі числа  +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+ дробові числа 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=  раціональні числ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990000"/>
                </a:solidFill>
                <a:latin typeface="Times New Roman"/>
              </a:rPr>
              <a:t>Колос Родоський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7760" y="3860640"/>
            <a:ext cx="762624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Висота статуї </a:t>
            </a: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40 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Мавзолей в Галікарнасі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2890800" y="1825560"/>
            <a:ext cx="489924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Мавзолей в Галікарнасі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56000" y="206064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59240" y="256536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59240" y="306864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59240" y="3573360"/>
            <a:ext cx="432000" cy="5050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59240" y="407664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59240" y="4581360"/>
            <a:ext cx="432000" cy="5050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59240" y="5084640"/>
            <a:ext cx="432000" cy="5050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59240" y="558972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56000" y="609300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91240" y="256536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22880" y="2565360"/>
            <a:ext cx="4334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56320" y="256536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8796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519960" y="256536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5160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83600" y="256536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1524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24220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2760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64492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12920" y="3068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790640" y="3068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7016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160" y="3068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67240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24360" y="2060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92360" y="2060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59280" y="2060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800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73320" y="3068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36960" y="3573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8800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19640" y="3573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5164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84720" y="3573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1672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948360" y="3573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88000" y="4076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19640" y="4076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651640" y="4076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84720" y="4076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516720" y="4076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24360" y="4581360"/>
            <a:ext cx="4334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9640" y="4581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88000" y="4581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24360" y="5084640"/>
            <a:ext cx="4334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92360" y="508464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59280" y="508464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88000" y="558972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19640" y="558972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651640" y="558972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24360" y="609300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88000" y="609300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609300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59280" y="609300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27280" y="609300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0532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7188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24360" y="558972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57440" y="333360"/>
            <a:ext cx="748656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Храм Артеміди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488960" y="1817640"/>
            <a:ext cx="765504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Храм Артеміди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88600" y="3227040"/>
            <a:ext cx="7626600" cy="25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Храм Артеміди в Ефес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займав площу 10349 кв.м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або 1,0349 г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Статуя Зевс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1476360" y="1825560"/>
            <a:ext cx="766764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Статуя Зевс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345276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686560" y="1989000"/>
            <a:ext cx="33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4</a:t>
            </a:r>
            <a:r>
              <a:rPr b="1" lang="uk-UA" sz="3200" spc="-1" strike="noStrike">
                <a:solidFill>
                  <a:srgbClr val="99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5</a:t>
            </a:r>
            <a:r>
              <a:rPr b="1" lang="uk-UA" sz="3200" spc="-1" strike="noStrike">
                <a:solidFill>
                  <a:srgbClr val="990000"/>
                </a:solidFill>
                <a:latin typeface="Times New Roman"/>
              </a:rPr>
              <a:t>+28,6+(-11,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-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-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500"/>
                            </p:stCondLst>
                            <p:childTnLst>
                              <p:par>
                                <p:cTn id="4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000"/>
                            </p:stCondLst>
                            <p:childTnLst>
                              <p:par>
                                <p:cTn id="4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Статуя Зевс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17760" y="3573360"/>
            <a:ext cx="7626240" cy="14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Висота статуї 13 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Times New Roman"/>
              </a:rPr>
              <a:t>Дякую за урок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1476360" y="4267080"/>
            <a:ext cx="3743280" cy="25923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5219640" y="1833480"/>
            <a:ext cx="3924360" cy="50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1476360" y="1836720"/>
            <a:ext cx="3708360" cy="50212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00"/>
                </a:solidFill>
                <a:latin typeface="Times New Roman"/>
              </a:rPr>
              <a:t>Відповідь невірна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8" name="">
            <a:hlinkClick r:id="" action="ppaction://hlinkshowjump?jump=previousslide"/>
          </p:cNvPr>
          <p:cNvSpPr/>
          <p:nvPr/>
        </p:nvSpPr>
        <p:spPr>
          <a:xfrm>
            <a:off x="5867280" y="5661000"/>
            <a:ext cx="2735280" cy="647640"/>
          </a:xfrm>
          <a:custGeom>
            <a:avLst/>
            <a:gdLst>
              <a:gd name="textAreaLeft" fmla="*/ 41760 w 2735280"/>
              <a:gd name="textAreaRight" fmla="*/ 2693520 w 2735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91188" h="21600">
                <a:moveTo>
                  <a:pt x="0" y="0"/>
                </a:moveTo>
                <a:lnTo>
                  <a:pt x="91188" y="0"/>
                </a:lnTo>
                <a:lnTo>
                  <a:pt x="91188" y="21600"/>
                </a:lnTo>
                <a:lnTo>
                  <a:pt x="0" y="21600"/>
                </a:lnTo>
                <a:close/>
              </a:path>
              <a:path fill="lightenLess" w="91188" h="21600">
                <a:moveTo>
                  <a:pt x="0" y="0"/>
                </a:moveTo>
                <a:lnTo>
                  <a:pt x="91188" y="0"/>
                </a:lnTo>
                <a:lnTo>
                  <a:pt x="89788" y="1400"/>
                </a:lnTo>
                <a:lnTo>
                  <a:pt x="1400" y="1400"/>
                </a:lnTo>
                <a:close/>
              </a:path>
              <a:path fill="darken" w="91188" h="21600">
                <a:moveTo>
                  <a:pt x="91188" y="0"/>
                </a:moveTo>
                <a:lnTo>
                  <a:pt x="91188" y="21600"/>
                </a:lnTo>
                <a:lnTo>
                  <a:pt x="89788" y="20200"/>
                </a:lnTo>
                <a:lnTo>
                  <a:pt x="89788" y="1400"/>
                </a:lnTo>
                <a:close/>
              </a:path>
              <a:path fill="darkenLess" w="91188" h="21600">
                <a:moveTo>
                  <a:pt x="91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788" y="20200"/>
                </a:lnTo>
                <a:close/>
              </a:path>
              <a:path fill="lighten" w="91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Як додати два числа однакових знаків?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Щоб додати два числа однакових знаків потрібно додати їх модулі і перед сумою поставити знак доданкі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+4)+(+5)=+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-4)+(-5)=-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00"/>
                </a:solidFill>
                <a:latin typeface="Times New Roman"/>
              </a:rPr>
              <a:t>Правильно! Молодець!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1476360" y="1820880"/>
            <a:ext cx="3708360" cy="5037120"/>
          </a:xfrm>
          <a:prstGeom prst="rect">
            <a:avLst/>
          </a:prstGeom>
          <a:ln w="0">
            <a:noFill/>
          </a:ln>
        </p:spPr>
      </p:pic>
      <p:sp>
        <p:nvSpPr>
          <p:cNvPr id="291" name="">
            <a:hlinkClick r:id="" action="ppaction://hlinkshowjump?jump=previousslide"/>
          </p:cNvPr>
          <p:cNvSpPr/>
          <p:nvPr/>
        </p:nvSpPr>
        <p:spPr>
          <a:xfrm>
            <a:off x="5867280" y="5661000"/>
            <a:ext cx="2735280" cy="647640"/>
          </a:xfrm>
          <a:custGeom>
            <a:avLst/>
            <a:gdLst>
              <a:gd name="textAreaLeft" fmla="*/ 41760 w 2735280"/>
              <a:gd name="textAreaRight" fmla="*/ 2693520 w 2735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91188" h="21600">
                <a:moveTo>
                  <a:pt x="0" y="0"/>
                </a:moveTo>
                <a:lnTo>
                  <a:pt x="91188" y="0"/>
                </a:lnTo>
                <a:lnTo>
                  <a:pt x="91188" y="21600"/>
                </a:lnTo>
                <a:lnTo>
                  <a:pt x="0" y="21600"/>
                </a:lnTo>
                <a:close/>
              </a:path>
              <a:path fill="lightenLess" w="91188" h="21600">
                <a:moveTo>
                  <a:pt x="0" y="0"/>
                </a:moveTo>
                <a:lnTo>
                  <a:pt x="91188" y="0"/>
                </a:lnTo>
                <a:lnTo>
                  <a:pt x="89788" y="1400"/>
                </a:lnTo>
                <a:lnTo>
                  <a:pt x="1400" y="1400"/>
                </a:lnTo>
                <a:close/>
              </a:path>
              <a:path fill="darken" w="91188" h="21600">
                <a:moveTo>
                  <a:pt x="91188" y="0"/>
                </a:moveTo>
                <a:lnTo>
                  <a:pt x="91188" y="21600"/>
                </a:lnTo>
                <a:lnTo>
                  <a:pt x="89788" y="20200"/>
                </a:lnTo>
                <a:lnTo>
                  <a:pt x="89788" y="1400"/>
                </a:lnTo>
                <a:close/>
              </a:path>
              <a:path fill="darkenLess" w="91188" h="21600">
                <a:moveTo>
                  <a:pt x="91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788" y="20200"/>
                </a:lnTo>
                <a:close/>
              </a:path>
              <a:path fill="lighten" w="91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Від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’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ємні числа товаришують один з одним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5729400"/>
            <a:ext cx="1979640" cy="1128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 flipH="1">
            <a:off x="1692000" y="2060640"/>
            <a:ext cx="2701800" cy="36669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364000" y="2060640"/>
            <a:ext cx="2767320" cy="3605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995640" y="3573360"/>
            <a:ext cx="1878120" cy="1944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81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-39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76360" y="5668920"/>
            <a:ext cx="76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–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 +  (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–15)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Times New Roman"/>
              </a:rPr>
              <a:t>Як додати два числа різних знаків?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Щоб додати два числа різних знаків потрібно від більшого модуля відняти менший і перед результатом поставити знак доданка з більшим модуле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+17)+(-20)=-(20-17)=-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+7)+(-5)=+(7-5)=+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-12)+4=-(12-4)=-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Числа з різними знаками сваряться один з одним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5729400"/>
            <a:ext cx="1979640" cy="1128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547640" y="2637000"/>
            <a:ext cx="2738520" cy="2662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435640" y="1268280"/>
            <a:ext cx="4567320" cy="50450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476360" y="5668920"/>
            <a:ext cx="76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,7  +  (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–5,9)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95640" y="3573360"/>
            <a:ext cx="1878120" cy="1944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81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-2,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a50021"/>
                </a:solidFill>
                <a:latin typeface="Times New Roman"/>
              </a:rPr>
              <a:t>Історична довідк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«Сума двох боргів є борг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«Сума двох майнів є майно»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«Сума майна і боргу дорівнює їх різниці»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427880" y="5141880"/>
            <a:ext cx="1716120" cy="1716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8244000" y="4437000"/>
            <a:ext cx="105408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050920" y="260280"/>
            <a:ext cx="756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Times New Roman"/>
              </a:rPr>
              <a:t>Алгоритм </a:t>
            </a:r>
            <a:r>
              <a:rPr b="1" i="1" lang="uk-UA" sz="3600" spc="-1" strike="noStrike">
                <a:solidFill>
                  <a:srgbClr val="a50021"/>
                </a:solidFill>
                <a:latin typeface="Times New Roman"/>
              </a:rPr>
              <a:t>додавання</a:t>
            </a:r>
            <a:br>
              <a:rPr sz="3600"/>
            </a:br>
            <a:r>
              <a:rPr b="1" i="1" lang="ru-RU" sz="3600" spc="-1" strike="noStrike">
                <a:solidFill>
                  <a:srgbClr val="a50021"/>
                </a:solidFill>
                <a:latin typeface="Times New Roman"/>
              </a:rPr>
              <a:t>раціональних чисе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877080" y="14400"/>
            <a:ext cx="2266920" cy="16002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742840" y="1523880"/>
            <a:ext cx="3962520" cy="6098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ивись на зна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133360" y="2209680"/>
            <a:ext cx="24382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734000" y="2209680"/>
            <a:ext cx="24382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42920" y="2852640"/>
            <a:ext cx="2360520" cy="6080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Однаков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99040" y="2852640"/>
            <a:ext cx="2362320" cy="6098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Різн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33720" y="3586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4033800"/>
            <a:ext cx="3505320" cy="11192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Став спільний зна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33720" y="524844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5657760"/>
            <a:ext cx="3538440" cy="8384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Модулі дода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86680" y="35812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57800" y="4033800"/>
            <a:ext cx="3657600" cy="10810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Став знак більшо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модул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186680" y="524844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62480" y="5688000"/>
            <a:ext cx="3630600" cy="8380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Модулі відня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00"/>
                </a:solidFill>
                <a:latin typeface="Times New Roman"/>
              </a:rPr>
              <a:t>Єгипетські піраміди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481040" y="1832040"/>
            <a:ext cx="7662960" cy="50259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064200" y="1936800"/>
            <a:ext cx="275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11:48:30Z</dcterms:created>
  <dc:creator>Макогон</dc:creator>
  <dc:description/>
  <dc:language>en-US</dc:language>
  <cp:lastModifiedBy>Одмин</cp:lastModifiedBy>
  <dcterms:modified xsi:type="dcterms:W3CDTF">2012-01-30T18:04:29Z</dcterms:modified>
  <cp:revision>105</cp:revision>
  <dc:subject/>
  <dc:title>Сложение</dc:title>
</cp:coreProperties>
</file>