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png" ContentType="image/png"/>
  <Override PartName="/ppt/media/applause.wav" ContentType="audio/x-wav"/>
  <Override PartName="/ppt/media/image9.gif" ContentType="image/gif"/>
  <Override PartName="/ppt/media/image8.gif" ContentType="image/gif"/>
  <Override PartName="/ppt/media/image7.gif" ContentType="image/gif"/>
  <Override PartName="/ppt/media/image11.gif" ContentType="image/gif"/>
  <Override PartName="/ppt/media/image14.png" ContentType="image/png"/>
  <Override PartName="/ppt/media/image6.gif" ContentType="image/gif"/>
  <Override PartName="/ppt/media/image20.gif" ContentType="image/gif"/>
  <Override PartName="/ppt/media/image18.png" ContentType="image/png"/>
  <Override PartName="/ppt/media/image17.png" ContentType="image/png"/>
  <Override PartName="/ppt/media/image4.gif" ContentType="image/gif"/>
  <Override PartName="/ppt/media/chimes.wav" ContentType="audio/x-wav"/>
  <Override PartName="/ppt/media/image16.png" ContentType="image/png"/>
  <Override PartName="/ppt/media/drumroll.wav" ContentType="audio/x-wav"/>
  <Override PartName="/ppt/media/image15.png" ContentType="image/png"/>
  <Override PartName="/ppt/media/image19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FD82-4DE6-4F0E-86C5-7172EF552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EE73-4CF2-4FC0-9EDD-A99DA14F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CCD7-5BBF-4AF2-8CEA-B7A88F875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DA14-A74F-4E7D-9548-ADB89DAD6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E1AE-6AF2-42BE-9CD6-15B66A388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F88F-2EDD-4B22-B500-17E335A0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DFE5-6E0E-4966-9363-D096E11C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20FE-4B77-4169-A80A-113EE1C7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B421-B6B0-4F25-852C-B391E462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C3CD-44F9-46BD-90EF-634D5BCB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BE7D-D90D-40BD-80F7-52D8E604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8276-7B1F-4D7A-8EA0-06ADF23C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D45F-8F42-4D3B-8646-B26B4CC0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3364-B82E-4F44-82B7-DDE16EDB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7F31-52E6-4A61-ABF6-17D2FE25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0849-C145-4ACD-875C-772E4624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8275-26ED-4252-9358-8D55179D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564C-B31E-41AD-A2B7-3975E0FD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6D4E-DB9A-4821-8608-BEEA433E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B185-3C3A-423E-B013-D9D79E67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3460-7926-4263-9730-D163801D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DC9D-15FF-4866-AABC-0A29C978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123C-E331-4720-8B16-0C175D8D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0C2B-C693-4EB8-BB35-B1416A22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07E5-E687-4A29-8C8E-CAD7C2157333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ABCF-5B35-4E04-BFAD-1F570EADBFFF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9.xml"/><Relationship Id="rId3" Type="http://schemas.openxmlformats.org/officeDocument/2006/relationships/image" Target="../media/image5.gif"/><Relationship Id="rId4" Type="http://schemas.openxmlformats.org/officeDocument/2006/relationships/slide" Target="slide29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" Target="slide29.xml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774072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Times New Roman"/>
              </a:rPr>
              <a:t>ТЕМА УРОК</a:t>
            </a:r>
            <a:r>
              <a:rPr b="1" lang="uk-UA" sz="1800" spc="-1" strike="noStrike">
                <a:solidFill>
                  <a:srgbClr val="cc66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Додаванн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раціональних чисе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Макогон Світлана Олександрівна, вчитель математики СЗШ №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м.С</a:t>
            </a:r>
            <a:r>
              <a:rPr b="1" lang="uk-UA" sz="1600" spc="-1" strike="noStrike">
                <a:solidFill>
                  <a:srgbClr val="990000"/>
                </a:solidFill>
                <a:latin typeface="Times New Roman"/>
              </a:rPr>
              <a:t>євєродонецьк Луганська об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916360" y="189000"/>
            <a:ext cx="4751280" cy="282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Єгипетські піраміди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3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686560" y="198900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-255+570+(-16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3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4" action="ppaction://hlinksldjump"/>
          </p:cNvPr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1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1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Єгипетські пірамід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7760" y="3284640"/>
            <a:ext cx="7626240" cy="19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исота піраміди Хеопса 147 метрі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Олександрійський маяк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477800" y="1820880"/>
            <a:ext cx="7666200" cy="503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Олександрійський маяк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1989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|17+(-126)+59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3" action="ppaction://hlinksldjump"/>
          </p:cNvPr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6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4" action="ppaction://hlinksldjump"/>
          </p:cNvPr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5" action="ppaction://hlinksldjump"/>
          </p:cNvPr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Олександрійський маяк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7760" y="3284640"/>
            <a:ext cx="7626240" cy="19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ідстань, з якої було видн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маяк – 50 к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Висячі сади Вавилон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916360" y="1822320"/>
            <a:ext cx="4706640" cy="50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Висячі сади Вавилон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67280" y="19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-54,46+130,28+(-35,8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Висячі сади Вавилон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7760" y="2923920"/>
            <a:ext cx="7626240" cy="25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ерхня тераса саді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Семіраміди </a:t>
            </a: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знаходилас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на висоті 40 м над земле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Колос Родоський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481040" y="1824120"/>
            <a:ext cx="7662960" cy="50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Колос Родоський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76000" y="2133360"/>
            <a:ext cx="3737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3" action="ppaction://hlinksldjump"/>
          </p:cNvPr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3</a:t>
            </a: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435640" y="1844640"/>
                <a:ext cx="351936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360" y="304560"/>
            <a:ext cx="7616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Які числа називають раціональними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?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Цілі числа  +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+ дробові числа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=  раціональні числ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990000"/>
                </a:solidFill>
                <a:latin typeface="Times New Roman"/>
              </a:rPr>
              <a:t>Колос Родоський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7760" y="3860640"/>
            <a:ext cx="762624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исота статуї </a:t>
            </a: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40 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Мавзолей в Галікарнасі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890800" y="1825560"/>
            <a:ext cx="489924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Мавзолей в Галікарнасі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56000" y="206064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59240" y="256536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59240" y="306864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59240" y="3573360"/>
            <a:ext cx="432000" cy="505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59240" y="407664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59240" y="4581360"/>
            <a:ext cx="432000" cy="505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59240" y="5084640"/>
            <a:ext cx="432000" cy="505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59240" y="558972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56000" y="609300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9124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22880" y="2565360"/>
            <a:ext cx="4334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5632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8796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1996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5160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8360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1524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24220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2760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4492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1292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9064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016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16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67240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4360" y="2060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92360" y="2060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59280" y="2060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800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7332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3696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8800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1964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5164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8472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1672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4836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4076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19640" y="4076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51640" y="4076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84720" y="4076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16720" y="4076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24360" y="4581360"/>
            <a:ext cx="4334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9640" y="4581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88000" y="4581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24360" y="5084640"/>
            <a:ext cx="4334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508464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59280" y="508464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88000" y="558972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19640" y="558972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51640" y="558972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24360" y="609300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88000" y="609300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609300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59280" y="609300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27280" y="609300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7188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24360" y="558972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57440" y="333360"/>
            <a:ext cx="748656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Храм Артемід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488960" y="1817640"/>
            <a:ext cx="765504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Храм Артемід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88600" y="3227040"/>
            <a:ext cx="7626600" cy="25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Храм Артеміди в Ефес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займав площу 10349 кв.м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або 1,0349 г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Статуя Зевс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476360" y="1825560"/>
            <a:ext cx="766764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Статуя Зевс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86560" y="198900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4</a:t>
            </a: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5</a:t>
            </a: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+28,6+(-11,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Статуя Зевс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17760" y="3573360"/>
            <a:ext cx="7626240" cy="14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Висота статуї 13 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Times New Roman"/>
              </a:rPr>
              <a:t>Дякую за урок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1476360" y="4267080"/>
            <a:ext cx="3743280" cy="25923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5219640" y="1833480"/>
            <a:ext cx="3924360" cy="50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1476360" y="1836720"/>
            <a:ext cx="3708360" cy="50212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Відповідь невірна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8" name="">
            <a:hlinkClick r:id="" action="ppaction://hlinkshowjump?jump=previousslide"/>
          </p:cNvPr>
          <p:cNvSpPr/>
          <p:nvPr/>
        </p:nvSpPr>
        <p:spPr>
          <a:xfrm>
            <a:off x="5867280" y="5661000"/>
            <a:ext cx="2735280" cy="647640"/>
          </a:xfrm>
          <a:custGeom>
            <a:avLst/>
            <a:gdLst>
              <a:gd name="textAreaLeft" fmla="*/ 41760 w 2735280"/>
              <a:gd name="textAreaRight" fmla="*/ 2693520 w 2735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91188" h="21600">
                <a:moveTo>
                  <a:pt x="0" y="0"/>
                </a:moveTo>
                <a:lnTo>
                  <a:pt x="91188" y="0"/>
                </a:lnTo>
                <a:lnTo>
                  <a:pt x="91188" y="21600"/>
                </a:lnTo>
                <a:lnTo>
                  <a:pt x="0" y="21600"/>
                </a:lnTo>
                <a:close/>
              </a:path>
              <a:path fill="lightenLess" w="91188" h="21600">
                <a:moveTo>
                  <a:pt x="0" y="0"/>
                </a:moveTo>
                <a:lnTo>
                  <a:pt x="91188" y="0"/>
                </a:lnTo>
                <a:lnTo>
                  <a:pt x="89788" y="1400"/>
                </a:lnTo>
                <a:lnTo>
                  <a:pt x="1400" y="1400"/>
                </a:lnTo>
                <a:close/>
              </a:path>
              <a:path fill="darken" w="91188" h="21600">
                <a:moveTo>
                  <a:pt x="91188" y="0"/>
                </a:moveTo>
                <a:lnTo>
                  <a:pt x="91188" y="21600"/>
                </a:lnTo>
                <a:lnTo>
                  <a:pt x="89788" y="20200"/>
                </a:lnTo>
                <a:lnTo>
                  <a:pt x="89788" y="1400"/>
                </a:lnTo>
                <a:close/>
              </a:path>
              <a:path fill="darkenLess" w="91188" h="21600">
                <a:moveTo>
                  <a:pt x="91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88" y="20200"/>
                </a:lnTo>
                <a:close/>
              </a:path>
              <a:path fill="lighten" w="91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Як додати два числа однакових знаків?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Щоб додати два числа однакових знаків потрібно додати їх модулі і перед сумою поставити знак доданкі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+4)+(+5)=+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-4)+(-5)=-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Правильно! Молодець!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1476360" y="1820880"/>
            <a:ext cx="3708360" cy="503712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5867280" y="5661000"/>
            <a:ext cx="2735280" cy="647640"/>
          </a:xfrm>
          <a:custGeom>
            <a:avLst/>
            <a:gdLst>
              <a:gd name="textAreaLeft" fmla="*/ 41760 w 2735280"/>
              <a:gd name="textAreaRight" fmla="*/ 2693520 w 2735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91188" h="21600">
                <a:moveTo>
                  <a:pt x="0" y="0"/>
                </a:moveTo>
                <a:lnTo>
                  <a:pt x="91188" y="0"/>
                </a:lnTo>
                <a:lnTo>
                  <a:pt x="91188" y="21600"/>
                </a:lnTo>
                <a:lnTo>
                  <a:pt x="0" y="21600"/>
                </a:lnTo>
                <a:close/>
              </a:path>
              <a:path fill="lightenLess" w="91188" h="21600">
                <a:moveTo>
                  <a:pt x="0" y="0"/>
                </a:moveTo>
                <a:lnTo>
                  <a:pt x="91188" y="0"/>
                </a:lnTo>
                <a:lnTo>
                  <a:pt x="89788" y="1400"/>
                </a:lnTo>
                <a:lnTo>
                  <a:pt x="1400" y="1400"/>
                </a:lnTo>
                <a:close/>
              </a:path>
              <a:path fill="darken" w="91188" h="21600">
                <a:moveTo>
                  <a:pt x="91188" y="0"/>
                </a:moveTo>
                <a:lnTo>
                  <a:pt x="91188" y="21600"/>
                </a:lnTo>
                <a:lnTo>
                  <a:pt x="89788" y="20200"/>
                </a:lnTo>
                <a:lnTo>
                  <a:pt x="89788" y="1400"/>
                </a:lnTo>
                <a:close/>
              </a:path>
              <a:path fill="darkenLess" w="91188" h="21600">
                <a:moveTo>
                  <a:pt x="91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88" y="20200"/>
                </a:lnTo>
                <a:close/>
              </a:path>
              <a:path fill="lighten" w="91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Від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’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ємні числа товаришують один з одним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5729400"/>
            <a:ext cx="1979640" cy="1128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 flipH="1">
            <a:off x="1692000" y="2060640"/>
            <a:ext cx="2701800" cy="3666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364000" y="2060640"/>
            <a:ext cx="2767320" cy="3605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95640" y="3573360"/>
            <a:ext cx="1878120" cy="1944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81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-39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76360" y="5668920"/>
            <a:ext cx="76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–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 +  (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–15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Як додати два числа різних знаків?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Щоб додати два числа різних знаків потрібно від більшого модуля відняти менший і перед результатом поставити знак доданка з більшим модуле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+17)+(-20)=-(20-17)=-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+7)+(-5)=+(7-5)=+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-12)+4=-(12-4)=-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Числа з різними знаками сваряться один з одним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5729400"/>
            <a:ext cx="1979640" cy="1128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547640" y="2637000"/>
            <a:ext cx="2738520" cy="2662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435640" y="1268280"/>
            <a:ext cx="4567320" cy="5045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476360" y="5668920"/>
            <a:ext cx="76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,7  +  (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–5,9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95640" y="3573360"/>
            <a:ext cx="1878120" cy="1944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81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-2,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a50021"/>
                </a:solidFill>
                <a:latin typeface="Times New Roman"/>
              </a:rPr>
              <a:t>Історична довідк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«Сума двох боргів є борг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«Сума двох майнів є майно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«Сума майна і боргу дорівнює їх різниці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427880" y="5141880"/>
            <a:ext cx="1716120" cy="1716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244000" y="4437000"/>
            <a:ext cx="105408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050920" y="260280"/>
            <a:ext cx="756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Times New Roman"/>
              </a:rPr>
              <a:t>Алгоритм </a:t>
            </a:r>
            <a:r>
              <a:rPr b="1" i="1" lang="uk-UA" sz="3600" spc="-1" strike="noStrike">
                <a:solidFill>
                  <a:srgbClr val="a50021"/>
                </a:solidFill>
                <a:latin typeface="Times New Roman"/>
              </a:rPr>
              <a:t>додавання</a:t>
            </a:r>
            <a:br>
              <a:rPr sz="3600"/>
            </a:br>
            <a:r>
              <a:rPr b="1" i="1" lang="ru-RU" sz="3600" spc="-1" strike="noStrike">
                <a:solidFill>
                  <a:srgbClr val="a50021"/>
                </a:solidFill>
                <a:latin typeface="Times New Roman"/>
              </a:rPr>
              <a:t>раціональних чисе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77080" y="14400"/>
            <a:ext cx="2266920" cy="1600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742840" y="1523880"/>
            <a:ext cx="3962520" cy="6098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вись на зна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133360" y="2209680"/>
            <a:ext cx="24382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34000" y="2209680"/>
            <a:ext cx="24382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42920" y="2852640"/>
            <a:ext cx="2360520" cy="6080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Однаков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99040" y="2852640"/>
            <a:ext cx="2362320" cy="6098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Різн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33720" y="3586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4033800"/>
            <a:ext cx="3505320" cy="11192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Став спільний зна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33720" y="524844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5657760"/>
            <a:ext cx="3538440" cy="8384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Модулі дода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86680" y="35812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57800" y="4033800"/>
            <a:ext cx="3657600" cy="1081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Став знак більш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моду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86680" y="524844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62480" y="5688000"/>
            <a:ext cx="3630600" cy="838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Модулі відня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Єгипетські піраміди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481040" y="1832040"/>
            <a:ext cx="7662960" cy="50259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64200" y="1936800"/>
            <a:ext cx="275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1:48:30Z</dcterms:created>
  <dc:creator>Макогон</dc:creator>
  <dc:description/>
  <dc:language>en-US</dc:language>
  <cp:lastModifiedBy>Одмин</cp:lastModifiedBy>
  <dcterms:modified xsi:type="dcterms:W3CDTF">2012-01-30T18:04:29Z</dcterms:modified>
  <cp:revision>105</cp:revision>
  <dc:subject/>
  <dc:title>Сложение</dc:title>
</cp:coreProperties>
</file>