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10.png" ContentType="image/png"/>
  <Override PartName="/ppt/media/applause.wav" ContentType="audio/x-wav"/>
  <Override PartName="/ppt/media/image9.gif" ContentType="image/gif"/>
  <Override PartName="/ppt/media/image8.gif" ContentType="image/gif"/>
  <Override PartName="/ppt/media/image7.gif" ContentType="image/gif"/>
  <Override PartName="/ppt/media/image11.gif" ContentType="image/gif"/>
  <Override PartName="/ppt/media/image14.png" ContentType="image/png"/>
  <Override PartName="/ppt/media/image6.gif" ContentType="image/gif"/>
  <Override PartName="/ppt/media/image20.gif" ContentType="image/gif"/>
  <Override PartName="/ppt/media/image18.png" ContentType="image/png"/>
  <Override PartName="/ppt/media/image17.png" ContentType="image/png"/>
  <Override PartName="/ppt/media/image4.gif" ContentType="image/gif"/>
  <Override PartName="/ppt/media/chimes.wav" ContentType="audio/x-wav"/>
  <Override PartName="/ppt/media/image16.png" ContentType="image/png"/>
  <Override PartName="/ppt/media/drumroll.wav" ContentType="audio/x-wav"/>
  <Override PartName="/ppt/media/image15.png" ContentType="image/png"/>
  <Override PartName="/ppt/media/image19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5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>
    <p:sldRg st="1" end="30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D374F-8875-4473-90A9-48077D63B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7C716-F8D0-42A8-B43A-A4DE3BEEC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1402E-A1CC-4BF0-A73D-7E8F78302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05828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63696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47960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405828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63696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5EABD-A9EB-4677-9C8D-822F76627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7E6FD-C0E7-4F01-AA2E-829768924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A4413-0CD2-4CD1-979A-51158FB54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62C51-CDF5-4261-AA9C-0CEF7CED7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9A2A7-4B37-4E3D-BBDF-E1AA1EE97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BB8F3-C91A-43CD-968F-69FF73920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528920" y="304560"/>
            <a:ext cx="7564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AB450-F02D-4AE4-A0B3-68836ECCE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D2D36-3326-4AE4-BA4B-EBAE7D078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58F17-E86A-4526-B1C4-51B4E8C37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20A8D-23A3-47FE-A506-06357F116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9CCDB-F208-4334-9AC7-F80CD3D4B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4BB41-C9CA-4BCE-99B8-65319564E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61D70-D3B8-4293-BFAB-3EECD7CD2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05828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63696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47960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405828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63696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48ADA-3550-41EA-A780-AE407C59E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9D391-4699-4E64-8418-0FDB177B0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D923C-E61A-4A0E-B63E-9702BD96F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37382-73DC-40DE-A84F-733BA92A9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528920" y="304560"/>
            <a:ext cx="7564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11A7B-0E8B-42F4-A859-1F4820334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3E922-AFA4-4937-A670-BEF9BDC4A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107FF-FB7F-4917-957B-DE7296D95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6B540-7F4C-4753-AE4C-7E4AD4295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1469880" cy="6856560"/>
              <a:chOff x="0" y="0"/>
              <a:chExt cx="1469880" cy="685656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1465200" cy="685656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9360" y="49320"/>
                <a:ext cx="1460520" cy="1498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" name=""/>
              <p:cNvSpPr/>
              <p:nvPr/>
            </p:nvSpPr>
            <p:spPr>
              <a:xfrm>
                <a:off x="9360" y="1623960"/>
                <a:ext cx="1413000" cy="1454040"/>
              </a:xfrm>
              <a:custGeom>
                <a:avLst/>
                <a:gdLst/>
                <a:ahLst/>
                <a:rect l="l" t="t" r="r" b="b"/>
                <a:pathLst>
                  <a:path w="890" h="916">
                    <a:moveTo>
                      <a:pt x="279" y="334"/>
                    </a:moveTo>
                    <a:lnTo>
                      <a:pt x="292" y="312"/>
                    </a:lnTo>
                    <a:lnTo>
                      <a:pt x="307" y="292"/>
                    </a:lnTo>
                    <a:lnTo>
                      <a:pt x="324" y="276"/>
                    </a:lnTo>
                    <a:lnTo>
                      <a:pt x="313" y="255"/>
                    </a:lnTo>
                    <a:lnTo>
                      <a:pt x="307" y="234"/>
                    </a:lnTo>
                    <a:lnTo>
                      <a:pt x="288" y="202"/>
                    </a:lnTo>
                    <a:lnTo>
                      <a:pt x="274" y="181"/>
                    </a:lnTo>
                    <a:lnTo>
                      <a:pt x="261" y="159"/>
                    </a:lnTo>
                    <a:lnTo>
                      <a:pt x="256" y="139"/>
                    </a:lnTo>
                    <a:lnTo>
                      <a:pt x="256" y="118"/>
                    </a:lnTo>
                    <a:lnTo>
                      <a:pt x="247" y="91"/>
                    </a:lnTo>
                    <a:lnTo>
                      <a:pt x="237" y="70"/>
                    </a:lnTo>
                    <a:lnTo>
                      <a:pt x="226" y="46"/>
                    </a:lnTo>
                    <a:lnTo>
                      <a:pt x="225" y="24"/>
                    </a:lnTo>
                    <a:lnTo>
                      <a:pt x="232" y="10"/>
                    </a:lnTo>
                    <a:lnTo>
                      <a:pt x="247" y="9"/>
                    </a:lnTo>
                    <a:lnTo>
                      <a:pt x="259" y="21"/>
                    </a:lnTo>
                    <a:lnTo>
                      <a:pt x="270" y="46"/>
                    </a:lnTo>
                    <a:lnTo>
                      <a:pt x="280" y="61"/>
                    </a:lnTo>
                    <a:lnTo>
                      <a:pt x="298" y="82"/>
                    </a:lnTo>
                    <a:lnTo>
                      <a:pt x="309" y="88"/>
                    </a:lnTo>
                    <a:lnTo>
                      <a:pt x="315" y="99"/>
                    </a:lnTo>
                    <a:lnTo>
                      <a:pt x="322" y="118"/>
                    </a:lnTo>
                    <a:lnTo>
                      <a:pt x="330" y="141"/>
                    </a:lnTo>
                    <a:lnTo>
                      <a:pt x="339" y="160"/>
                    </a:lnTo>
                    <a:lnTo>
                      <a:pt x="358" y="180"/>
                    </a:lnTo>
                    <a:lnTo>
                      <a:pt x="379" y="205"/>
                    </a:lnTo>
                    <a:lnTo>
                      <a:pt x="399" y="225"/>
                    </a:lnTo>
                    <a:lnTo>
                      <a:pt x="406" y="240"/>
                    </a:lnTo>
                    <a:lnTo>
                      <a:pt x="474" y="241"/>
                    </a:lnTo>
                    <a:lnTo>
                      <a:pt x="495" y="208"/>
                    </a:lnTo>
                    <a:lnTo>
                      <a:pt x="505" y="184"/>
                    </a:lnTo>
                    <a:lnTo>
                      <a:pt x="507" y="160"/>
                    </a:lnTo>
                    <a:lnTo>
                      <a:pt x="510" y="141"/>
                    </a:lnTo>
                    <a:lnTo>
                      <a:pt x="514" y="118"/>
                    </a:lnTo>
                    <a:lnTo>
                      <a:pt x="529" y="94"/>
                    </a:lnTo>
                    <a:lnTo>
                      <a:pt x="540" y="85"/>
                    </a:lnTo>
                    <a:lnTo>
                      <a:pt x="552" y="69"/>
                    </a:lnTo>
                    <a:lnTo>
                      <a:pt x="561" y="45"/>
                    </a:lnTo>
                    <a:lnTo>
                      <a:pt x="571" y="27"/>
                    </a:lnTo>
                    <a:lnTo>
                      <a:pt x="589" y="13"/>
                    </a:lnTo>
                    <a:lnTo>
                      <a:pt x="604" y="0"/>
                    </a:lnTo>
                    <a:lnTo>
                      <a:pt x="613" y="6"/>
                    </a:lnTo>
                    <a:lnTo>
                      <a:pt x="615" y="16"/>
                    </a:lnTo>
                    <a:lnTo>
                      <a:pt x="606" y="27"/>
                    </a:lnTo>
                    <a:lnTo>
                      <a:pt x="603" y="34"/>
                    </a:lnTo>
                    <a:lnTo>
                      <a:pt x="600" y="49"/>
                    </a:lnTo>
                    <a:lnTo>
                      <a:pt x="600" y="79"/>
                    </a:lnTo>
                    <a:lnTo>
                      <a:pt x="600" y="103"/>
                    </a:lnTo>
                    <a:lnTo>
                      <a:pt x="592" y="124"/>
                    </a:lnTo>
                    <a:lnTo>
                      <a:pt x="583" y="145"/>
                    </a:lnTo>
                    <a:lnTo>
                      <a:pt x="576" y="162"/>
                    </a:lnTo>
                    <a:lnTo>
                      <a:pt x="574" y="186"/>
                    </a:lnTo>
                    <a:lnTo>
                      <a:pt x="574" y="216"/>
                    </a:lnTo>
                    <a:lnTo>
                      <a:pt x="568" y="244"/>
                    </a:lnTo>
                    <a:lnTo>
                      <a:pt x="568" y="282"/>
                    </a:lnTo>
                    <a:lnTo>
                      <a:pt x="588" y="300"/>
                    </a:lnTo>
                    <a:lnTo>
                      <a:pt x="607" y="325"/>
                    </a:lnTo>
                    <a:lnTo>
                      <a:pt x="645" y="325"/>
                    </a:lnTo>
                    <a:lnTo>
                      <a:pt x="678" y="312"/>
                    </a:lnTo>
                    <a:lnTo>
                      <a:pt x="697" y="292"/>
                    </a:lnTo>
                    <a:lnTo>
                      <a:pt x="720" y="277"/>
                    </a:lnTo>
                    <a:lnTo>
                      <a:pt x="777" y="274"/>
                    </a:lnTo>
                    <a:lnTo>
                      <a:pt x="801" y="265"/>
                    </a:lnTo>
                    <a:lnTo>
                      <a:pt x="816" y="253"/>
                    </a:lnTo>
                    <a:lnTo>
                      <a:pt x="859" y="252"/>
                    </a:lnTo>
                    <a:lnTo>
                      <a:pt x="865" y="265"/>
                    </a:lnTo>
                    <a:lnTo>
                      <a:pt x="861" y="279"/>
                    </a:lnTo>
                    <a:lnTo>
                      <a:pt x="843" y="288"/>
                    </a:lnTo>
                    <a:lnTo>
                      <a:pt x="819" y="300"/>
                    </a:lnTo>
                    <a:lnTo>
                      <a:pt x="796" y="324"/>
                    </a:lnTo>
                    <a:lnTo>
                      <a:pt x="786" y="334"/>
                    </a:lnTo>
                    <a:lnTo>
                      <a:pt x="765" y="343"/>
                    </a:lnTo>
                    <a:lnTo>
                      <a:pt x="735" y="352"/>
                    </a:lnTo>
                    <a:lnTo>
                      <a:pt x="714" y="367"/>
                    </a:lnTo>
                    <a:lnTo>
                      <a:pt x="687" y="390"/>
                    </a:lnTo>
                    <a:lnTo>
                      <a:pt x="669" y="409"/>
                    </a:lnTo>
                    <a:lnTo>
                      <a:pt x="649" y="420"/>
                    </a:lnTo>
                    <a:lnTo>
                      <a:pt x="648" y="481"/>
                    </a:lnTo>
                    <a:lnTo>
                      <a:pt x="673" y="510"/>
                    </a:lnTo>
                    <a:lnTo>
                      <a:pt x="703" y="526"/>
                    </a:lnTo>
                    <a:lnTo>
                      <a:pt x="730" y="531"/>
                    </a:lnTo>
                    <a:lnTo>
                      <a:pt x="751" y="535"/>
                    </a:lnTo>
                    <a:lnTo>
                      <a:pt x="777" y="549"/>
                    </a:lnTo>
                    <a:lnTo>
                      <a:pt x="795" y="567"/>
                    </a:lnTo>
                    <a:lnTo>
                      <a:pt x="819" y="577"/>
                    </a:lnTo>
                    <a:lnTo>
                      <a:pt x="846" y="583"/>
                    </a:lnTo>
                    <a:lnTo>
                      <a:pt x="861" y="592"/>
                    </a:lnTo>
                    <a:lnTo>
                      <a:pt x="874" y="606"/>
                    </a:lnTo>
                    <a:lnTo>
                      <a:pt x="889" y="621"/>
                    </a:lnTo>
                    <a:lnTo>
                      <a:pt x="888" y="634"/>
                    </a:lnTo>
                    <a:lnTo>
                      <a:pt x="867" y="637"/>
                    </a:lnTo>
                    <a:lnTo>
                      <a:pt x="853" y="631"/>
                    </a:lnTo>
                    <a:lnTo>
                      <a:pt x="832" y="618"/>
                    </a:lnTo>
                    <a:lnTo>
                      <a:pt x="807" y="618"/>
                    </a:lnTo>
                    <a:lnTo>
                      <a:pt x="780" y="618"/>
                    </a:lnTo>
                    <a:lnTo>
                      <a:pt x="759" y="615"/>
                    </a:lnTo>
                    <a:lnTo>
                      <a:pt x="736" y="592"/>
                    </a:lnTo>
                    <a:lnTo>
                      <a:pt x="718" y="588"/>
                    </a:lnTo>
                    <a:lnTo>
                      <a:pt x="684" y="588"/>
                    </a:lnTo>
                    <a:lnTo>
                      <a:pt x="615" y="588"/>
                    </a:lnTo>
                    <a:lnTo>
                      <a:pt x="604" y="606"/>
                    </a:lnTo>
                    <a:lnTo>
                      <a:pt x="589" y="621"/>
                    </a:lnTo>
                    <a:lnTo>
                      <a:pt x="576" y="628"/>
                    </a:lnTo>
                    <a:lnTo>
                      <a:pt x="580" y="666"/>
                    </a:lnTo>
                    <a:lnTo>
                      <a:pt x="600" y="702"/>
                    </a:lnTo>
                    <a:lnTo>
                      <a:pt x="618" y="723"/>
                    </a:lnTo>
                    <a:lnTo>
                      <a:pt x="630" y="753"/>
                    </a:lnTo>
                    <a:lnTo>
                      <a:pt x="631" y="787"/>
                    </a:lnTo>
                    <a:lnTo>
                      <a:pt x="640" y="807"/>
                    </a:lnTo>
                    <a:lnTo>
                      <a:pt x="654" y="838"/>
                    </a:lnTo>
                    <a:lnTo>
                      <a:pt x="664" y="862"/>
                    </a:lnTo>
                    <a:lnTo>
                      <a:pt x="664" y="889"/>
                    </a:lnTo>
                    <a:lnTo>
                      <a:pt x="654" y="898"/>
                    </a:lnTo>
                    <a:lnTo>
                      <a:pt x="642" y="898"/>
                    </a:lnTo>
                    <a:lnTo>
                      <a:pt x="624" y="870"/>
                    </a:lnTo>
                    <a:lnTo>
                      <a:pt x="612" y="837"/>
                    </a:lnTo>
                    <a:lnTo>
                      <a:pt x="583" y="808"/>
                    </a:lnTo>
                    <a:lnTo>
                      <a:pt x="568" y="789"/>
                    </a:lnTo>
                    <a:lnTo>
                      <a:pt x="556" y="760"/>
                    </a:lnTo>
                    <a:lnTo>
                      <a:pt x="549" y="738"/>
                    </a:lnTo>
                    <a:lnTo>
                      <a:pt x="513" y="708"/>
                    </a:lnTo>
                    <a:lnTo>
                      <a:pt x="489" y="682"/>
                    </a:lnTo>
                    <a:lnTo>
                      <a:pt x="415" y="684"/>
                    </a:lnTo>
                    <a:lnTo>
                      <a:pt x="390" y="730"/>
                    </a:lnTo>
                    <a:lnTo>
                      <a:pt x="372" y="759"/>
                    </a:lnTo>
                    <a:lnTo>
                      <a:pt x="361" y="798"/>
                    </a:lnTo>
                    <a:lnTo>
                      <a:pt x="339" y="838"/>
                    </a:lnTo>
                    <a:lnTo>
                      <a:pt x="316" y="874"/>
                    </a:lnTo>
                    <a:lnTo>
                      <a:pt x="294" y="907"/>
                    </a:lnTo>
                    <a:lnTo>
                      <a:pt x="285" y="915"/>
                    </a:lnTo>
                    <a:lnTo>
                      <a:pt x="268" y="909"/>
                    </a:lnTo>
                    <a:lnTo>
                      <a:pt x="268" y="894"/>
                    </a:lnTo>
                    <a:lnTo>
                      <a:pt x="276" y="867"/>
                    </a:lnTo>
                    <a:lnTo>
                      <a:pt x="291" y="837"/>
                    </a:lnTo>
                    <a:lnTo>
                      <a:pt x="294" y="790"/>
                    </a:lnTo>
                    <a:lnTo>
                      <a:pt x="298" y="766"/>
                    </a:lnTo>
                    <a:lnTo>
                      <a:pt x="313" y="744"/>
                    </a:lnTo>
                    <a:lnTo>
                      <a:pt x="319" y="699"/>
                    </a:lnTo>
                    <a:lnTo>
                      <a:pt x="324" y="664"/>
                    </a:lnTo>
                    <a:lnTo>
                      <a:pt x="336" y="637"/>
                    </a:lnTo>
                    <a:lnTo>
                      <a:pt x="309" y="609"/>
                    </a:lnTo>
                    <a:lnTo>
                      <a:pt x="283" y="583"/>
                    </a:lnTo>
                    <a:lnTo>
                      <a:pt x="271" y="577"/>
                    </a:lnTo>
                    <a:lnTo>
                      <a:pt x="231" y="601"/>
                    </a:lnTo>
                    <a:lnTo>
                      <a:pt x="201" y="619"/>
                    </a:lnTo>
                    <a:lnTo>
                      <a:pt x="162" y="633"/>
                    </a:lnTo>
                    <a:lnTo>
                      <a:pt x="118" y="640"/>
                    </a:lnTo>
                    <a:lnTo>
                      <a:pt x="88" y="655"/>
                    </a:lnTo>
                    <a:lnTo>
                      <a:pt x="63" y="666"/>
                    </a:lnTo>
                    <a:lnTo>
                      <a:pt x="27" y="666"/>
                    </a:lnTo>
                    <a:lnTo>
                      <a:pt x="16" y="655"/>
                    </a:lnTo>
                    <a:lnTo>
                      <a:pt x="30" y="642"/>
                    </a:lnTo>
                    <a:lnTo>
                      <a:pt x="67" y="628"/>
                    </a:lnTo>
                    <a:lnTo>
                      <a:pt x="94" y="606"/>
                    </a:lnTo>
                    <a:lnTo>
                      <a:pt x="120" y="588"/>
                    </a:lnTo>
                    <a:lnTo>
                      <a:pt x="136" y="576"/>
                    </a:lnTo>
                    <a:lnTo>
                      <a:pt x="162" y="567"/>
                    </a:lnTo>
                    <a:lnTo>
                      <a:pt x="204" y="531"/>
                    </a:lnTo>
                    <a:lnTo>
                      <a:pt x="231" y="510"/>
                    </a:lnTo>
                    <a:lnTo>
                      <a:pt x="247" y="504"/>
                    </a:lnTo>
                    <a:lnTo>
                      <a:pt x="250" y="429"/>
                    </a:lnTo>
                    <a:lnTo>
                      <a:pt x="204" y="396"/>
                    </a:lnTo>
                    <a:lnTo>
                      <a:pt x="190" y="390"/>
                    </a:lnTo>
                    <a:lnTo>
                      <a:pt x="129" y="385"/>
                    </a:lnTo>
                    <a:lnTo>
                      <a:pt x="105" y="369"/>
                    </a:lnTo>
                    <a:lnTo>
                      <a:pt x="81" y="355"/>
                    </a:lnTo>
                    <a:lnTo>
                      <a:pt x="63" y="345"/>
                    </a:lnTo>
                    <a:lnTo>
                      <a:pt x="34" y="339"/>
                    </a:lnTo>
                    <a:lnTo>
                      <a:pt x="3" y="307"/>
                    </a:lnTo>
                    <a:lnTo>
                      <a:pt x="0" y="291"/>
                    </a:lnTo>
                    <a:lnTo>
                      <a:pt x="9" y="285"/>
                    </a:lnTo>
                    <a:lnTo>
                      <a:pt x="39" y="286"/>
                    </a:lnTo>
                    <a:lnTo>
                      <a:pt x="67" y="301"/>
                    </a:lnTo>
                    <a:lnTo>
                      <a:pt x="85" y="304"/>
                    </a:lnTo>
                    <a:lnTo>
                      <a:pt x="115" y="306"/>
                    </a:lnTo>
                    <a:lnTo>
                      <a:pt x="148" y="318"/>
                    </a:lnTo>
                    <a:lnTo>
                      <a:pt x="165" y="324"/>
                    </a:lnTo>
                    <a:lnTo>
                      <a:pt x="226" y="327"/>
                    </a:lnTo>
                    <a:lnTo>
                      <a:pt x="258" y="334"/>
                    </a:lnTo>
                    <a:lnTo>
                      <a:pt x="279" y="334"/>
                    </a:lnTo>
                  </a:path>
                </a:pathLst>
              </a:cu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9360" y="3313080"/>
                <a:ext cx="1413000" cy="1454040"/>
              </a:xfrm>
              <a:custGeom>
                <a:avLst/>
                <a:gdLst/>
                <a:ahLst/>
                <a:rect l="l" t="t" r="r" b="b"/>
                <a:pathLst>
                  <a:path w="890" h="916">
                    <a:moveTo>
                      <a:pt x="279" y="334"/>
                    </a:moveTo>
                    <a:lnTo>
                      <a:pt x="292" y="312"/>
                    </a:lnTo>
                    <a:lnTo>
                      <a:pt x="307" y="292"/>
                    </a:lnTo>
                    <a:lnTo>
                      <a:pt x="324" y="276"/>
                    </a:lnTo>
                    <a:lnTo>
                      <a:pt x="313" y="255"/>
                    </a:lnTo>
                    <a:lnTo>
                      <a:pt x="307" y="234"/>
                    </a:lnTo>
                    <a:lnTo>
                      <a:pt x="288" y="202"/>
                    </a:lnTo>
                    <a:lnTo>
                      <a:pt x="274" y="181"/>
                    </a:lnTo>
                    <a:lnTo>
                      <a:pt x="261" y="159"/>
                    </a:lnTo>
                    <a:lnTo>
                      <a:pt x="256" y="139"/>
                    </a:lnTo>
                    <a:lnTo>
                      <a:pt x="256" y="118"/>
                    </a:lnTo>
                    <a:lnTo>
                      <a:pt x="247" y="91"/>
                    </a:lnTo>
                    <a:lnTo>
                      <a:pt x="237" y="70"/>
                    </a:lnTo>
                    <a:lnTo>
                      <a:pt x="226" y="46"/>
                    </a:lnTo>
                    <a:lnTo>
                      <a:pt x="225" y="24"/>
                    </a:lnTo>
                    <a:lnTo>
                      <a:pt x="232" y="10"/>
                    </a:lnTo>
                    <a:lnTo>
                      <a:pt x="247" y="9"/>
                    </a:lnTo>
                    <a:lnTo>
                      <a:pt x="259" y="21"/>
                    </a:lnTo>
                    <a:lnTo>
                      <a:pt x="270" y="46"/>
                    </a:lnTo>
                    <a:lnTo>
                      <a:pt x="280" y="61"/>
                    </a:lnTo>
                    <a:lnTo>
                      <a:pt x="298" y="82"/>
                    </a:lnTo>
                    <a:lnTo>
                      <a:pt x="309" y="88"/>
                    </a:lnTo>
                    <a:lnTo>
                      <a:pt x="315" y="99"/>
                    </a:lnTo>
                    <a:lnTo>
                      <a:pt x="322" y="118"/>
                    </a:lnTo>
                    <a:lnTo>
                      <a:pt x="330" y="141"/>
                    </a:lnTo>
                    <a:lnTo>
                      <a:pt x="339" y="160"/>
                    </a:lnTo>
                    <a:lnTo>
                      <a:pt x="358" y="180"/>
                    </a:lnTo>
                    <a:lnTo>
                      <a:pt x="379" y="205"/>
                    </a:lnTo>
                    <a:lnTo>
                      <a:pt x="399" y="225"/>
                    </a:lnTo>
                    <a:lnTo>
                      <a:pt x="406" y="240"/>
                    </a:lnTo>
                    <a:lnTo>
                      <a:pt x="474" y="241"/>
                    </a:lnTo>
                    <a:lnTo>
                      <a:pt x="495" y="208"/>
                    </a:lnTo>
                    <a:lnTo>
                      <a:pt x="505" y="184"/>
                    </a:lnTo>
                    <a:lnTo>
                      <a:pt x="507" y="160"/>
                    </a:lnTo>
                    <a:lnTo>
                      <a:pt x="510" y="141"/>
                    </a:lnTo>
                    <a:lnTo>
                      <a:pt x="514" y="118"/>
                    </a:lnTo>
                    <a:lnTo>
                      <a:pt x="529" y="94"/>
                    </a:lnTo>
                    <a:lnTo>
                      <a:pt x="540" y="85"/>
                    </a:lnTo>
                    <a:lnTo>
                      <a:pt x="552" y="69"/>
                    </a:lnTo>
                    <a:lnTo>
                      <a:pt x="561" y="45"/>
                    </a:lnTo>
                    <a:lnTo>
                      <a:pt x="571" y="27"/>
                    </a:lnTo>
                    <a:lnTo>
                      <a:pt x="589" y="13"/>
                    </a:lnTo>
                    <a:lnTo>
                      <a:pt x="604" y="0"/>
                    </a:lnTo>
                    <a:lnTo>
                      <a:pt x="613" y="6"/>
                    </a:lnTo>
                    <a:lnTo>
                      <a:pt x="615" y="16"/>
                    </a:lnTo>
                    <a:lnTo>
                      <a:pt x="606" y="27"/>
                    </a:lnTo>
                    <a:lnTo>
                      <a:pt x="603" y="34"/>
                    </a:lnTo>
                    <a:lnTo>
                      <a:pt x="600" y="49"/>
                    </a:lnTo>
                    <a:lnTo>
                      <a:pt x="600" y="79"/>
                    </a:lnTo>
                    <a:lnTo>
                      <a:pt x="600" y="103"/>
                    </a:lnTo>
                    <a:lnTo>
                      <a:pt x="592" y="124"/>
                    </a:lnTo>
                    <a:lnTo>
                      <a:pt x="583" y="145"/>
                    </a:lnTo>
                    <a:lnTo>
                      <a:pt x="576" y="162"/>
                    </a:lnTo>
                    <a:lnTo>
                      <a:pt x="574" y="186"/>
                    </a:lnTo>
                    <a:lnTo>
                      <a:pt x="574" y="216"/>
                    </a:lnTo>
                    <a:lnTo>
                      <a:pt x="568" y="244"/>
                    </a:lnTo>
                    <a:lnTo>
                      <a:pt x="568" y="282"/>
                    </a:lnTo>
                    <a:lnTo>
                      <a:pt x="588" y="300"/>
                    </a:lnTo>
                    <a:lnTo>
                      <a:pt x="607" y="325"/>
                    </a:lnTo>
                    <a:lnTo>
                      <a:pt x="645" y="325"/>
                    </a:lnTo>
                    <a:lnTo>
                      <a:pt x="678" y="312"/>
                    </a:lnTo>
                    <a:lnTo>
                      <a:pt x="697" y="292"/>
                    </a:lnTo>
                    <a:lnTo>
                      <a:pt x="720" y="277"/>
                    </a:lnTo>
                    <a:lnTo>
                      <a:pt x="777" y="274"/>
                    </a:lnTo>
                    <a:lnTo>
                      <a:pt x="801" y="265"/>
                    </a:lnTo>
                    <a:lnTo>
                      <a:pt x="816" y="253"/>
                    </a:lnTo>
                    <a:lnTo>
                      <a:pt x="859" y="252"/>
                    </a:lnTo>
                    <a:lnTo>
                      <a:pt x="865" y="265"/>
                    </a:lnTo>
                    <a:lnTo>
                      <a:pt x="861" y="279"/>
                    </a:lnTo>
                    <a:lnTo>
                      <a:pt x="843" y="288"/>
                    </a:lnTo>
                    <a:lnTo>
                      <a:pt x="819" y="300"/>
                    </a:lnTo>
                    <a:lnTo>
                      <a:pt x="796" y="324"/>
                    </a:lnTo>
                    <a:lnTo>
                      <a:pt x="786" y="334"/>
                    </a:lnTo>
                    <a:lnTo>
                      <a:pt x="765" y="343"/>
                    </a:lnTo>
                    <a:lnTo>
                      <a:pt x="735" y="352"/>
                    </a:lnTo>
                    <a:lnTo>
                      <a:pt x="714" y="367"/>
                    </a:lnTo>
                    <a:lnTo>
                      <a:pt x="687" y="390"/>
                    </a:lnTo>
                    <a:lnTo>
                      <a:pt x="669" y="409"/>
                    </a:lnTo>
                    <a:lnTo>
                      <a:pt x="649" y="420"/>
                    </a:lnTo>
                    <a:lnTo>
                      <a:pt x="648" y="481"/>
                    </a:lnTo>
                    <a:lnTo>
                      <a:pt x="673" y="510"/>
                    </a:lnTo>
                    <a:lnTo>
                      <a:pt x="703" y="526"/>
                    </a:lnTo>
                    <a:lnTo>
                      <a:pt x="730" y="531"/>
                    </a:lnTo>
                    <a:lnTo>
                      <a:pt x="751" y="535"/>
                    </a:lnTo>
                    <a:lnTo>
                      <a:pt x="777" y="549"/>
                    </a:lnTo>
                    <a:lnTo>
                      <a:pt x="795" y="567"/>
                    </a:lnTo>
                    <a:lnTo>
                      <a:pt x="819" y="577"/>
                    </a:lnTo>
                    <a:lnTo>
                      <a:pt x="846" y="583"/>
                    </a:lnTo>
                    <a:lnTo>
                      <a:pt x="861" y="592"/>
                    </a:lnTo>
                    <a:lnTo>
                      <a:pt x="874" y="606"/>
                    </a:lnTo>
                    <a:lnTo>
                      <a:pt x="889" y="621"/>
                    </a:lnTo>
                    <a:lnTo>
                      <a:pt x="888" y="634"/>
                    </a:lnTo>
                    <a:lnTo>
                      <a:pt x="867" y="637"/>
                    </a:lnTo>
                    <a:lnTo>
                      <a:pt x="853" y="631"/>
                    </a:lnTo>
                    <a:lnTo>
                      <a:pt x="832" y="618"/>
                    </a:lnTo>
                    <a:lnTo>
                      <a:pt x="807" y="618"/>
                    </a:lnTo>
                    <a:lnTo>
                      <a:pt x="780" y="618"/>
                    </a:lnTo>
                    <a:lnTo>
                      <a:pt x="759" y="615"/>
                    </a:lnTo>
                    <a:lnTo>
                      <a:pt x="736" y="592"/>
                    </a:lnTo>
                    <a:lnTo>
                      <a:pt x="718" y="588"/>
                    </a:lnTo>
                    <a:lnTo>
                      <a:pt x="684" y="588"/>
                    </a:lnTo>
                    <a:lnTo>
                      <a:pt x="615" y="588"/>
                    </a:lnTo>
                    <a:lnTo>
                      <a:pt x="604" y="606"/>
                    </a:lnTo>
                    <a:lnTo>
                      <a:pt x="589" y="621"/>
                    </a:lnTo>
                    <a:lnTo>
                      <a:pt x="576" y="628"/>
                    </a:lnTo>
                    <a:lnTo>
                      <a:pt x="580" y="666"/>
                    </a:lnTo>
                    <a:lnTo>
                      <a:pt x="600" y="702"/>
                    </a:lnTo>
                    <a:lnTo>
                      <a:pt x="618" y="723"/>
                    </a:lnTo>
                    <a:lnTo>
                      <a:pt x="630" y="753"/>
                    </a:lnTo>
                    <a:lnTo>
                      <a:pt x="631" y="787"/>
                    </a:lnTo>
                    <a:lnTo>
                      <a:pt x="640" y="807"/>
                    </a:lnTo>
                    <a:lnTo>
                      <a:pt x="654" y="838"/>
                    </a:lnTo>
                    <a:lnTo>
                      <a:pt x="664" y="862"/>
                    </a:lnTo>
                    <a:lnTo>
                      <a:pt x="664" y="889"/>
                    </a:lnTo>
                    <a:lnTo>
                      <a:pt x="654" y="898"/>
                    </a:lnTo>
                    <a:lnTo>
                      <a:pt x="642" y="898"/>
                    </a:lnTo>
                    <a:lnTo>
                      <a:pt x="624" y="870"/>
                    </a:lnTo>
                    <a:lnTo>
                      <a:pt x="612" y="837"/>
                    </a:lnTo>
                    <a:lnTo>
                      <a:pt x="583" y="808"/>
                    </a:lnTo>
                    <a:lnTo>
                      <a:pt x="568" y="789"/>
                    </a:lnTo>
                    <a:lnTo>
                      <a:pt x="556" y="760"/>
                    </a:lnTo>
                    <a:lnTo>
                      <a:pt x="549" y="738"/>
                    </a:lnTo>
                    <a:lnTo>
                      <a:pt x="513" y="708"/>
                    </a:lnTo>
                    <a:lnTo>
                      <a:pt x="489" y="682"/>
                    </a:lnTo>
                    <a:lnTo>
                      <a:pt x="415" y="684"/>
                    </a:lnTo>
                    <a:lnTo>
                      <a:pt x="390" y="730"/>
                    </a:lnTo>
                    <a:lnTo>
                      <a:pt x="372" y="759"/>
                    </a:lnTo>
                    <a:lnTo>
                      <a:pt x="361" y="798"/>
                    </a:lnTo>
                    <a:lnTo>
                      <a:pt x="339" y="838"/>
                    </a:lnTo>
                    <a:lnTo>
                      <a:pt x="316" y="874"/>
                    </a:lnTo>
                    <a:lnTo>
                      <a:pt x="294" y="907"/>
                    </a:lnTo>
                    <a:lnTo>
                      <a:pt x="285" y="915"/>
                    </a:lnTo>
                    <a:lnTo>
                      <a:pt x="268" y="909"/>
                    </a:lnTo>
                    <a:lnTo>
                      <a:pt x="268" y="894"/>
                    </a:lnTo>
                    <a:lnTo>
                      <a:pt x="276" y="867"/>
                    </a:lnTo>
                    <a:lnTo>
                      <a:pt x="291" y="837"/>
                    </a:lnTo>
                    <a:lnTo>
                      <a:pt x="294" y="790"/>
                    </a:lnTo>
                    <a:lnTo>
                      <a:pt x="298" y="766"/>
                    </a:lnTo>
                    <a:lnTo>
                      <a:pt x="313" y="744"/>
                    </a:lnTo>
                    <a:lnTo>
                      <a:pt x="319" y="699"/>
                    </a:lnTo>
                    <a:lnTo>
                      <a:pt x="324" y="664"/>
                    </a:lnTo>
                    <a:lnTo>
                      <a:pt x="336" y="637"/>
                    </a:lnTo>
                    <a:lnTo>
                      <a:pt x="309" y="609"/>
                    </a:lnTo>
                    <a:lnTo>
                      <a:pt x="283" y="583"/>
                    </a:lnTo>
                    <a:lnTo>
                      <a:pt x="271" y="577"/>
                    </a:lnTo>
                    <a:lnTo>
                      <a:pt x="231" y="601"/>
                    </a:lnTo>
                    <a:lnTo>
                      <a:pt x="201" y="619"/>
                    </a:lnTo>
                    <a:lnTo>
                      <a:pt x="162" y="633"/>
                    </a:lnTo>
                    <a:lnTo>
                      <a:pt x="118" y="640"/>
                    </a:lnTo>
                    <a:lnTo>
                      <a:pt x="88" y="655"/>
                    </a:lnTo>
                    <a:lnTo>
                      <a:pt x="63" y="666"/>
                    </a:lnTo>
                    <a:lnTo>
                      <a:pt x="27" y="666"/>
                    </a:lnTo>
                    <a:lnTo>
                      <a:pt x="16" y="655"/>
                    </a:lnTo>
                    <a:lnTo>
                      <a:pt x="30" y="642"/>
                    </a:lnTo>
                    <a:lnTo>
                      <a:pt x="67" y="628"/>
                    </a:lnTo>
                    <a:lnTo>
                      <a:pt x="94" y="606"/>
                    </a:lnTo>
                    <a:lnTo>
                      <a:pt x="120" y="588"/>
                    </a:lnTo>
                    <a:lnTo>
                      <a:pt x="136" y="576"/>
                    </a:lnTo>
                    <a:lnTo>
                      <a:pt x="162" y="567"/>
                    </a:lnTo>
                    <a:lnTo>
                      <a:pt x="204" y="531"/>
                    </a:lnTo>
                    <a:lnTo>
                      <a:pt x="231" y="510"/>
                    </a:lnTo>
                    <a:lnTo>
                      <a:pt x="247" y="504"/>
                    </a:lnTo>
                    <a:lnTo>
                      <a:pt x="250" y="429"/>
                    </a:lnTo>
                    <a:lnTo>
                      <a:pt x="204" y="396"/>
                    </a:lnTo>
                    <a:lnTo>
                      <a:pt x="190" y="390"/>
                    </a:lnTo>
                    <a:lnTo>
                      <a:pt x="129" y="385"/>
                    </a:lnTo>
                    <a:lnTo>
                      <a:pt x="105" y="369"/>
                    </a:lnTo>
                    <a:lnTo>
                      <a:pt x="81" y="355"/>
                    </a:lnTo>
                    <a:lnTo>
                      <a:pt x="63" y="345"/>
                    </a:lnTo>
                    <a:lnTo>
                      <a:pt x="34" y="339"/>
                    </a:lnTo>
                    <a:lnTo>
                      <a:pt x="3" y="307"/>
                    </a:lnTo>
                    <a:lnTo>
                      <a:pt x="0" y="291"/>
                    </a:lnTo>
                    <a:lnTo>
                      <a:pt x="9" y="285"/>
                    </a:lnTo>
                    <a:lnTo>
                      <a:pt x="39" y="286"/>
                    </a:lnTo>
                    <a:lnTo>
                      <a:pt x="67" y="301"/>
                    </a:lnTo>
                    <a:lnTo>
                      <a:pt x="85" y="304"/>
                    </a:lnTo>
                    <a:lnTo>
                      <a:pt x="115" y="306"/>
                    </a:lnTo>
                    <a:lnTo>
                      <a:pt x="148" y="318"/>
                    </a:lnTo>
                    <a:lnTo>
                      <a:pt x="165" y="324"/>
                    </a:lnTo>
                    <a:lnTo>
                      <a:pt x="226" y="327"/>
                    </a:lnTo>
                    <a:lnTo>
                      <a:pt x="258" y="334"/>
                    </a:lnTo>
                    <a:lnTo>
                      <a:pt x="279" y="334"/>
                    </a:lnTo>
                  </a:path>
                </a:pathLst>
              </a:cu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360" y="5016600"/>
                <a:ext cx="1413000" cy="1454040"/>
              </a:xfrm>
              <a:custGeom>
                <a:avLst/>
                <a:gdLst/>
                <a:ahLst/>
                <a:rect l="l" t="t" r="r" b="b"/>
                <a:pathLst>
                  <a:path w="890" h="916">
                    <a:moveTo>
                      <a:pt x="279" y="334"/>
                    </a:moveTo>
                    <a:lnTo>
                      <a:pt x="292" y="312"/>
                    </a:lnTo>
                    <a:lnTo>
                      <a:pt x="307" y="292"/>
                    </a:lnTo>
                    <a:lnTo>
                      <a:pt x="324" y="276"/>
                    </a:lnTo>
                    <a:lnTo>
                      <a:pt x="313" y="255"/>
                    </a:lnTo>
                    <a:lnTo>
                      <a:pt x="307" y="234"/>
                    </a:lnTo>
                    <a:lnTo>
                      <a:pt x="288" y="202"/>
                    </a:lnTo>
                    <a:lnTo>
                      <a:pt x="274" y="181"/>
                    </a:lnTo>
                    <a:lnTo>
                      <a:pt x="261" y="159"/>
                    </a:lnTo>
                    <a:lnTo>
                      <a:pt x="256" y="139"/>
                    </a:lnTo>
                    <a:lnTo>
                      <a:pt x="256" y="118"/>
                    </a:lnTo>
                    <a:lnTo>
                      <a:pt x="247" y="91"/>
                    </a:lnTo>
                    <a:lnTo>
                      <a:pt x="237" y="70"/>
                    </a:lnTo>
                    <a:lnTo>
                      <a:pt x="226" y="46"/>
                    </a:lnTo>
                    <a:lnTo>
                      <a:pt x="225" y="24"/>
                    </a:lnTo>
                    <a:lnTo>
                      <a:pt x="232" y="10"/>
                    </a:lnTo>
                    <a:lnTo>
                      <a:pt x="247" y="9"/>
                    </a:lnTo>
                    <a:lnTo>
                      <a:pt x="259" y="21"/>
                    </a:lnTo>
                    <a:lnTo>
                      <a:pt x="270" y="46"/>
                    </a:lnTo>
                    <a:lnTo>
                      <a:pt x="280" y="61"/>
                    </a:lnTo>
                    <a:lnTo>
                      <a:pt x="298" y="82"/>
                    </a:lnTo>
                    <a:lnTo>
                      <a:pt x="309" y="88"/>
                    </a:lnTo>
                    <a:lnTo>
                      <a:pt x="315" y="99"/>
                    </a:lnTo>
                    <a:lnTo>
                      <a:pt x="322" y="118"/>
                    </a:lnTo>
                    <a:lnTo>
                      <a:pt x="330" y="141"/>
                    </a:lnTo>
                    <a:lnTo>
                      <a:pt x="339" y="160"/>
                    </a:lnTo>
                    <a:lnTo>
                      <a:pt x="358" y="180"/>
                    </a:lnTo>
                    <a:lnTo>
                      <a:pt x="379" y="205"/>
                    </a:lnTo>
                    <a:lnTo>
                      <a:pt x="399" y="225"/>
                    </a:lnTo>
                    <a:lnTo>
                      <a:pt x="406" y="240"/>
                    </a:lnTo>
                    <a:lnTo>
                      <a:pt x="474" y="241"/>
                    </a:lnTo>
                    <a:lnTo>
                      <a:pt x="495" y="208"/>
                    </a:lnTo>
                    <a:lnTo>
                      <a:pt x="505" y="184"/>
                    </a:lnTo>
                    <a:lnTo>
                      <a:pt x="507" y="160"/>
                    </a:lnTo>
                    <a:lnTo>
                      <a:pt x="510" y="141"/>
                    </a:lnTo>
                    <a:lnTo>
                      <a:pt x="514" y="118"/>
                    </a:lnTo>
                    <a:lnTo>
                      <a:pt x="529" y="94"/>
                    </a:lnTo>
                    <a:lnTo>
                      <a:pt x="540" y="85"/>
                    </a:lnTo>
                    <a:lnTo>
                      <a:pt x="552" y="69"/>
                    </a:lnTo>
                    <a:lnTo>
                      <a:pt x="561" y="45"/>
                    </a:lnTo>
                    <a:lnTo>
                      <a:pt x="571" y="27"/>
                    </a:lnTo>
                    <a:lnTo>
                      <a:pt x="589" y="13"/>
                    </a:lnTo>
                    <a:lnTo>
                      <a:pt x="604" y="0"/>
                    </a:lnTo>
                    <a:lnTo>
                      <a:pt x="613" y="6"/>
                    </a:lnTo>
                    <a:lnTo>
                      <a:pt x="615" y="16"/>
                    </a:lnTo>
                    <a:lnTo>
                      <a:pt x="606" y="27"/>
                    </a:lnTo>
                    <a:lnTo>
                      <a:pt x="603" y="34"/>
                    </a:lnTo>
                    <a:lnTo>
                      <a:pt x="600" y="49"/>
                    </a:lnTo>
                    <a:lnTo>
                      <a:pt x="600" y="79"/>
                    </a:lnTo>
                    <a:lnTo>
                      <a:pt x="600" y="103"/>
                    </a:lnTo>
                    <a:lnTo>
                      <a:pt x="592" y="124"/>
                    </a:lnTo>
                    <a:lnTo>
                      <a:pt x="583" y="145"/>
                    </a:lnTo>
                    <a:lnTo>
                      <a:pt x="576" y="162"/>
                    </a:lnTo>
                    <a:lnTo>
                      <a:pt x="574" y="186"/>
                    </a:lnTo>
                    <a:lnTo>
                      <a:pt x="574" y="216"/>
                    </a:lnTo>
                    <a:lnTo>
                      <a:pt x="568" y="244"/>
                    </a:lnTo>
                    <a:lnTo>
                      <a:pt x="568" y="282"/>
                    </a:lnTo>
                    <a:lnTo>
                      <a:pt x="588" y="300"/>
                    </a:lnTo>
                    <a:lnTo>
                      <a:pt x="607" y="325"/>
                    </a:lnTo>
                    <a:lnTo>
                      <a:pt x="645" y="325"/>
                    </a:lnTo>
                    <a:lnTo>
                      <a:pt x="678" y="312"/>
                    </a:lnTo>
                    <a:lnTo>
                      <a:pt x="697" y="292"/>
                    </a:lnTo>
                    <a:lnTo>
                      <a:pt x="720" y="277"/>
                    </a:lnTo>
                    <a:lnTo>
                      <a:pt x="777" y="274"/>
                    </a:lnTo>
                    <a:lnTo>
                      <a:pt x="801" y="265"/>
                    </a:lnTo>
                    <a:lnTo>
                      <a:pt x="816" y="253"/>
                    </a:lnTo>
                    <a:lnTo>
                      <a:pt x="859" y="252"/>
                    </a:lnTo>
                    <a:lnTo>
                      <a:pt x="865" y="265"/>
                    </a:lnTo>
                    <a:lnTo>
                      <a:pt x="861" y="279"/>
                    </a:lnTo>
                    <a:lnTo>
                      <a:pt x="843" y="288"/>
                    </a:lnTo>
                    <a:lnTo>
                      <a:pt x="819" y="300"/>
                    </a:lnTo>
                    <a:lnTo>
                      <a:pt x="796" y="324"/>
                    </a:lnTo>
                    <a:lnTo>
                      <a:pt x="786" y="334"/>
                    </a:lnTo>
                    <a:lnTo>
                      <a:pt x="765" y="343"/>
                    </a:lnTo>
                    <a:lnTo>
                      <a:pt x="735" y="352"/>
                    </a:lnTo>
                    <a:lnTo>
                      <a:pt x="714" y="367"/>
                    </a:lnTo>
                    <a:lnTo>
                      <a:pt x="687" y="390"/>
                    </a:lnTo>
                    <a:lnTo>
                      <a:pt x="669" y="409"/>
                    </a:lnTo>
                    <a:lnTo>
                      <a:pt x="649" y="420"/>
                    </a:lnTo>
                    <a:lnTo>
                      <a:pt x="648" y="481"/>
                    </a:lnTo>
                    <a:lnTo>
                      <a:pt x="673" y="510"/>
                    </a:lnTo>
                    <a:lnTo>
                      <a:pt x="703" y="526"/>
                    </a:lnTo>
                    <a:lnTo>
                      <a:pt x="730" y="531"/>
                    </a:lnTo>
                    <a:lnTo>
                      <a:pt x="751" y="535"/>
                    </a:lnTo>
                    <a:lnTo>
                      <a:pt x="777" y="549"/>
                    </a:lnTo>
                    <a:lnTo>
                      <a:pt x="795" y="567"/>
                    </a:lnTo>
                    <a:lnTo>
                      <a:pt x="819" y="577"/>
                    </a:lnTo>
                    <a:lnTo>
                      <a:pt x="846" y="583"/>
                    </a:lnTo>
                    <a:lnTo>
                      <a:pt x="861" y="592"/>
                    </a:lnTo>
                    <a:lnTo>
                      <a:pt x="874" y="606"/>
                    </a:lnTo>
                    <a:lnTo>
                      <a:pt x="889" y="621"/>
                    </a:lnTo>
                    <a:lnTo>
                      <a:pt x="888" y="634"/>
                    </a:lnTo>
                    <a:lnTo>
                      <a:pt x="867" y="637"/>
                    </a:lnTo>
                    <a:lnTo>
                      <a:pt x="853" y="631"/>
                    </a:lnTo>
                    <a:lnTo>
                      <a:pt x="832" y="618"/>
                    </a:lnTo>
                    <a:lnTo>
                      <a:pt x="807" y="618"/>
                    </a:lnTo>
                    <a:lnTo>
                      <a:pt x="780" y="618"/>
                    </a:lnTo>
                    <a:lnTo>
                      <a:pt x="759" y="615"/>
                    </a:lnTo>
                    <a:lnTo>
                      <a:pt x="736" y="592"/>
                    </a:lnTo>
                    <a:lnTo>
                      <a:pt x="718" y="588"/>
                    </a:lnTo>
                    <a:lnTo>
                      <a:pt x="684" y="588"/>
                    </a:lnTo>
                    <a:lnTo>
                      <a:pt x="615" y="588"/>
                    </a:lnTo>
                    <a:lnTo>
                      <a:pt x="604" y="606"/>
                    </a:lnTo>
                    <a:lnTo>
                      <a:pt x="589" y="621"/>
                    </a:lnTo>
                    <a:lnTo>
                      <a:pt x="576" y="628"/>
                    </a:lnTo>
                    <a:lnTo>
                      <a:pt x="580" y="666"/>
                    </a:lnTo>
                    <a:lnTo>
                      <a:pt x="600" y="702"/>
                    </a:lnTo>
                    <a:lnTo>
                      <a:pt x="618" y="723"/>
                    </a:lnTo>
                    <a:lnTo>
                      <a:pt x="630" y="753"/>
                    </a:lnTo>
                    <a:lnTo>
                      <a:pt x="631" y="787"/>
                    </a:lnTo>
                    <a:lnTo>
                      <a:pt x="640" y="807"/>
                    </a:lnTo>
                    <a:lnTo>
                      <a:pt x="654" y="838"/>
                    </a:lnTo>
                    <a:lnTo>
                      <a:pt x="664" y="862"/>
                    </a:lnTo>
                    <a:lnTo>
                      <a:pt x="664" y="889"/>
                    </a:lnTo>
                    <a:lnTo>
                      <a:pt x="654" y="898"/>
                    </a:lnTo>
                    <a:lnTo>
                      <a:pt x="642" y="898"/>
                    </a:lnTo>
                    <a:lnTo>
                      <a:pt x="624" y="870"/>
                    </a:lnTo>
                    <a:lnTo>
                      <a:pt x="612" y="837"/>
                    </a:lnTo>
                    <a:lnTo>
                      <a:pt x="583" y="808"/>
                    </a:lnTo>
                    <a:lnTo>
                      <a:pt x="568" y="789"/>
                    </a:lnTo>
                    <a:lnTo>
                      <a:pt x="556" y="760"/>
                    </a:lnTo>
                    <a:lnTo>
                      <a:pt x="549" y="738"/>
                    </a:lnTo>
                    <a:lnTo>
                      <a:pt x="513" y="708"/>
                    </a:lnTo>
                    <a:lnTo>
                      <a:pt x="489" y="682"/>
                    </a:lnTo>
                    <a:lnTo>
                      <a:pt x="415" y="684"/>
                    </a:lnTo>
                    <a:lnTo>
                      <a:pt x="390" y="730"/>
                    </a:lnTo>
                    <a:lnTo>
                      <a:pt x="372" y="759"/>
                    </a:lnTo>
                    <a:lnTo>
                      <a:pt x="361" y="798"/>
                    </a:lnTo>
                    <a:lnTo>
                      <a:pt x="339" y="838"/>
                    </a:lnTo>
                    <a:lnTo>
                      <a:pt x="316" y="874"/>
                    </a:lnTo>
                    <a:lnTo>
                      <a:pt x="294" y="907"/>
                    </a:lnTo>
                    <a:lnTo>
                      <a:pt x="285" y="915"/>
                    </a:lnTo>
                    <a:lnTo>
                      <a:pt x="268" y="909"/>
                    </a:lnTo>
                    <a:lnTo>
                      <a:pt x="268" y="894"/>
                    </a:lnTo>
                    <a:lnTo>
                      <a:pt x="276" y="867"/>
                    </a:lnTo>
                    <a:lnTo>
                      <a:pt x="291" y="837"/>
                    </a:lnTo>
                    <a:lnTo>
                      <a:pt x="294" y="790"/>
                    </a:lnTo>
                    <a:lnTo>
                      <a:pt x="298" y="766"/>
                    </a:lnTo>
                    <a:lnTo>
                      <a:pt x="313" y="744"/>
                    </a:lnTo>
                    <a:lnTo>
                      <a:pt x="319" y="699"/>
                    </a:lnTo>
                    <a:lnTo>
                      <a:pt x="324" y="664"/>
                    </a:lnTo>
                    <a:lnTo>
                      <a:pt x="336" y="637"/>
                    </a:lnTo>
                    <a:lnTo>
                      <a:pt x="309" y="609"/>
                    </a:lnTo>
                    <a:lnTo>
                      <a:pt x="283" y="583"/>
                    </a:lnTo>
                    <a:lnTo>
                      <a:pt x="271" y="577"/>
                    </a:lnTo>
                    <a:lnTo>
                      <a:pt x="231" y="601"/>
                    </a:lnTo>
                    <a:lnTo>
                      <a:pt x="201" y="619"/>
                    </a:lnTo>
                    <a:lnTo>
                      <a:pt x="162" y="633"/>
                    </a:lnTo>
                    <a:lnTo>
                      <a:pt x="118" y="640"/>
                    </a:lnTo>
                    <a:lnTo>
                      <a:pt x="88" y="655"/>
                    </a:lnTo>
                    <a:lnTo>
                      <a:pt x="63" y="666"/>
                    </a:lnTo>
                    <a:lnTo>
                      <a:pt x="27" y="666"/>
                    </a:lnTo>
                    <a:lnTo>
                      <a:pt x="16" y="655"/>
                    </a:lnTo>
                    <a:lnTo>
                      <a:pt x="30" y="642"/>
                    </a:lnTo>
                    <a:lnTo>
                      <a:pt x="67" y="628"/>
                    </a:lnTo>
                    <a:lnTo>
                      <a:pt x="94" y="606"/>
                    </a:lnTo>
                    <a:lnTo>
                      <a:pt x="120" y="588"/>
                    </a:lnTo>
                    <a:lnTo>
                      <a:pt x="136" y="576"/>
                    </a:lnTo>
                    <a:lnTo>
                      <a:pt x="162" y="567"/>
                    </a:lnTo>
                    <a:lnTo>
                      <a:pt x="204" y="531"/>
                    </a:lnTo>
                    <a:lnTo>
                      <a:pt x="231" y="510"/>
                    </a:lnTo>
                    <a:lnTo>
                      <a:pt x="247" y="504"/>
                    </a:lnTo>
                    <a:lnTo>
                      <a:pt x="250" y="429"/>
                    </a:lnTo>
                    <a:lnTo>
                      <a:pt x="204" y="396"/>
                    </a:lnTo>
                    <a:lnTo>
                      <a:pt x="190" y="390"/>
                    </a:lnTo>
                    <a:lnTo>
                      <a:pt x="129" y="385"/>
                    </a:lnTo>
                    <a:lnTo>
                      <a:pt x="105" y="369"/>
                    </a:lnTo>
                    <a:lnTo>
                      <a:pt x="81" y="355"/>
                    </a:lnTo>
                    <a:lnTo>
                      <a:pt x="63" y="345"/>
                    </a:lnTo>
                    <a:lnTo>
                      <a:pt x="34" y="339"/>
                    </a:lnTo>
                    <a:lnTo>
                      <a:pt x="3" y="307"/>
                    </a:lnTo>
                    <a:lnTo>
                      <a:pt x="0" y="291"/>
                    </a:lnTo>
                    <a:lnTo>
                      <a:pt x="9" y="285"/>
                    </a:lnTo>
                    <a:lnTo>
                      <a:pt x="39" y="286"/>
                    </a:lnTo>
                    <a:lnTo>
                      <a:pt x="67" y="301"/>
                    </a:lnTo>
                    <a:lnTo>
                      <a:pt x="85" y="304"/>
                    </a:lnTo>
                    <a:lnTo>
                      <a:pt x="115" y="306"/>
                    </a:lnTo>
                    <a:lnTo>
                      <a:pt x="148" y="318"/>
                    </a:lnTo>
                    <a:lnTo>
                      <a:pt x="165" y="324"/>
                    </a:lnTo>
                    <a:lnTo>
                      <a:pt x="226" y="327"/>
                    </a:lnTo>
                    <a:lnTo>
                      <a:pt x="258" y="334"/>
                    </a:lnTo>
                    <a:lnTo>
                      <a:pt x="279" y="334"/>
                    </a:lnTo>
                  </a:path>
                </a:pathLst>
              </a:cu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1576440" y="1631880"/>
              <a:ext cx="7566120" cy="189000"/>
              <a:chOff x="1576440" y="1631880"/>
              <a:chExt cx="7566120" cy="189000"/>
            </a:xfrm>
          </p:grpSpPr>
          <p:sp>
            <p:nvSpPr>
              <p:cNvPr id="8" name=""/>
              <p:cNvSpPr/>
              <p:nvPr/>
            </p:nvSpPr>
            <p:spPr>
              <a:xfrm>
                <a:off x="1581120" y="1643040"/>
                <a:ext cx="7561440" cy="168120"/>
              </a:xfrm>
              <a:prstGeom prst="rect">
                <a:avLst/>
              </a:prstGeom>
              <a:gradFill rotWithShape="0">
                <a:gsLst>
                  <a:gs pos="0">
                    <a:srgbClr val="ffa800"/>
                  </a:gs>
                  <a:gs pos="100000">
                    <a:srgbClr val="8256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585800" y="181764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1585800" y="177948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585800" y="173196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1585800" y="167796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1576440" y="1631880"/>
                <a:ext cx="7564320" cy="189000"/>
              </a:xfrm>
              <a:custGeom>
                <a:avLst/>
                <a:gdLst/>
                <a:ahLst/>
                <a:rect l="l" t="t" r="r" b="b"/>
                <a:pathLst>
                  <a:path w="4765" h="119">
                    <a:moveTo>
                      <a:pt x="0" y="118"/>
                    </a:moveTo>
                    <a:lnTo>
                      <a:pt x="0" y="0"/>
                    </a:lnTo>
                    <a:lnTo>
                      <a:pt x="4764" y="0"/>
                    </a:lnTo>
                  </a:path>
                </a:pathLst>
              </a:custGeom>
              <a:noFill/>
              <a:ln cap="rnd" w="12600">
                <a:solidFill>
                  <a:srgbClr val="ffcc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body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dt" idx="1"/>
          </p:nvPr>
        </p:nvSpPr>
        <p:spPr>
          <a:xfrm>
            <a:off x="1481040" y="6248520"/>
            <a:ext cx="17827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9663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ftr" idx="2"/>
          </p:nvPr>
        </p:nvSpPr>
        <p:spPr>
          <a:xfrm>
            <a:off x="3796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9663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5"/>
          <p:cNvSpPr>
            <a:spLocks noGrp="1"/>
          </p:cNvSpPr>
          <p:nvPr>
            <p:ph type="sldNum" idx="3"/>
          </p:nvPr>
        </p:nvSpPr>
        <p:spPr>
          <a:xfrm>
            <a:off x="7226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32361-7264-43ED-B10D-00216D518607}" type="slidenum">
              <a:rPr b="0" lang="ru-RU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0" y="0"/>
            <a:ext cx="9093240" cy="6856560"/>
            <a:chOff x="0" y="0"/>
            <a:chExt cx="9093240" cy="6856560"/>
          </a:xfrm>
        </p:grpSpPr>
        <p:grpSp>
          <p:nvGrpSpPr>
            <p:cNvPr id="56" name=""/>
            <p:cNvGrpSpPr/>
            <p:nvPr/>
          </p:nvGrpSpPr>
          <p:grpSpPr>
            <a:xfrm>
              <a:off x="1527120" y="3090960"/>
              <a:ext cx="7566120" cy="188640"/>
              <a:chOff x="1527120" y="3090960"/>
              <a:chExt cx="7566120" cy="188640"/>
            </a:xfrm>
          </p:grpSpPr>
          <p:sp>
            <p:nvSpPr>
              <p:cNvPr id="57" name=""/>
              <p:cNvSpPr/>
              <p:nvPr/>
            </p:nvSpPr>
            <p:spPr>
              <a:xfrm>
                <a:off x="1531800" y="3101760"/>
                <a:ext cx="7561440" cy="167760"/>
              </a:xfrm>
              <a:prstGeom prst="rect">
                <a:avLst/>
              </a:prstGeom>
              <a:gradFill rotWithShape="0">
                <a:gsLst>
                  <a:gs pos="0">
                    <a:srgbClr val="ffa800"/>
                  </a:gs>
                  <a:gs pos="100000">
                    <a:srgbClr val="8256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536480" y="327636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536480" y="323820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536480" y="319068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536480" y="313668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527120" y="3090960"/>
                <a:ext cx="7564320" cy="188640"/>
              </a:xfrm>
              <a:custGeom>
                <a:avLst/>
                <a:gdLst/>
                <a:ahLst/>
                <a:rect l="l" t="t" r="r" b="b"/>
                <a:pathLst>
                  <a:path w="4765" h="119">
                    <a:moveTo>
                      <a:pt x="0" y="118"/>
                    </a:moveTo>
                    <a:lnTo>
                      <a:pt x="0" y="0"/>
                    </a:lnTo>
                    <a:lnTo>
                      <a:pt x="4764" y="0"/>
                    </a:lnTo>
                  </a:path>
                </a:pathLst>
              </a:custGeom>
              <a:noFill/>
              <a:ln cap="rnd" w="12600">
                <a:solidFill>
                  <a:srgbClr val="ffcc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" name=""/>
            <p:cNvGrpSpPr/>
            <p:nvPr/>
          </p:nvGrpSpPr>
          <p:grpSpPr>
            <a:xfrm>
              <a:off x="0" y="0"/>
              <a:ext cx="1473120" cy="6856560"/>
              <a:chOff x="0" y="0"/>
              <a:chExt cx="1473120" cy="6856560"/>
            </a:xfrm>
          </p:grpSpPr>
          <p:sp>
            <p:nvSpPr>
              <p:cNvPr id="64" name=""/>
              <p:cNvSpPr/>
              <p:nvPr/>
            </p:nvSpPr>
            <p:spPr>
              <a:xfrm>
                <a:off x="0" y="0"/>
                <a:ext cx="1465200" cy="685656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5" name=""/>
              <p:cNvGrpSpPr/>
              <p:nvPr/>
            </p:nvGrpSpPr>
            <p:grpSpPr>
              <a:xfrm>
                <a:off x="0" y="65160"/>
                <a:ext cx="1473120" cy="6405480"/>
                <a:chOff x="0" y="65160"/>
                <a:chExt cx="1473120" cy="6405480"/>
              </a:xfrm>
            </p:grpSpPr>
            <p:pic>
              <p:nvPicPr>
                <p:cNvPr id="66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0" y="1609560"/>
                  <a:ext cx="1460520" cy="1498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7" name=""/>
                <p:cNvSpPr/>
                <p:nvPr/>
              </p:nvSpPr>
              <p:spPr>
                <a:xfrm>
                  <a:off x="60480" y="65160"/>
                  <a:ext cx="1412640" cy="1454040"/>
                </a:xfrm>
                <a:custGeom>
                  <a:avLst/>
                  <a:gdLst/>
                  <a:ahLst/>
                  <a:rect l="l" t="t" r="r" b="b"/>
                  <a:pathLst>
                    <a:path w="890" h="916">
                      <a:moveTo>
                        <a:pt x="279" y="334"/>
                      </a:moveTo>
                      <a:lnTo>
                        <a:pt x="292" y="312"/>
                      </a:lnTo>
                      <a:lnTo>
                        <a:pt x="307" y="292"/>
                      </a:lnTo>
                      <a:lnTo>
                        <a:pt x="324" y="276"/>
                      </a:lnTo>
                      <a:lnTo>
                        <a:pt x="313" y="255"/>
                      </a:lnTo>
                      <a:lnTo>
                        <a:pt x="307" y="234"/>
                      </a:lnTo>
                      <a:lnTo>
                        <a:pt x="288" y="202"/>
                      </a:lnTo>
                      <a:lnTo>
                        <a:pt x="274" y="181"/>
                      </a:lnTo>
                      <a:lnTo>
                        <a:pt x="261" y="159"/>
                      </a:lnTo>
                      <a:lnTo>
                        <a:pt x="256" y="139"/>
                      </a:lnTo>
                      <a:lnTo>
                        <a:pt x="256" y="118"/>
                      </a:lnTo>
                      <a:lnTo>
                        <a:pt x="247" y="91"/>
                      </a:lnTo>
                      <a:lnTo>
                        <a:pt x="237" y="70"/>
                      </a:lnTo>
                      <a:lnTo>
                        <a:pt x="226" y="46"/>
                      </a:lnTo>
                      <a:lnTo>
                        <a:pt x="225" y="24"/>
                      </a:lnTo>
                      <a:lnTo>
                        <a:pt x="232" y="10"/>
                      </a:lnTo>
                      <a:lnTo>
                        <a:pt x="247" y="9"/>
                      </a:lnTo>
                      <a:lnTo>
                        <a:pt x="259" y="21"/>
                      </a:lnTo>
                      <a:lnTo>
                        <a:pt x="270" y="46"/>
                      </a:lnTo>
                      <a:lnTo>
                        <a:pt x="280" y="61"/>
                      </a:lnTo>
                      <a:lnTo>
                        <a:pt x="298" y="82"/>
                      </a:lnTo>
                      <a:lnTo>
                        <a:pt x="309" y="88"/>
                      </a:lnTo>
                      <a:lnTo>
                        <a:pt x="315" y="99"/>
                      </a:lnTo>
                      <a:lnTo>
                        <a:pt x="322" y="118"/>
                      </a:lnTo>
                      <a:lnTo>
                        <a:pt x="330" y="141"/>
                      </a:lnTo>
                      <a:lnTo>
                        <a:pt x="339" y="160"/>
                      </a:lnTo>
                      <a:lnTo>
                        <a:pt x="358" y="180"/>
                      </a:lnTo>
                      <a:lnTo>
                        <a:pt x="379" y="205"/>
                      </a:lnTo>
                      <a:lnTo>
                        <a:pt x="399" y="225"/>
                      </a:lnTo>
                      <a:lnTo>
                        <a:pt x="406" y="240"/>
                      </a:lnTo>
                      <a:lnTo>
                        <a:pt x="474" y="241"/>
                      </a:lnTo>
                      <a:lnTo>
                        <a:pt x="495" y="208"/>
                      </a:lnTo>
                      <a:lnTo>
                        <a:pt x="505" y="184"/>
                      </a:lnTo>
                      <a:lnTo>
                        <a:pt x="507" y="160"/>
                      </a:lnTo>
                      <a:lnTo>
                        <a:pt x="510" y="141"/>
                      </a:lnTo>
                      <a:lnTo>
                        <a:pt x="514" y="118"/>
                      </a:lnTo>
                      <a:lnTo>
                        <a:pt x="529" y="94"/>
                      </a:lnTo>
                      <a:lnTo>
                        <a:pt x="540" y="85"/>
                      </a:lnTo>
                      <a:lnTo>
                        <a:pt x="552" y="69"/>
                      </a:lnTo>
                      <a:lnTo>
                        <a:pt x="561" y="45"/>
                      </a:lnTo>
                      <a:lnTo>
                        <a:pt x="571" y="27"/>
                      </a:lnTo>
                      <a:lnTo>
                        <a:pt x="589" y="13"/>
                      </a:lnTo>
                      <a:lnTo>
                        <a:pt x="604" y="0"/>
                      </a:lnTo>
                      <a:lnTo>
                        <a:pt x="613" y="6"/>
                      </a:lnTo>
                      <a:lnTo>
                        <a:pt x="615" y="16"/>
                      </a:lnTo>
                      <a:lnTo>
                        <a:pt x="606" y="27"/>
                      </a:lnTo>
                      <a:lnTo>
                        <a:pt x="603" y="34"/>
                      </a:lnTo>
                      <a:lnTo>
                        <a:pt x="600" y="49"/>
                      </a:lnTo>
                      <a:lnTo>
                        <a:pt x="600" y="79"/>
                      </a:lnTo>
                      <a:lnTo>
                        <a:pt x="600" y="103"/>
                      </a:lnTo>
                      <a:lnTo>
                        <a:pt x="592" y="124"/>
                      </a:lnTo>
                      <a:lnTo>
                        <a:pt x="583" y="145"/>
                      </a:lnTo>
                      <a:lnTo>
                        <a:pt x="576" y="162"/>
                      </a:lnTo>
                      <a:lnTo>
                        <a:pt x="574" y="186"/>
                      </a:lnTo>
                      <a:lnTo>
                        <a:pt x="574" y="216"/>
                      </a:lnTo>
                      <a:lnTo>
                        <a:pt x="568" y="244"/>
                      </a:lnTo>
                      <a:lnTo>
                        <a:pt x="568" y="282"/>
                      </a:lnTo>
                      <a:lnTo>
                        <a:pt x="588" y="300"/>
                      </a:lnTo>
                      <a:lnTo>
                        <a:pt x="607" y="325"/>
                      </a:lnTo>
                      <a:lnTo>
                        <a:pt x="645" y="325"/>
                      </a:lnTo>
                      <a:lnTo>
                        <a:pt x="678" y="312"/>
                      </a:lnTo>
                      <a:lnTo>
                        <a:pt x="697" y="292"/>
                      </a:lnTo>
                      <a:lnTo>
                        <a:pt x="720" y="277"/>
                      </a:lnTo>
                      <a:lnTo>
                        <a:pt x="777" y="274"/>
                      </a:lnTo>
                      <a:lnTo>
                        <a:pt x="801" y="265"/>
                      </a:lnTo>
                      <a:lnTo>
                        <a:pt x="816" y="253"/>
                      </a:lnTo>
                      <a:lnTo>
                        <a:pt x="859" y="252"/>
                      </a:lnTo>
                      <a:lnTo>
                        <a:pt x="865" y="265"/>
                      </a:lnTo>
                      <a:lnTo>
                        <a:pt x="861" y="279"/>
                      </a:lnTo>
                      <a:lnTo>
                        <a:pt x="843" y="288"/>
                      </a:lnTo>
                      <a:lnTo>
                        <a:pt x="819" y="300"/>
                      </a:lnTo>
                      <a:lnTo>
                        <a:pt x="796" y="324"/>
                      </a:lnTo>
                      <a:lnTo>
                        <a:pt x="786" y="334"/>
                      </a:lnTo>
                      <a:lnTo>
                        <a:pt x="765" y="343"/>
                      </a:lnTo>
                      <a:lnTo>
                        <a:pt x="735" y="352"/>
                      </a:lnTo>
                      <a:lnTo>
                        <a:pt x="714" y="367"/>
                      </a:lnTo>
                      <a:lnTo>
                        <a:pt x="687" y="390"/>
                      </a:lnTo>
                      <a:lnTo>
                        <a:pt x="669" y="409"/>
                      </a:lnTo>
                      <a:lnTo>
                        <a:pt x="649" y="420"/>
                      </a:lnTo>
                      <a:lnTo>
                        <a:pt x="648" y="481"/>
                      </a:lnTo>
                      <a:lnTo>
                        <a:pt x="673" y="510"/>
                      </a:lnTo>
                      <a:lnTo>
                        <a:pt x="703" y="526"/>
                      </a:lnTo>
                      <a:lnTo>
                        <a:pt x="730" y="531"/>
                      </a:lnTo>
                      <a:lnTo>
                        <a:pt x="751" y="535"/>
                      </a:lnTo>
                      <a:lnTo>
                        <a:pt x="777" y="549"/>
                      </a:lnTo>
                      <a:lnTo>
                        <a:pt x="795" y="567"/>
                      </a:lnTo>
                      <a:lnTo>
                        <a:pt x="819" y="577"/>
                      </a:lnTo>
                      <a:lnTo>
                        <a:pt x="846" y="583"/>
                      </a:lnTo>
                      <a:lnTo>
                        <a:pt x="861" y="592"/>
                      </a:lnTo>
                      <a:lnTo>
                        <a:pt x="874" y="606"/>
                      </a:lnTo>
                      <a:lnTo>
                        <a:pt x="889" y="621"/>
                      </a:lnTo>
                      <a:lnTo>
                        <a:pt x="888" y="634"/>
                      </a:lnTo>
                      <a:lnTo>
                        <a:pt x="867" y="637"/>
                      </a:lnTo>
                      <a:lnTo>
                        <a:pt x="853" y="631"/>
                      </a:lnTo>
                      <a:lnTo>
                        <a:pt x="832" y="618"/>
                      </a:lnTo>
                      <a:lnTo>
                        <a:pt x="807" y="618"/>
                      </a:lnTo>
                      <a:lnTo>
                        <a:pt x="780" y="618"/>
                      </a:lnTo>
                      <a:lnTo>
                        <a:pt x="759" y="615"/>
                      </a:lnTo>
                      <a:lnTo>
                        <a:pt x="736" y="592"/>
                      </a:lnTo>
                      <a:lnTo>
                        <a:pt x="718" y="588"/>
                      </a:lnTo>
                      <a:lnTo>
                        <a:pt x="684" y="588"/>
                      </a:lnTo>
                      <a:lnTo>
                        <a:pt x="615" y="588"/>
                      </a:lnTo>
                      <a:lnTo>
                        <a:pt x="604" y="606"/>
                      </a:lnTo>
                      <a:lnTo>
                        <a:pt x="589" y="621"/>
                      </a:lnTo>
                      <a:lnTo>
                        <a:pt x="576" y="628"/>
                      </a:lnTo>
                      <a:lnTo>
                        <a:pt x="580" y="666"/>
                      </a:lnTo>
                      <a:lnTo>
                        <a:pt x="600" y="702"/>
                      </a:lnTo>
                      <a:lnTo>
                        <a:pt x="618" y="723"/>
                      </a:lnTo>
                      <a:lnTo>
                        <a:pt x="630" y="753"/>
                      </a:lnTo>
                      <a:lnTo>
                        <a:pt x="631" y="787"/>
                      </a:lnTo>
                      <a:lnTo>
                        <a:pt x="640" y="807"/>
                      </a:lnTo>
                      <a:lnTo>
                        <a:pt x="654" y="838"/>
                      </a:lnTo>
                      <a:lnTo>
                        <a:pt x="664" y="862"/>
                      </a:lnTo>
                      <a:lnTo>
                        <a:pt x="664" y="889"/>
                      </a:lnTo>
                      <a:lnTo>
                        <a:pt x="654" y="898"/>
                      </a:lnTo>
                      <a:lnTo>
                        <a:pt x="642" y="898"/>
                      </a:lnTo>
                      <a:lnTo>
                        <a:pt x="624" y="870"/>
                      </a:lnTo>
                      <a:lnTo>
                        <a:pt x="612" y="837"/>
                      </a:lnTo>
                      <a:lnTo>
                        <a:pt x="583" y="808"/>
                      </a:lnTo>
                      <a:lnTo>
                        <a:pt x="568" y="789"/>
                      </a:lnTo>
                      <a:lnTo>
                        <a:pt x="556" y="760"/>
                      </a:lnTo>
                      <a:lnTo>
                        <a:pt x="549" y="738"/>
                      </a:lnTo>
                      <a:lnTo>
                        <a:pt x="513" y="708"/>
                      </a:lnTo>
                      <a:lnTo>
                        <a:pt x="489" y="682"/>
                      </a:lnTo>
                      <a:lnTo>
                        <a:pt x="415" y="684"/>
                      </a:lnTo>
                      <a:lnTo>
                        <a:pt x="390" y="730"/>
                      </a:lnTo>
                      <a:lnTo>
                        <a:pt x="372" y="759"/>
                      </a:lnTo>
                      <a:lnTo>
                        <a:pt x="361" y="798"/>
                      </a:lnTo>
                      <a:lnTo>
                        <a:pt x="339" y="838"/>
                      </a:lnTo>
                      <a:lnTo>
                        <a:pt x="316" y="874"/>
                      </a:lnTo>
                      <a:lnTo>
                        <a:pt x="294" y="907"/>
                      </a:lnTo>
                      <a:lnTo>
                        <a:pt x="285" y="915"/>
                      </a:lnTo>
                      <a:lnTo>
                        <a:pt x="268" y="909"/>
                      </a:lnTo>
                      <a:lnTo>
                        <a:pt x="268" y="894"/>
                      </a:lnTo>
                      <a:lnTo>
                        <a:pt x="276" y="867"/>
                      </a:lnTo>
                      <a:lnTo>
                        <a:pt x="291" y="837"/>
                      </a:lnTo>
                      <a:lnTo>
                        <a:pt x="294" y="790"/>
                      </a:lnTo>
                      <a:lnTo>
                        <a:pt x="298" y="766"/>
                      </a:lnTo>
                      <a:lnTo>
                        <a:pt x="313" y="744"/>
                      </a:lnTo>
                      <a:lnTo>
                        <a:pt x="319" y="699"/>
                      </a:lnTo>
                      <a:lnTo>
                        <a:pt x="324" y="664"/>
                      </a:lnTo>
                      <a:lnTo>
                        <a:pt x="336" y="637"/>
                      </a:lnTo>
                      <a:lnTo>
                        <a:pt x="309" y="609"/>
                      </a:lnTo>
                      <a:lnTo>
                        <a:pt x="283" y="583"/>
                      </a:lnTo>
                      <a:lnTo>
                        <a:pt x="271" y="577"/>
                      </a:lnTo>
                      <a:lnTo>
                        <a:pt x="231" y="601"/>
                      </a:lnTo>
                      <a:lnTo>
                        <a:pt x="201" y="619"/>
                      </a:lnTo>
                      <a:lnTo>
                        <a:pt x="162" y="633"/>
                      </a:lnTo>
                      <a:lnTo>
                        <a:pt x="118" y="640"/>
                      </a:lnTo>
                      <a:lnTo>
                        <a:pt x="88" y="655"/>
                      </a:lnTo>
                      <a:lnTo>
                        <a:pt x="63" y="666"/>
                      </a:lnTo>
                      <a:lnTo>
                        <a:pt x="27" y="666"/>
                      </a:lnTo>
                      <a:lnTo>
                        <a:pt x="16" y="655"/>
                      </a:lnTo>
                      <a:lnTo>
                        <a:pt x="30" y="642"/>
                      </a:lnTo>
                      <a:lnTo>
                        <a:pt x="67" y="628"/>
                      </a:lnTo>
                      <a:lnTo>
                        <a:pt x="94" y="606"/>
                      </a:lnTo>
                      <a:lnTo>
                        <a:pt x="120" y="588"/>
                      </a:lnTo>
                      <a:lnTo>
                        <a:pt x="136" y="576"/>
                      </a:lnTo>
                      <a:lnTo>
                        <a:pt x="162" y="567"/>
                      </a:lnTo>
                      <a:lnTo>
                        <a:pt x="204" y="531"/>
                      </a:lnTo>
                      <a:lnTo>
                        <a:pt x="231" y="510"/>
                      </a:lnTo>
                      <a:lnTo>
                        <a:pt x="247" y="504"/>
                      </a:lnTo>
                      <a:lnTo>
                        <a:pt x="250" y="429"/>
                      </a:lnTo>
                      <a:lnTo>
                        <a:pt x="204" y="396"/>
                      </a:lnTo>
                      <a:lnTo>
                        <a:pt x="190" y="390"/>
                      </a:lnTo>
                      <a:lnTo>
                        <a:pt x="129" y="385"/>
                      </a:lnTo>
                      <a:lnTo>
                        <a:pt x="105" y="369"/>
                      </a:lnTo>
                      <a:lnTo>
                        <a:pt x="81" y="355"/>
                      </a:lnTo>
                      <a:lnTo>
                        <a:pt x="63" y="345"/>
                      </a:lnTo>
                      <a:lnTo>
                        <a:pt x="34" y="339"/>
                      </a:lnTo>
                      <a:lnTo>
                        <a:pt x="3" y="307"/>
                      </a:lnTo>
                      <a:lnTo>
                        <a:pt x="0" y="291"/>
                      </a:lnTo>
                      <a:lnTo>
                        <a:pt x="9" y="285"/>
                      </a:lnTo>
                      <a:lnTo>
                        <a:pt x="39" y="286"/>
                      </a:lnTo>
                      <a:lnTo>
                        <a:pt x="67" y="301"/>
                      </a:lnTo>
                      <a:lnTo>
                        <a:pt x="85" y="304"/>
                      </a:lnTo>
                      <a:lnTo>
                        <a:pt x="115" y="306"/>
                      </a:lnTo>
                      <a:lnTo>
                        <a:pt x="148" y="318"/>
                      </a:lnTo>
                      <a:lnTo>
                        <a:pt x="165" y="324"/>
                      </a:lnTo>
                      <a:lnTo>
                        <a:pt x="226" y="327"/>
                      </a:lnTo>
                      <a:lnTo>
                        <a:pt x="258" y="334"/>
                      </a:lnTo>
                      <a:lnTo>
                        <a:pt x="279" y="334"/>
                      </a:lnTo>
                    </a:path>
                  </a:pathLst>
                </a:custGeom>
                <a:solidFill>
                  <a:srgbClr val="cc99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>
                  <a:off x="9360" y="3313080"/>
                  <a:ext cx="1413000" cy="1454040"/>
                </a:xfrm>
                <a:custGeom>
                  <a:avLst/>
                  <a:gdLst/>
                  <a:ahLst/>
                  <a:rect l="l" t="t" r="r" b="b"/>
                  <a:pathLst>
                    <a:path w="890" h="916">
                      <a:moveTo>
                        <a:pt x="279" y="334"/>
                      </a:moveTo>
                      <a:lnTo>
                        <a:pt x="292" y="312"/>
                      </a:lnTo>
                      <a:lnTo>
                        <a:pt x="307" y="292"/>
                      </a:lnTo>
                      <a:lnTo>
                        <a:pt x="324" y="276"/>
                      </a:lnTo>
                      <a:lnTo>
                        <a:pt x="313" y="255"/>
                      </a:lnTo>
                      <a:lnTo>
                        <a:pt x="307" y="234"/>
                      </a:lnTo>
                      <a:lnTo>
                        <a:pt x="288" y="202"/>
                      </a:lnTo>
                      <a:lnTo>
                        <a:pt x="274" y="181"/>
                      </a:lnTo>
                      <a:lnTo>
                        <a:pt x="261" y="159"/>
                      </a:lnTo>
                      <a:lnTo>
                        <a:pt x="256" y="139"/>
                      </a:lnTo>
                      <a:lnTo>
                        <a:pt x="256" y="118"/>
                      </a:lnTo>
                      <a:lnTo>
                        <a:pt x="247" y="91"/>
                      </a:lnTo>
                      <a:lnTo>
                        <a:pt x="237" y="70"/>
                      </a:lnTo>
                      <a:lnTo>
                        <a:pt x="226" y="46"/>
                      </a:lnTo>
                      <a:lnTo>
                        <a:pt x="225" y="24"/>
                      </a:lnTo>
                      <a:lnTo>
                        <a:pt x="232" y="10"/>
                      </a:lnTo>
                      <a:lnTo>
                        <a:pt x="247" y="9"/>
                      </a:lnTo>
                      <a:lnTo>
                        <a:pt x="259" y="21"/>
                      </a:lnTo>
                      <a:lnTo>
                        <a:pt x="270" y="46"/>
                      </a:lnTo>
                      <a:lnTo>
                        <a:pt x="280" y="61"/>
                      </a:lnTo>
                      <a:lnTo>
                        <a:pt x="298" y="82"/>
                      </a:lnTo>
                      <a:lnTo>
                        <a:pt x="309" y="88"/>
                      </a:lnTo>
                      <a:lnTo>
                        <a:pt x="315" y="99"/>
                      </a:lnTo>
                      <a:lnTo>
                        <a:pt x="322" y="118"/>
                      </a:lnTo>
                      <a:lnTo>
                        <a:pt x="330" y="141"/>
                      </a:lnTo>
                      <a:lnTo>
                        <a:pt x="339" y="160"/>
                      </a:lnTo>
                      <a:lnTo>
                        <a:pt x="358" y="180"/>
                      </a:lnTo>
                      <a:lnTo>
                        <a:pt x="379" y="205"/>
                      </a:lnTo>
                      <a:lnTo>
                        <a:pt x="399" y="225"/>
                      </a:lnTo>
                      <a:lnTo>
                        <a:pt x="406" y="240"/>
                      </a:lnTo>
                      <a:lnTo>
                        <a:pt x="474" y="241"/>
                      </a:lnTo>
                      <a:lnTo>
                        <a:pt x="495" y="208"/>
                      </a:lnTo>
                      <a:lnTo>
                        <a:pt x="505" y="184"/>
                      </a:lnTo>
                      <a:lnTo>
                        <a:pt x="507" y="160"/>
                      </a:lnTo>
                      <a:lnTo>
                        <a:pt x="510" y="141"/>
                      </a:lnTo>
                      <a:lnTo>
                        <a:pt x="514" y="118"/>
                      </a:lnTo>
                      <a:lnTo>
                        <a:pt x="529" y="94"/>
                      </a:lnTo>
                      <a:lnTo>
                        <a:pt x="540" y="85"/>
                      </a:lnTo>
                      <a:lnTo>
                        <a:pt x="552" y="69"/>
                      </a:lnTo>
                      <a:lnTo>
                        <a:pt x="561" y="45"/>
                      </a:lnTo>
                      <a:lnTo>
                        <a:pt x="571" y="27"/>
                      </a:lnTo>
                      <a:lnTo>
                        <a:pt x="589" y="13"/>
                      </a:lnTo>
                      <a:lnTo>
                        <a:pt x="604" y="0"/>
                      </a:lnTo>
                      <a:lnTo>
                        <a:pt x="613" y="6"/>
                      </a:lnTo>
                      <a:lnTo>
                        <a:pt x="615" y="16"/>
                      </a:lnTo>
                      <a:lnTo>
                        <a:pt x="606" y="27"/>
                      </a:lnTo>
                      <a:lnTo>
                        <a:pt x="603" y="34"/>
                      </a:lnTo>
                      <a:lnTo>
                        <a:pt x="600" y="49"/>
                      </a:lnTo>
                      <a:lnTo>
                        <a:pt x="600" y="79"/>
                      </a:lnTo>
                      <a:lnTo>
                        <a:pt x="600" y="103"/>
                      </a:lnTo>
                      <a:lnTo>
                        <a:pt x="592" y="124"/>
                      </a:lnTo>
                      <a:lnTo>
                        <a:pt x="583" y="145"/>
                      </a:lnTo>
                      <a:lnTo>
                        <a:pt x="576" y="162"/>
                      </a:lnTo>
                      <a:lnTo>
                        <a:pt x="574" y="186"/>
                      </a:lnTo>
                      <a:lnTo>
                        <a:pt x="574" y="216"/>
                      </a:lnTo>
                      <a:lnTo>
                        <a:pt x="568" y="244"/>
                      </a:lnTo>
                      <a:lnTo>
                        <a:pt x="568" y="282"/>
                      </a:lnTo>
                      <a:lnTo>
                        <a:pt x="588" y="300"/>
                      </a:lnTo>
                      <a:lnTo>
                        <a:pt x="607" y="325"/>
                      </a:lnTo>
                      <a:lnTo>
                        <a:pt x="645" y="325"/>
                      </a:lnTo>
                      <a:lnTo>
                        <a:pt x="678" y="312"/>
                      </a:lnTo>
                      <a:lnTo>
                        <a:pt x="697" y="292"/>
                      </a:lnTo>
                      <a:lnTo>
                        <a:pt x="720" y="277"/>
                      </a:lnTo>
                      <a:lnTo>
                        <a:pt x="777" y="274"/>
                      </a:lnTo>
                      <a:lnTo>
                        <a:pt x="801" y="265"/>
                      </a:lnTo>
                      <a:lnTo>
                        <a:pt x="816" y="253"/>
                      </a:lnTo>
                      <a:lnTo>
                        <a:pt x="859" y="252"/>
                      </a:lnTo>
                      <a:lnTo>
                        <a:pt x="865" y="265"/>
                      </a:lnTo>
                      <a:lnTo>
                        <a:pt x="861" y="279"/>
                      </a:lnTo>
                      <a:lnTo>
                        <a:pt x="843" y="288"/>
                      </a:lnTo>
                      <a:lnTo>
                        <a:pt x="819" y="300"/>
                      </a:lnTo>
                      <a:lnTo>
                        <a:pt x="796" y="324"/>
                      </a:lnTo>
                      <a:lnTo>
                        <a:pt x="786" y="334"/>
                      </a:lnTo>
                      <a:lnTo>
                        <a:pt x="765" y="343"/>
                      </a:lnTo>
                      <a:lnTo>
                        <a:pt x="735" y="352"/>
                      </a:lnTo>
                      <a:lnTo>
                        <a:pt x="714" y="367"/>
                      </a:lnTo>
                      <a:lnTo>
                        <a:pt x="687" y="390"/>
                      </a:lnTo>
                      <a:lnTo>
                        <a:pt x="669" y="409"/>
                      </a:lnTo>
                      <a:lnTo>
                        <a:pt x="649" y="420"/>
                      </a:lnTo>
                      <a:lnTo>
                        <a:pt x="648" y="481"/>
                      </a:lnTo>
                      <a:lnTo>
                        <a:pt x="673" y="510"/>
                      </a:lnTo>
                      <a:lnTo>
                        <a:pt x="703" y="526"/>
                      </a:lnTo>
                      <a:lnTo>
                        <a:pt x="730" y="531"/>
                      </a:lnTo>
                      <a:lnTo>
                        <a:pt x="751" y="535"/>
                      </a:lnTo>
                      <a:lnTo>
                        <a:pt x="777" y="549"/>
                      </a:lnTo>
                      <a:lnTo>
                        <a:pt x="795" y="567"/>
                      </a:lnTo>
                      <a:lnTo>
                        <a:pt x="819" y="577"/>
                      </a:lnTo>
                      <a:lnTo>
                        <a:pt x="846" y="583"/>
                      </a:lnTo>
                      <a:lnTo>
                        <a:pt x="861" y="592"/>
                      </a:lnTo>
                      <a:lnTo>
                        <a:pt x="874" y="606"/>
                      </a:lnTo>
                      <a:lnTo>
                        <a:pt x="889" y="621"/>
                      </a:lnTo>
                      <a:lnTo>
                        <a:pt x="888" y="634"/>
                      </a:lnTo>
                      <a:lnTo>
                        <a:pt x="867" y="637"/>
                      </a:lnTo>
                      <a:lnTo>
                        <a:pt x="853" y="631"/>
                      </a:lnTo>
                      <a:lnTo>
                        <a:pt x="832" y="618"/>
                      </a:lnTo>
                      <a:lnTo>
                        <a:pt x="807" y="618"/>
                      </a:lnTo>
                      <a:lnTo>
                        <a:pt x="780" y="618"/>
                      </a:lnTo>
                      <a:lnTo>
                        <a:pt x="759" y="615"/>
                      </a:lnTo>
                      <a:lnTo>
                        <a:pt x="736" y="592"/>
                      </a:lnTo>
                      <a:lnTo>
                        <a:pt x="718" y="588"/>
                      </a:lnTo>
                      <a:lnTo>
                        <a:pt x="684" y="588"/>
                      </a:lnTo>
                      <a:lnTo>
                        <a:pt x="615" y="588"/>
                      </a:lnTo>
                      <a:lnTo>
                        <a:pt x="604" y="606"/>
                      </a:lnTo>
                      <a:lnTo>
                        <a:pt x="589" y="621"/>
                      </a:lnTo>
                      <a:lnTo>
                        <a:pt x="576" y="628"/>
                      </a:lnTo>
                      <a:lnTo>
                        <a:pt x="580" y="666"/>
                      </a:lnTo>
                      <a:lnTo>
                        <a:pt x="600" y="702"/>
                      </a:lnTo>
                      <a:lnTo>
                        <a:pt x="618" y="723"/>
                      </a:lnTo>
                      <a:lnTo>
                        <a:pt x="630" y="753"/>
                      </a:lnTo>
                      <a:lnTo>
                        <a:pt x="631" y="787"/>
                      </a:lnTo>
                      <a:lnTo>
                        <a:pt x="640" y="807"/>
                      </a:lnTo>
                      <a:lnTo>
                        <a:pt x="654" y="838"/>
                      </a:lnTo>
                      <a:lnTo>
                        <a:pt x="664" y="862"/>
                      </a:lnTo>
                      <a:lnTo>
                        <a:pt x="664" y="889"/>
                      </a:lnTo>
                      <a:lnTo>
                        <a:pt x="654" y="898"/>
                      </a:lnTo>
                      <a:lnTo>
                        <a:pt x="642" y="898"/>
                      </a:lnTo>
                      <a:lnTo>
                        <a:pt x="624" y="870"/>
                      </a:lnTo>
                      <a:lnTo>
                        <a:pt x="612" y="837"/>
                      </a:lnTo>
                      <a:lnTo>
                        <a:pt x="583" y="808"/>
                      </a:lnTo>
                      <a:lnTo>
                        <a:pt x="568" y="789"/>
                      </a:lnTo>
                      <a:lnTo>
                        <a:pt x="556" y="760"/>
                      </a:lnTo>
                      <a:lnTo>
                        <a:pt x="549" y="738"/>
                      </a:lnTo>
                      <a:lnTo>
                        <a:pt x="513" y="708"/>
                      </a:lnTo>
                      <a:lnTo>
                        <a:pt x="489" y="682"/>
                      </a:lnTo>
                      <a:lnTo>
                        <a:pt x="415" y="684"/>
                      </a:lnTo>
                      <a:lnTo>
                        <a:pt x="390" y="730"/>
                      </a:lnTo>
                      <a:lnTo>
                        <a:pt x="372" y="759"/>
                      </a:lnTo>
                      <a:lnTo>
                        <a:pt x="361" y="798"/>
                      </a:lnTo>
                      <a:lnTo>
                        <a:pt x="339" y="838"/>
                      </a:lnTo>
                      <a:lnTo>
                        <a:pt x="316" y="874"/>
                      </a:lnTo>
                      <a:lnTo>
                        <a:pt x="294" y="907"/>
                      </a:lnTo>
                      <a:lnTo>
                        <a:pt x="285" y="915"/>
                      </a:lnTo>
                      <a:lnTo>
                        <a:pt x="268" y="909"/>
                      </a:lnTo>
                      <a:lnTo>
                        <a:pt x="268" y="894"/>
                      </a:lnTo>
                      <a:lnTo>
                        <a:pt x="276" y="867"/>
                      </a:lnTo>
                      <a:lnTo>
                        <a:pt x="291" y="837"/>
                      </a:lnTo>
                      <a:lnTo>
                        <a:pt x="294" y="790"/>
                      </a:lnTo>
                      <a:lnTo>
                        <a:pt x="298" y="766"/>
                      </a:lnTo>
                      <a:lnTo>
                        <a:pt x="313" y="744"/>
                      </a:lnTo>
                      <a:lnTo>
                        <a:pt x="319" y="699"/>
                      </a:lnTo>
                      <a:lnTo>
                        <a:pt x="324" y="664"/>
                      </a:lnTo>
                      <a:lnTo>
                        <a:pt x="336" y="637"/>
                      </a:lnTo>
                      <a:lnTo>
                        <a:pt x="309" y="609"/>
                      </a:lnTo>
                      <a:lnTo>
                        <a:pt x="283" y="583"/>
                      </a:lnTo>
                      <a:lnTo>
                        <a:pt x="271" y="577"/>
                      </a:lnTo>
                      <a:lnTo>
                        <a:pt x="231" y="601"/>
                      </a:lnTo>
                      <a:lnTo>
                        <a:pt x="201" y="619"/>
                      </a:lnTo>
                      <a:lnTo>
                        <a:pt x="162" y="633"/>
                      </a:lnTo>
                      <a:lnTo>
                        <a:pt x="118" y="640"/>
                      </a:lnTo>
                      <a:lnTo>
                        <a:pt x="88" y="655"/>
                      </a:lnTo>
                      <a:lnTo>
                        <a:pt x="63" y="666"/>
                      </a:lnTo>
                      <a:lnTo>
                        <a:pt x="27" y="666"/>
                      </a:lnTo>
                      <a:lnTo>
                        <a:pt x="16" y="655"/>
                      </a:lnTo>
                      <a:lnTo>
                        <a:pt x="30" y="642"/>
                      </a:lnTo>
                      <a:lnTo>
                        <a:pt x="67" y="628"/>
                      </a:lnTo>
                      <a:lnTo>
                        <a:pt x="94" y="606"/>
                      </a:lnTo>
                      <a:lnTo>
                        <a:pt x="120" y="588"/>
                      </a:lnTo>
                      <a:lnTo>
                        <a:pt x="136" y="576"/>
                      </a:lnTo>
                      <a:lnTo>
                        <a:pt x="162" y="567"/>
                      </a:lnTo>
                      <a:lnTo>
                        <a:pt x="204" y="531"/>
                      </a:lnTo>
                      <a:lnTo>
                        <a:pt x="231" y="510"/>
                      </a:lnTo>
                      <a:lnTo>
                        <a:pt x="247" y="504"/>
                      </a:lnTo>
                      <a:lnTo>
                        <a:pt x="250" y="429"/>
                      </a:lnTo>
                      <a:lnTo>
                        <a:pt x="204" y="396"/>
                      </a:lnTo>
                      <a:lnTo>
                        <a:pt x="190" y="390"/>
                      </a:lnTo>
                      <a:lnTo>
                        <a:pt x="129" y="385"/>
                      </a:lnTo>
                      <a:lnTo>
                        <a:pt x="105" y="369"/>
                      </a:lnTo>
                      <a:lnTo>
                        <a:pt x="81" y="355"/>
                      </a:lnTo>
                      <a:lnTo>
                        <a:pt x="63" y="345"/>
                      </a:lnTo>
                      <a:lnTo>
                        <a:pt x="34" y="339"/>
                      </a:lnTo>
                      <a:lnTo>
                        <a:pt x="3" y="307"/>
                      </a:lnTo>
                      <a:lnTo>
                        <a:pt x="0" y="291"/>
                      </a:lnTo>
                      <a:lnTo>
                        <a:pt x="9" y="285"/>
                      </a:lnTo>
                      <a:lnTo>
                        <a:pt x="39" y="286"/>
                      </a:lnTo>
                      <a:lnTo>
                        <a:pt x="67" y="301"/>
                      </a:lnTo>
                      <a:lnTo>
                        <a:pt x="85" y="304"/>
                      </a:lnTo>
                      <a:lnTo>
                        <a:pt x="115" y="306"/>
                      </a:lnTo>
                      <a:lnTo>
                        <a:pt x="148" y="318"/>
                      </a:lnTo>
                      <a:lnTo>
                        <a:pt x="165" y="324"/>
                      </a:lnTo>
                      <a:lnTo>
                        <a:pt x="226" y="327"/>
                      </a:lnTo>
                      <a:lnTo>
                        <a:pt x="258" y="334"/>
                      </a:lnTo>
                      <a:lnTo>
                        <a:pt x="279" y="334"/>
                      </a:lnTo>
                    </a:path>
                  </a:pathLst>
                </a:custGeom>
                <a:solidFill>
                  <a:srgbClr val="cc99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9360" y="5016600"/>
                  <a:ext cx="1413000" cy="1454040"/>
                </a:xfrm>
                <a:custGeom>
                  <a:avLst/>
                  <a:gdLst/>
                  <a:ahLst/>
                  <a:rect l="l" t="t" r="r" b="b"/>
                  <a:pathLst>
                    <a:path w="890" h="916">
                      <a:moveTo>
                        <a:pt x="279" y="334"/>
                      </a:moveTo>
                      <a:lnTo>
                        <a:pt x="292" y="312"/>
                      </a:lnTo>
                      <a:lnTo>
                        <a:pt x="307" y="292"/>
                      </a:lnTo>
                      <a:lnTo>
                        <a:pt x="324" y="276"/>
                      </a:lnTo>
                      <a:lnTo>
                        <a:pt x="313" y="255"/>
                      </a:lnTo>
                      <a:lnTo>
                        <a:pt x="307" y="234"/>
                      </a:lnTo>
                      <a:lnTo>
                        <a:pt x="288" y="202"/>
                      </a:lnTo>
                      <a:lnTo>
                        <a:pt x="274" y="181"/>
                      </a:lnTo>
                      <a:lnTo>
                        <a:pt x="261" y="159"/>
                      </a:lnTo>
                      <a:lnTo>
                        <a:pt x="256" y="139"/>
                      </a:lnTo>
                      <a:lnTo>
                        <a:pt x="256" y="118"/>
                      </a:lnTo>
                      <a:lnTo>
                        <a:pt x="247" y="91"/>
                      </a:lnTo>
                      <a:lnTo>
                        <a:pt x="237" y="70"/>
                      </a:lnTo>
                      <a:lnTo>
                        <a:pt x="226" y="46"/>
                      </a:lnTo>
                      <a:lnTo>
                        <a:pt x="225" y="24"/>
                      </a:lnTo>
                      <a:lnTo>
                        <a:pt x="232" y="10"/>
                      </a:lnTo>
                      <a:lnTo>
                        <a:pt x="247" y="9"/>
                      </a:lnTo>
                      <a:lnTo>
                        <a:pt x="259" y="21"/>
                      </a:lnTo>
                      <a:lnTo>
                        <a:pt x="270" y="46"/>
                      </a:lnTo>
                      <a:lnTo>
                        <a:pt x="280" y="61"/>
                      </a:lnTo>
                      <a:lnTo>
                        <a:pt x="298" y="82"/>
                      </a:lnTo>
                      <a:lnTo>
                        <a:pt x="309" y="88"/>
                      </a:lnTo>
                      <a:lnTo>
                        <a:pt x="315" y="99"/>
                      </a:lnTo>
                      <a:lnTo>
                        <a:pt x="322" y="118"/>
                      </a:lnTo>
                      <a:lnTo>
                        <a:pt x="330" y="141"/>
                      </a:lnTo>
                      <a:lnTo>
                        <a:pt x="339" y="160"/>
                      </a:lnTo>
                      <a:lnTo>
                        <a:pt x="358" y="180"/>
                      </a:lnTo>
                      <a:lnTo>
                        <a:pt x="379" y="205"/>
                      </a:lnTo>
                      <a:lnTo>
                        <a:pt x="399" y="225"/>
                      </a:lnTo>
                      <a:lnTo>
                        <a:pt x="406" y="240"/>
                      </a:lnTo>
                      <a:lnTo>
                        <a:pt x="474" y="241"/>
                      </a:lnTo>
                      <a:lnTo>
                        <a:pt x="495" y="208"/>
                      </a:lnTo>
                      <a:lnTo>
                        <a:pt x="505" y="184"/>
                      </a:lnTo>
                      <a:lnTo>
                        <a:pt x="507" y="160"/>
                      </a:lnTo>
                      <a:lnTo>
                        <a:pt x="510" y="141"/>
                      </a:lnTo>
                      <a:lnTo>
                        <a:pt x="514" y="118"/>
                      </a:lnTo>
                      <a:lnTo>
                        <a:pt x="529" y="94"/>
                      </a:lnTo>
                      <a:lnTo>
                        <a:pt x="540" y="85"/>
                      </a:lnTo>
                      <a:lnTo>
                        <a:pt x="552" y="69"/>
                      </a:lnTo>
                      <a:lnTo>
                        <a:pt x="561" y="45"/>
                      </a:lnTo>
                      <a:lnTo>
                        <a:pt x="571" y="27"/>
                      </a:lnTo>
                      <a:lnTo>
                        <a:pt x="589" y="13"/>
                      </a:lnTo>
                      <a:lnTo>
                        <a:pt x="604" y="0"/>
                      </a:lnTo>
                      <a:lnTo>
                        <a:pt x="613" y="6"/>
                      </a:lnTo>
                      <a:lnTo>
                        <a:pt x="615" y="16"/>
                      </a:lnTo>
                      <a:lnTo>
                        <a:pt x="606" y="27"/>
                      </a:lnTo>
                      <a:lnTo>
                        <a:pt x="603" y="34"/>
                      </a:lnTo>
                      <a:lnTo>
                        <a:pt x="600" y="49"/>
                      </a:lnTo>
                      <a:lnTo>
                        <a:pt x="600" y="79"/>
                      </a:lnTo>
                      <a:lnTo>
                        <a:pt x="600" y="103"/>
                      </a:lnTo>
                      <a:lnTo>
                        <a:pt x="592" y="124"/>
                      </a:lnTo>
                      <a:lnTo>
                        <a:pt x="583" y="145"/>
                      </a:lnTo>
                      <a:lnTo>
                        <a:pt x="576" y="162"/>
                      </a:lnTo>
                      <a:lnTo>
                        <a:pt x="574" y="186"/>
                      </a:lnTo>
                      <a:lnTo>
                        <a:pt x="574" y="216"/>
                      </a:lnTo>
                      <a:lnTo>
                        <a:pt x="568" y="244"/>
                      </a:lnTo>
                      <a:lnTo>
                        <a:pt x="568" y="282"/>
                      </a:lnTo>
                      <a:lnTo>
                        <a:pt x="588" y="300"/>
                      </a:lnTo>
                      <a:lnTo>
                        <a:pt x="607" y="325"/>
                      </a:lnTo>
                      <a:lnTo>
                        <a:pt x="645" y="325"/>
                      </a:lnTo>
                      <a:lnTo>
                        <a:pt x="678" y="312"/>
                      </a:lnTo>
                      <a:lnTo>
                        <a:pt x="697" y="292"/>
                      </a:lnTo>
                      <a:lnTo>
                        <a:pt x="720" y="277"/>
                      </a:lnTo>
                      <a:lnTo>
                        <a:pt x="777" y="274"/>
                      </a:lnTo>
                      <a:lnTo>
                        <a:pt x="801" y="265"/>
                      </a:lnTo>
                      <a:lnTo>
                        <a:pt x="816" y="253"/>
                      </a:lnTo>
                      <a:lnTo>
                        <a:pt x="859" y="252"/>
                      </a:lnTo>
                      <a:lnTo>
                        <a:pt x="865" y="265"/>
                      </a:lnTo>
                      <a:lnTo>
                        <a:pt x="861" y="279"/>
                      </a:lnTo>
                      <a:lnTo>
                        <a:pt x="843" y="288"/>
                      </a:lnTo>
                      <a:lnTo>
                        <a:pt x="819" y="300"/>
                      </a:lnTo>
                      <a:lnTo>
                        <a:pt x="796" y="324"/>
                      </a:lnTo>
                      <a:lnTo>
                        <a:pt x="786" y="334"/>
                      </a:lnTo>
                      <a:lnTo>
                        <a:pt x="765" y="343"/>
                      </a:lnTo>
                      <a:lnTo>
                        <a:pt x="735" y="352"/>
                      </a:lnTo>
                      <a:lnTo>
                        <a:pt x="714" y="367"/>
                      </a:lnTo>
                      <a:lnTo>
                        <a:pt x="687" y="390"/>
                      </a:lnTo>
                      <a:lnTo>
                        <a:pt x="669" y="409"/>
                      </a:lnTo>
                      <a:lnTo>
                        <a:pt x="649" y="420"/>
                      </a:lnTo>
                      <a:lnTo>
                        <a:pt x="648" y="481"/>
                      </a:lnTo>
                      <a:lnTo>
                        <a:pt x="673" y="510"/>
                      </a:lnTo>
                      <a:lnTo>
                        <a:pt x="703" y="526"/>
                      </a:lnTo>
                      <a:lnTo>
                        <a:pt x="730" y="531"/>
                      </a:lnTo>
                      <a:lnTo>
                        <a:pt x="751" y="535"/>
                      </a:lnTo>
                      <a:lnTo>
                        <a:pt x="777" y="549"/>
                      </a:lnTo>
                      <a:lnTo>
                        <a:pt x="795" y="567"/>
                      </a:lnTo>
                      <a:lnTo>
                        <a:pt x="819" y="577"/>
                      </a:lnTo>
                      <a:lnTo>
                        <a:pt x="846" y="583"/>
                      </a:lnTo>
                      <a:lnTo>
                        <a:pt x="861" y="592"/>
                      </a:lnTo>
                      <a:lnTo>
                        <a:pt x="874" y="606"/>
                      </a:lnTo>
                      <a:lnTo>
                        <a:pt x="889" y="621"/>
                      </a:lnTo>
                      <a:lnTo>
                        <a:pt x="888" y="634"/>
                      </a:lnTo>
                      <a:lnTo>
                        <a:pt x="867" y="637"/>
                      </a:lnTo>
                      <a:lnTo>
                        <a:pt x="853" y="631"/>
                      </a:lnTo>
                      <a:lnTo>
                        <a:pt x="832" y="618"/>
                      </a:lnTo>
                      <a:lnTo>
                        <a:pt x="807" y="618"/>
                      </a:lnTo>
                      <a:lnTo>
                        <a:pt x="780" y="618"/>
                      </a:lnTo>
                      <a:lnTo>
                        <a:pt x="759" y="615"/>
                      </a:lnTo>
                      <a:lnTo>
                        <a:pt x="736" y="592"/>
                      </a:lnTo>
                      <a:lnTo>
                        <a:pt x="718" y="588"/>
                      </a:lnTo>
                      <a:lnTo>
                        <a:pt x="684" y="588"/>
                      </a:lnTo>
                      <a:lnTo>
                        <a:pt x="615" y="588"/>
                      </a:lnTo>
                      <a:lnTo>
                        <a:pt x="604" y="606"/>
                      </a:lnTo>
                      <a:lnTo>
                        <a:pt x="589" y="621"/>
                      </a:lnTo>
                      <a:lnTo>
                        <a:pt x="576" y="628"/>
                      </a:lnTo>
                      <a:lnTo>
                        <a:pt x="580" y="666"/>
                      </a:lnTo>
                      <a:lnTo>
                        <a:pt x="600" y="702"/>
                      </a:lnTo>
                      <a:lnTo>
                        <a:pt x="618" y="723"/>
                      </a:lnTo>
                      <a:lnTo>
                        <a:pt x="630" y="753"/>
                      </a:lnTo>
                      <a:lnTo>
                        <a:pt x="631" y="787"/>
                      </a:lnTo>
                      <a:lnTo>
                        <a:pt x="640" y="807"/>
                      </a:lnTo>
                      <a:lnTo>
                        <a:pt x="654" y="838"/>
                      </a:lnTo>
                      <a:lnTo>
                        <a:pt x="664" y="862"/>
                      </a:lnTo>
                      <a:lnTo>
                        <a:pt x="664" y="889"/>
                      </a:lnTo>
                      <a:lnTo>
                        <a:pt x="654" y="898"/>
                      </a:lnTo>
                      <a:lnTo>
                        <a:pt x="642" y="898"/>
                      </a:lnTo>
                      <a:lnTo>
                        <a:pt x="624" y="870"/>
                      </a:lnTo>
                      <a:lnTo>
                        <a:pt x="612" y="837"/>
                      </a:lnTo>
                      <a:lnTo>
                        <a:pt x="583" y="808"/>
                      </a:lnTo>
                      <a:lnTo>
                        <a:pt x="568" y="789"/>
                      </a:lnTo>
                      <a:lnTo>
                        <a:pt x="556" y="760"/>
                      </a:lnTo>
                      <a:lnTo>
                        <a:pt x="549" y="738"/>
                      </a:lnTo>
                      <a:lnTo>
                        <a:pt x="513" y="708"/>
                      </a:lnTo>
                      <a:lnTo>
                        <a:pt x="489" y="682"/>
                      </a:lnTo>
                      <a:lnTo>
                        <a:pt x="415" y="684"/>
                      </a:lnTo>
                      <a:lnTo>
                        <a:pt x="390" y="730"/>
                      </a:lnTo>
                      <a:lnTo>
                        <a:pt x="372" y="759"/>
                      </a:lnTo>
                      <a:lnTo>
                        <a:pt x="361" y="798"/>
                      </a:lnTo>
                      <a:lnTo>
                        <a:pt x="339" y="838"/>
                      </a:lnTo>
                      <a:lnTo>
                        <a:pt x="316" y="874"/>
                      </a:lnTo>
                      <a:lnTo>
                        <a:pt x="294" y="907"/>
                      </a:lnTo>
                      <a:lnTo>
                        <a:pt x="285" y="915"/>
                      </a:lnTo>
                      <a:lnTo>
                        <a:pt x="268" y="909"/>
                      </a:lnTo>
                      <a:lnTo>
                        <a:pt x="268" y="894"/>
                      </a:lnTo>
                      <a:lnTo>
                        <a:pt x="276" y="867"/>
                      </a:lnTo>
                      <a:lnTo>
                        <a:pt x="291" y="837"/>
                      </a:lnTo>
                      <a:lnTo>
                        <a:pt x="294" y="790"/>
                      </a:lnTo>
                      <a:lnTo>
                        <a:pt x="298" y="766"/>
                      </a:lnTo>
                      <a:lnTo>
                        <a:pt x="313" y="744"/>
                      </a:lnTo>
                      <a:lnTo>
                        <a:pt x="319" y="699"/>
                      </a:lnTo>
                      <a:lnTo>
                        <a:pt x="324" y="664"/>
                      </a:lnTo>
                      <a:lnTo>
                        <a:pt x="336" y="637"/>
                      </a:lnTo>
                      <a:lnTo>
                        <a:pt x="309" y="609"/>
                      </a:lnTo>
                      <a:lnTo>
                        <a:pt x="283" y="583"/>
                      </a:lnTo>
                      <a:lnTo>
                        <a:pt x="271" y="577"/>
                      </a:lnTo>
                      <a:lnTo>
                        <a:pt x="231" y="601"/>
                      </a:lnTo>
                      <a:lnTo>
                        <a:pt x="201" y="619"/>
                      </a:lnTo>
                      <a:lnTo>
                        <a:pt x="162" y="633"/>
                      </a:lnTo>
                      <a:lnTo>
                        <a:pt x="118" y="640"/>
                      </a:lnTo>
                      <a:lnTo>
                        <a:pt x="88" y="655"/>
                      </a:lnTo>
                      <a:lnTo>
                        <a:pt x="63" y="666"/>
                      </a:lnTo>
                      <a:lnTo>
                        <a:pt x="27" y="666"/>
                      </a:lnTo>
                      <a:lnTo>
                        <a:pt x="16" y="655"/>
                      </a:lnTo>
                      <a:lnTo>
                        <a:pt x="30" y="642"/>
                      </a:lnTo>
                      <a:lnTo>
                        <a:pt x="67" y="628"/>
                      </a:lnTo>
                      <a:lnTo>
                        <a:pt x="94" y="606"/>
                      </a:lnTo>
                      <a:lnTo>
                        <a:pt x="120" y="588"/>
                      </a:lnTo>
                      <a:lnTo>
                        <a:pt x="136" y="576"/>
                      </a:lnTo>
                      <a:lnTo>
                        <a:pt x="162" y="567"/>
                      </a:lnTo>
                      <a:lnTo>
                        <a:pt x="204" y="531"/>
                      </a:lnTo>
                      <a:lnTo>
                        <a:pt x="231" y="510"/>
                      </a:lnTo>
                      <a:lnTo>
                        <a:pt x="247" y="504"/>
                      </a:lnTo>
                      <a:lnTo>
                        <a:pt x="250" y="429"/>
                      </a:lnTo>
                      <a:lnTo>
                        <a:pt x="204" y="396"/>
                      </a:lnTo>
                      <a:lnTo>
                        <a:pt x="190" y="390"/>
                      </a:lnTo>
                      <a:lnTo>
                        <a:pt x="129" y="385"/>
                      </a:lnTo>
                      <a:lnTo>
                        <a:pt x="105" y="369"/>
                      </a:lnTo>
                      <a:lnTo>
                        <a:pt x="81" y="355"/>
                      </a:lnTo>
                      <a:lnTo>
                        <a:pt x="63" y="345"/>
                      </a:lnTo>
                      <a:lnTo>
                        <a:pt x="34" y="339"/>
                      </a:lnTo>
                      <a:lnTo>
                        <a:pt x="3" y="307"/>
                      </a:lnTo>
                      <a:lnTo>
                        <a:pt x="0" y="291"/>
                      </a:lnTo>
                      <a:lnTo>
                        <a:pt x="9" y="285"/>
                      </a:lnTo>
                      <a:lnTo>
                        <a:pt x="39" y="286"/>
                      </a:lnTo>
                      <a:lnTo>
                        <a:pt x="67" y="301"/>
                      </a:lnTo>
                      <a:lnTo>
                        <a:pt x="85" y="304"/>
                      </a:lnTo>
                      <a:lnTo>
                        <a:pt x="115" y="306"/>
                      </a:lnTo>
                      <a:lnTo>
                        <a:pt x="148" y="318"/>
                      </a:lnTo>
                      <a:lnTo>
                        <a:pt x="165" y="324"/>
                      </a:lnTo>
                      <a:lnTo>
                        <a:pt x="226" y="327"/>
                      </a:lnTo>
                      <a:lnTo>
                        <a:pt x="258" y="334"/>
                      </a:lnTo>
                      <a:lnTo>
                        <a:pt x="279" y="334"/>
                      </a:lnTo>
                    </a:path>
                  </a:pathLst>
                </a:custGeom>
                <a:solidFill>
                  <a:srgbClr val="cc99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52400" y="180612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dt" idx="4"/>
          </p:nvPr>
        </p:nvSpPr>
        <p:spPr>
          <a:xfrm>
            <a:off x="1523520" y="6350040"/>
            <a:ext cx="17240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9663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ftr" idx="5"/>
          </p:nvPr>
        </p:nvSpPr>
        <p:spPr>
          <a:xfrm>
            <a:off x="3642840" y="6350040"/>
            <a:ext cx="3449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9663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sldNum" idx="6"/>
          </p:nvPr>
        </p:nvSpPr>
        <p:spPr>
          <a:xfrm>
            <a:off x="7391160" y="6350040"/>
            <a:ext cx="17240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F7B81-59BE-452A-96D9-8F4480B4734C}" type="slidenum">
              <a:rPr b="0" lang="ru-RU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29.xml"/><Relationship Id="rId3" Type="http://schemas.openxmlformats.org/officeDocument/2006/relationships/image" Target="../media/image5.gif"/><Relationship Id="rId4" Type="http://schemas.openxmlformats.org/officeDocument/2006/relationships/slide" Target="slide29.xml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29.xml"/><Relationship Id="rId3" Type="http://schemas.openxmlformats.org/officeDocument/2006/relationships/slide" Target="slide29.xml"/><Relationship Id="rId4" Type="http://schemas.openxmlformats.org/officeDocument/2006/relationships/slide" Target="slide30.xml"/><Relationship Id="rId5" Type="http://schemas.openxmlformats.org/officeDocument/2006/relationships/slide" Target="slide29.xml"/><Relationship Id="rId6" Type="http://schemas.openxmlformats.org/officeDocument/2006/relationships/image" Target="../media/image5.gif"/><Relationship Id="rId7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29.xml"/><Relationship Id="rId3" Type="http://schemas.openxmlformats.org/officeDocument/2006/relationships/slide" Target="slide30.xml"/><Relationship Id="rId4" Type="http://schemas.openxmlformats.org/officeDocument/2006/relationships/image" Target="../media/image5.gi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gif"/><Relationship Id="rId3" Type="http://schemas.openxmlformats.org/officeDocument/2006/relationships/image" Target="../media/image20.gif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gif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gif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gif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gif"/><Relationship Id="rId3" Type="http://schemas.openxmlformats.org/officeDocument/2006/relationships/image" Target="../media/image7.gif"/><Relationship Id="rId4" Type="http://schemas.openxmlformats.org/officeDocument/2006/relationships/image" Target="../media/image8.gi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gif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1403280" y="3284640"/>
            <a:ext cx="7740720" cy="316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6600"/>
                </a:solidFill>
                <a:latin typeface="Times New Roman"/>
              </a:rPr>
              <a:t>ТЕМА УРОК</a:t>
            </a:r>
            <a:r>
              <a:rPr b="1" lang="uk-UA" sz="1800" spc="-1" strike="noStrike">
                <a:solidFill>
                  <a:srgbClr val="cc6600"/>
                </a:solidFill>
                <a:latin typeface="Times New Roman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00"/>
                </a:solidFill>
                <a:latin typeface="Times New Roman"/>
              </a:rPr>
              <a:t>Додаванн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00"/>
                </a:solidFill>
                <a:latin typeface="Times New Roman"/>
              </a:rPr>
              <a:t>раціональних чисе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00"/>
                </a:solidFill>
                <a:latin typeface="Times New Roman"/>
              </a:rPr>
              <a:t>Макогон Світлана Олександрівна, вчитель математики СЗШ №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00"/>
                </a:solidFill>
                <a:latin typeface="Times New Roman"/>
              </a:rPr>
              <a:t>м.С</a:t>
            </a:r>
            <a:r>
              <a:rPr b="1" lang="uk-UA" sz="1600" spc="-1" strike="noStrike">
                <a:solidFill>
                  <a:srgbClr val="990000"/>
                </a:solidFill>
                <a:latin typeface="Times New Roman"/>
              </a:rPr>
              <a:t>євєродонецьк Луганська об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2916360" y="189000"/>
            <a:ext cx="4751280" cy="2820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990000"/>
                </a:solidFill>
                <a:latin typeface="Times New Roman"/>
              </a:rPr>
              <a:t>Єгипетські піраміди</a:t>
            </a:r>
            <a:endParaRPr b="0" i="1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476000" y="1989000"/>
            <a:ext cx="3452760" cy="72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000000"/>
                </a:solidFill>
                <a:latin typeface="Times New Roman"/>
              </a:rPr>
              <a:t>Обчислити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>
            <a:hlinkClick r:id="rId2" action="ppaction://hlinksldjump"/>
          </p:cNvPr>
          <p:cNvSpPr/>
          <p:nvPr/>
        </p:nvSpPr>
        <p:spPr>
          <a:xfrm>
            <a:off x="6588000" y="3429000"/>
            <a:ext cx="1800360" cy="647640"/>
          </a:xfrm>
          <a:custGeom>
            <a:avLst/>
            <a:gdLst>
              <a:gd name="textAreaLeft" fmla="*/ 41760 w 1800360"/>
              <a:gd name="textAreaRight" fmla="*/ 1758600 w 180036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60024" h="21600">
                <a:moveTo>
                  <a:pt x="0" y="0"/>
                </a:moveTo>
                <a:lnTo>
                  <a:pt x="60024" y="0"/>
                </a:lnTo>
                <a:lnTo>
                  <a:pt x="60024" y="21600"/>
                </a:lnTo>
                <a:lnTo>
                  <a:pt x="0" y="21600"/>
                </a:lnTo>
                <a:close/>
              </a:path>
              <a:path fill="lightenLess" w="60024" h="21600">
                <a:moveTo>
                  <a:pt x="0" y="0"/>
                </a:moveTo>
                <a:lnTo>
                  <a:pt x="60024" y="0"/>
                </a:lnTo>
                <a:lnTo>
                  <a:pt x="58624" y="1400"/>
                </a:lnTo>
                <a:lnTo>
                  <a:pt x="1400" y="1400"/>
                </a:lnTo>
                <a:close/>
              </a:path>
              <a:path fill="darken" w="60024" h="21600">
                <a:moveTo>
                  <a:pt x="60024" y="0"/>
                </a:moveTo>
                <a:lnTo>
                  <a:pt x="60024" y="21600"/>
                </a:lnTo>
                <a:lnTo>
                  <a:pt x="58624" y="20200"/>
                </a:lnTo>
                <a:lnTo>
                  <a:pt x="58624" y="1400"/>
                </a:lnTo>
                <a:close/>
              </a:path>
              <a:path fill="darkenLess" w="60024" h="21600">
                <a:moveTo>
                  <a:pt x="600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624" y="20200"/>
                </a:lnTo>
                <a:close/>
              </a:path>
              <a:path fill="lighten" w="600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 u="sng">
                <a:solidFill>
                  <a:srgbClr val="990000"/>
                </a:solidFill>
                <a:uFillTx/>
                <a:latin typeface="Times New Roman"/>
              </a:rPr>
              <a:t>31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>
            <a:off x="1547640" y="5729400"/>
            <a:ext cx="1979640" cy="112860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5686560" y="1989000"/>
            <a:ext cx="334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990000"/>
                </a:solidFill>
                <a:latin typeface="Times New Roman"/>
              </a:rPr>
              <a:t>-255+570+(-168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476360" y="3357720"/>
            <a:ext cx="4029120" cy="7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Можливі відповіді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588000" y="4221000"/>
            <a:ext cx="1800360" cy="648000"/>
          </a:xfrm>
          <a:custGeom>
            <a:avLst/>
            <a:gdLst>
              <a:gd name="textAreaLeft" fmla="*/ 41760 w 1800360"/>
              <a:gd name="textAreaRight" fmla="*/ 1758600 w 1800360"/>
              <a:gd name="textAreaTop" fmla="*/ 41760 h 648000"/>
              <a:gd name="textAreaBottom" fmla="*/ 606240 h 648000"/>
            </a:gdLst>
            <a:ahLst/>
            <a:rect l="textAreaLeft" t="textAreaTop" r="textAreaRight" b="textAreaBottom"/>
            <a:pathLst>
              <a:path w="59991" h="21600">
                <a:moveTo>
                  <a:pt x="0" y="0"/>
                </a:moveTo>
                <a:lnTo>
                  <a:pt x="59991" y="0"/>
                </a:lnTo>
                <a:lnTo>
                  <a:pt x="59991" y="21600"/>
                </a:lnTo>
                <a:lnTo>
                  <a:pt x="0" y="21600"/>
                </a:lnTo>
                <a:close/>
              </a:path>
              <a:path fill="lightenLess" w="59991" h="21600">
                <a:moveTo>
                  <a:pt x="0" y="0"/>
                </a:moveTo>
                <a:lnTo>
                  <a:pt x="59991" y="0"/>
                </a:lnTo>
                <a:lnTo>
                  <a:pt x="58591" y="1400"/>
                </a:lnTo>
                <a:lnTo>
                  <a:pt x="1400" y="1400"/>
                </a:lnTo>
                <a:close/>
              </a:path>
              <a:path fill="darken" w="59991" h="21600">
                <a:moveTo>
                  <a:pt x="59991" y="0"/>
                </a:moveTo>
                <a:lnTo>
                  <a:pt x="59991" y="21600"/>
                </a:lnTo>
                <a:lnTo>
                  <a:pt x="58591" y="20200"/>
                </a:lnTo>
                <a:lnTo>
                  <a:pt x="58591" y="1400"/>
                </a:lnTo>
                <a:close/>
              </a:path>
              <a:path fill="darkenLess" w="59991" h="21600">
                <a:moveTo>
                  <a:pt x="59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591" y="20200"/>
                </a:lnTo>
                <a:close/>
              </a:path>
              <a:path fill="lighten" w="59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 u="sng">
                <a:solidFill>
                  <a:srgbClr val="990000"/>
                </a:solidFill>
                <a:uFillTx/>
                <a:latin typeface="Times New Roman"/>
              </a:rPr>
              <a:t>-31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>
            <a:hlinkClick r:id="rId4" action="ppaction://hlinksldjump"/>
          </p:cNvPr>
          <p:cNvSpPr/>
          <p:nvPr/>
        </p:nvSpPr>
        <p:spPr>
          <a:xfrm>
            <a:off x="6588000" y="5013360"/>
            <a:ext cx="1800360" cy="647640"/>
          </a:xfrm>
          <a:custGeom>
            <a:avLst/>
            <a:gdLst>
              <a:gd name="textAreaLeft" fmla="*/ 41760 w 1800360"/>
              <a:gd name="textAreaRight" fmla="*/ 1758600 w 180036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60024" h="21600">
                <a:moveTo>
                  <a:pt x="0" y="0"/>
                </a:moveTo>
                <a:lnTo>
                  <a:pt x="60024" y="0"/>
                </a:lnTo>
                <a:lnTo>
                  <a:pt x="60024" y="21600"/>
                </a:lnTo>
                <a:lnTo>
                  <a:pt x="0" y="21600"/>
                </a:lnTo>
                <a:close/>
              </a:path>
              <a:path fill="lightenLess" w="60024" h="21600">
                <a:moveTo>
                  <a:pt x="0" y="0"/>
                </a:moveTo>
                <a:lnTo>
                  <a:pt x="60024" y="0"/>
                </a:lnTo>
                <a:lnTo>
                  <a:pt x="58624" y="1400"/>
                </a:lnTo>
                <a:lnTo>
                  <a:pt x="1400" y="1400"/>
                </a:lnTo>
                <a:close/>
              </a:path>
              <a:path fill="darken" w="60024" h="21600">
                <a:moveTo>
                  <a:pt x="60024" y="0"/>
                </a:moveTo>
                <a:lnTo>
                  <a:pt x="60024" y="21600"/>
                </a:lnTo>
                <a:lnTo>
                  <a:pt x="58624" y="20200"/>
                </a:lnTo>
                <a:lnTo>
                  <a:pt x="58624" y="1400"/>
                </a:lnTo>
                <a:close/>
              </a:path>
              <a:path fill="darkenLess" w="60024" h="21600">
                <a:moveTo>
                  <a:pt x="600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624" y="20200"/>
                </a:lnTo>
                <a:close/>
              </a:path>
              <a:path fill="lighten" w="600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 u="sng">
                <a:solidFill>
                  <a:srgbClr val="990000"/>
                </a:solidFill>
                <a:uFillTx/>
                <a:latin typeface="Times New Roman"/>
              </a:rPr>
              <a:t>-14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588000" y="5805360"/>
            <a:ext cx="1800360" cy="648000"/>
          </a:xfrm>
          <a:custGeom>
            <a:avLst/>
            <a:gdLst>
              <a:gd name="textAreaLeft" fmla="*/ 41760 w 1800360"/>
              <a:gd name="textAreaRight" fmla="*/ 1758600 w 1800360"/>
              <a:gd name="textAreaTop" fmla="*/ 41760 h 648000"/>
              <a:gd name="textAreaBottom" fmla="*/ 606240 h 648000"/>
            </a:gdLst>
            <a:ahLst/>
            <a:rect l="textAreaLeft" t="textAreaTop" r="textAreaRight" b="textAreaBottom"/>
            <a:pathLst>
              <a:path w="59991" h="21600">
                <a:moveTo>
                  <a:pt x="0" y="0"/>
                </a:moveTo>
                <a:lnTo>
                  <a:pt x="59991" y="0"/>
                </a:lnTo>
                <a:lnTo>
                  <a:pt x="59991" y="21600"/>
                </a:lnTo>
                <a:lnTo>
                  <a:pt x="0" y="21600"/>
                </a:lnTo>
                <a:close/>
              </a:path>
              <a:path fill="lightenLess" w="59991" h="21600">
                <a:moveTo>
                  <a:pt x="0" y="0"/>
                </a:moveTo>
                <a:lnTo>
                  <a:pt x="59991" y="0"/>
                </a:lnTo>
                <a:lnTo>
                  <a:pt x="58591" y="1400"/>
                </a:lnTo>
                <a:lnTo>
                  <a:pt x="1400" y="1400"/>
                </a:lnTo>
                <a:close/>
              </a:path>
              <a:path fill="darken" w="59991" h="21600">
                <a:moveTo>
                  <a:pt x="59991" y="0"/>
                </a:moveTo>
                <a:lnTo>
                  <a:pt x="59991" y="21600"/>
                </a:lnTo>
                <a:lnTo>
                  <a:pt x="58591" y="20200"/>
                </a:lnTo>
                <a:lnTo>
                  <a:pt x="58591" y="1400"/>
                </a:lnTo>
                <a:close/>
              </a:path>
              <a:path fill="darkenLess" w="59991" h="21600">
                <a:moveTo>
                  <a:pt x="59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591" y="20200"/>
                </a:lnTo>
                <a:close/>
              </a:path>
              <a:path fill="lighten" w="59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 u="sng">
                <a:solidFill>
                  <a:srgbClr val="990000"/>
                </a:solidFill>
                <a:uFillTx/>
                <a:latin typeface="Times New Roman"/>
              </a:rPr>
              <a:t>14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500"/>
                            </p:stCondLst>
                            <p:childTnLst>
                              <p:par>
                                <p:cTn id="19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1500"/>
                            </p:stCondLst>
                            <p:childTnLst>
                              <p:par>
                                <p:cTn id="20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2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500"/>
                            </p:stCondLst>
                            <p:childTnLst>
                              <p:par>
                                <p:cTn id="2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3000"/>
                            </p:stCondLst>
                            <p:childTnLst>
                              <p:par>
                                <p:cTn id="2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990000"/>
                </a:solidFill>
                <a:latin typeface="Times New Roman"/>
              </a:rPr>
              <a:t>Єгипетські піраміди</a:t>
            </a:r>
            <a:endParaRPr b="0" i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517760" y="3284640"/>
            <a:ext cx="7626240" cy="1952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a50021"/>
                </a:solidFill>
                <a:latin typeface="Times New Roman"/>
              </a:rPr>
              <a:t>Висота піраміди Хеопса 147 метрів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0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990000"/>
                </a:solidFill>
                <a:latin typeface="Times New Roman"/>
              </a:rPr>
              <a:t>Олександрійський маяк</a:t>
            </a:r>
            <a:endParaRPr b="0" i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1477800" y="1820880"/>
            <a:ext cx="7666200" cy="503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990000"/>
                </a:solidFill>
                <a:latin typeface="Times New Roman"/>
              </a:rPr>
              <a:t>Олександрійський маяк</a:t>
            </a:r>
            <a:endParaRPr b="0" i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476000" y="1989000"/>
            <a:ext cx="3452760" cy="72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000000"/>
                </a:solidFill>
                <a:latin typeface="Times New Roman"/>
              </a:rPr>
              <a:t>Обчислити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67280" y="1989000"/>
            <a:ext cx="30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|17+(-126)+59|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76360" y="3357720"/>
            <a:ext cx="4029120" cy="7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Можливі відповіді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>
            <a:hlinkClick r:id="rId2" action="ppaction://hlinksldjump"/>
          </p:cNvPr>
          <p:cNvSpPr/>
          <p:nvPr/>
        </p:nvSpPr>
        <p:spPr>
          <a:xfrm>
            <a:off x="6588000" y="3429000"/>
            <a:ext cx="1800360" cy="647640"/>
          </a:xfrm>
          <a:custGeom>
            <a:avLst/>
            <a:gdLst>
              <a:gd name="textAreaLeft" fmla="*/ 41760 w 1800360"/>
              <a:gd name="textAreaRight" fmla="*/ 1758600 w 180036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60024" h="21600">
                <a:moveTo>
                  <a:pt x="0" y="0"/>
                </a:moveTo>
                <a:lnTo>
                  <a:pt x="60024" y="0"/>
                </a:lnTo>
                <a:lnTo>
                  <a:pt x="60024" y="21600"/>
                </a:lnTo>
                <a:lnTo>
                  <a:pt x="0" y="21600"/>
                </a:lnTo>
                <a:close/>
              </a:path>
              <a:path fill="lightenLess" w="60024" h="21600">
                <a:moveTo>
                  <a:pt x="0" y="0"/>
                </a:moveTo>
                <a:lnTo>
                  <a:pt x="60024" y="0"/>
                </a:lnTo>
                <a:lnTo>
                  <a:pt x="58624" y="1400"/>
                </a:lnTo>
                <a:lnTo>
                  <a:pt x="1400" y="1400"/>
                </a:lnTo>
                <a:close/>
              </a:path>
              <a:path fill="darken" w="60024" h="21600">
                <a:moveTo>
                  <a:pt x="60024" y="0"/>
                </a:moveTo>
                <a:lnTo>
                  <a:pt x="60024" y="21600"/>
                </a:lnTo>
                <a:lnTo>
                  <a:pt x="58624" y="20200"/>
                </a:lnTo>
                <a:lnTo>
                  <a:pt x="58624" y="1400"/>
                </a:lnTo>
                <a:close/>
              </a:path>
              <a:path fill="darkenLess" w="60024" h="21600">
                <a:moveTo>
                  <a:pt x="600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624" y="20200"/>
                </a:lnTo>
                <a:close/>
              </a:path>
              <a:path fill="lighten" w="600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990000"/>
                </a:solidFill>
                <a:uFillTx/>
                <a:latin typeface="Times New Roman"/>
              </a:rPr>
              <a:t>-5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>
            <a:hlinkClick r:id="rId3" action="ppaction://hlinksldjump"/>
          </p:cNvPr>
          <p:cNvSpPr/>
          <p:nvPr/>
        </p:nvSpPr>
        <p:spPr>
          <a:xfrm>
            <a:off x="6588000" y="4221000"/>
            <a:ext cx="1800360" cy="648000"/>
          </a:xfrm>
          <a:custGeom>
            <a:avLst/>
            <a:gdLst>
              <a:gd name="textAreaLeft" fmla="*/ 41760 w 1800360"/>
              <a:gd name="textAreaRight" fmla="*/ 1758600 w 1800360"/>
              <a:gd name="textAreaTop" fmla="*/ 41760 h 648000"/>
              <a:gd name="textAreaBottom" fmla="*/ 606240 h 648000"/>
            </a:gdLst>
            <a:ahLst/>
            <a:rect l="textAreaLeft" t="textAreaTop" r="textAreaRight" b="textAreaBottom"/>
            <a:pathLst>
              <a:path w="59991" h="21600">
                <a:moveTo>
                  <a:pt x="0" y="0"/>
                </a:moveTo>
                <a:lnTo>
                  <a:pt x="59991" y="0"/>
                </a:lnTo>
                <a:lnTo>
                  <a:pt x="59991" y="21600"/>
                </a:lnTo>
                <a:lnTo>
                  <a:pt x="0" y="21600"/>
                </a:lnTo>
                <a:close/>
              </a:path>
              <a:path fill="lightenLess" w="59991" h="21600">
                <a:moveTo>
                  <a:pt x="0" y="0"/>
                </a:moveTo>
                <a:lnTo>
                  <a:pt x="59991" y="0"/>
                </a:lnTo>
                <a:lnTo>
                  <a:pt x="58591" y="1400"/>
                </a:lnTo>
                <a:lnTo>
                  <a:pt x="1400" y="1400"/>
                </a:lnTo>
                <a:close/>
              </a:path>
              <a:path fill="darken" w="59991" h="21600">
                <a:moveTo>
                  <a:pt x="59991" y="0"/>
                </a:moveTo>
                <a:lnTo>
                  <a:pt x="59991" y="21600"/>
                </a:lnTo>
                <a:lnTo>
                  <a:pt x="58591" y="20200"/>
                </a:lnTo>
                <a:lnTo>
                  <a:pt x="58591" y="1400"/>
                </a:lnTo>
                <a:close/>
              </a:path>
              <a:path fill="darkenLess" w="59991" h="21600">
                <a:moveTo>
                  <a:pt x="59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591" y="20200"/>
                </a:lnTo>
                <a:close/>
              </a:path>
              <a:path fill="lighten" w="59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990000"/>
                </a:solidFill>
                <a:uFillTx/>
                <a:latin typeface="Times New Roman"/>
              </a:rPr>
              <a:t>6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>
            <a:hlinkClick r:id="rId4" action="ppaction://hlinksldjump"/>
          </p:cNvPr>
          <p:cNvSpPr/>
          <p:nvPr/>
        </p:nvSpPr>
        <p:spPr>
          <a:xfrm>
            <a:off x="6588000" y="5013360"/>
            <a:ext cx="1800360" cy="647640"/>
          </a:xfrm>
          <a:custGeom>
            <a:avLst/>
            <a:gdLst>
              <a:gd name="textAreaLeft" fmla="*/ 41760 w 1800360"/>
              <a:gd name="textAreaRight" fmla="*/ 1758600 w 180036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60024" h="21600">
                <a:moveTo>
                  <a:pt x="0" y="0"/>
                </a:moveTo>
                <a:lnTo>
                  <a:pt x="60024" y="0"/>
                </a:lnTo>
                <a:lnTo>
                  <a:pt x="60024" y="21600"/>
                </a:lnTo>
                <a:lnTo>
                  <a:pt x="0" y="21600"/>
                </a:lnTo>
                <a:close/>
              </a:path>
              <a:path fill="lightenLess" w="60024" h="21600">
                <a:moveTo>
                  <a:pt x="0" y="0"/>
                </a:moveTo>
                <a:lnTo>
                  <a:pt x="60024" y="0"/>
                </a:lnTo>
                <a:lnTo>
                  <a:pt x="58624" y="1400"/>
                </a:lnTo>
                <a:lnTo>
                  <a:pt x="1400" y="1400"/>
                </a:lnTo>
                <a:close/>
              </a:path>
              <a:path fill="darken" w="60024" h="21600">
                <a:moveTo>
                  <a:pt x="60024" y="0"/>
                </a:moveTo>
                <a:lnTo>
                  <a:pt x="60024" y="21600"/>
                </a:lnTo>
                <a:lnTo>
                  <a:pt x="58624" y="20200"/>
                </a:lnTo>
                <a:lnTo>
                  <a:pt x="58624" y="1400"/>
                </a:lnTo>
                <a:close/>
              </a:path>
              <a:path fill="darkenLess" w="60024" h="21600">
                <a:moveTo>
                  <a:pt x="600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624" y="20200"/>
                </a:lnTo>
                <a:close/>
              </a:path>
              <a:path fill="lighten" w="600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990000"/>
                </a:solidFill>
                <a:uFillTx/>
                <a:latin typeface="Times New Roman"/>
              </a:rPr>
              <a:t>5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>
            <a:hlinkClick r:id="rId5" action="ppaction://hlinksldjump"/>
          </p:cNvPr>
          <p:cNvSpPr/>
          <p:nvPr/>
        </p:nvSpPr>
        <p:spPr>
          <a:xfrm>
            <a:off x="6588000" y="5805360"/>
            <a:ext cx="1800360" cy="648000"/>
          </a:xfrm>
          <a:custGeom>
            <a:avLst/>
            <a:gdLst>
              <a:gd name="textAreaLeft" fmla="*/ 41760 w 1800360"/>
              <a:gd name="textAreaRight" fmla="*/ 1758600 w 1800360"/>
              <a:gd name="textAreaTop" fmla="*/ 41760 h 648000"/>
              <a:gd name="textAreaBottom" fmla="*/ 606240 h 648000"/>
            </a:gdLst>
            <a:ahLst/>
            <a:rect l="textAreaLeft" t="textAreaTop" r="textAreaRight" b="textAreaBottom"/>
            <a:pathLst>
              <a:path w="59991" h="21600">
                <a:moveTo>
                  <a:pt x="0" y="0"/>
                </a:moveTo>
                <a:lnTo>
                  <a:pt x="59991" y="0"/>
                </a:lnTo>
                <a:lnTo>
                  <a:pt x="59991" y="21600"/>
                </a:lnTo>
                <a:lnTo>
                  <a:pt x="0" y="21600"/>
                </a:lnTo>
                <a:close/>
              </a:path>
              <a:path fill="lightenLess" w="59991" h="21600">
                <a:moveTo>
                  <a:pt x="0" y="0"/>
                </a:moveTo>
                <a:lnTo>
                  <a:pt x="59991" y="0"/>
                </a:lnTo>
                <a:lnTo>
                  <a:pt x="58591" y="1400"/>
                </a:lnTo>
                <a:lnTo>
                  <a:pt x="1400" y="1400"/>
                </a:lnTo>
                <a:close/>
              </a:path>
              <a:path fill="darken" w="59991" h="21600">
                <a:moveTo>
                  <a:pt x="59991" y="0"/>
                </a:moveTo>
                <a:lnTo>
                  <a:pt x="59991" y="21600"/>
                </a:lnTo>
                <a:lnTo>
                  <a:pt x="58591" y="20200"/>
                </a:lnTo>
                <a:lnTo>
                  <a:pt x="58591" y="1400"/>
                </a:lnTo>
                <a:close/>
              </a:path>
              <a:path fill="darkenLess" w="59991" h="21600">
                <a:moveTo>
                  <a:pt x="59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591" y="20200"/>
                </a:lnTo>
                <a:close/>
              </a:path>
              <a:path fill="lighten" w="59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990000"/>
                </a:solidFill>
                <a:uFillTx/>
                <a:latin typeface="Times New Roman"/>
              </a:rPr>
              <a:t>3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6"/>
          <a:stretch/>
        </p:blipFill>
        <p:spPr>
          <a:xfrm>
            <a:off x="1547640" y="5729400"/>
            <a:ext cx="1979640" cy="1128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0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500"/>
                            </p:stCondLst>
                            <p:childTnLst>
                              <p:par>
                                <p:cTn id="24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1000"/>
                            </p:stCondLst>
                            <p:childTnLst>
                              <p:par>
                                <p:cTn id="2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500"/>
                            </p:stCondLst>
                            <p:childTnLst>
                              <p:par>
                                <p:cTn id="2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000"/>
                            </p:stCondLst>
                            <p:childTnLst>
                              <p:par>
                                <p:cTn id="25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2500"/>
                            </p:stCondLst>
                            <p:childTnLst>
                              <p:par>
                                <p:cTn id="26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3000"/>
                            </p:stCondLst>
                            <p:childTnLst>
                              <p:par>
                                <p:cTn id="26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990000"/>
                </a:solidFill>
                <a:latin typeface="Times New Roman"/>
              </a:rPr>
              <a:t>Олександрійський маяк</a:t>
            </a:r>
            <a:endParaRPr b="0" i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517760" y="3284640"/>
            <a:ext cx="7626240" cy="1952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a50021"/>
                </a:solidFill>
                <a:latin typeface="Times New Roman"/>
              </a:rPr>
              <a:t>Відстань, з якої було видно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800" spc="-1" strike="noStrike">
                <a:solidFill>
                  <a:srgbClr val="a50021"/>
                </a:solidFill>
                <a:latin typeface="Times New Roman"/>
              </a:rPr>
              <a:t>маяк – 50 км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0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500"/>
                            </p:stCondLst>
                            <p:childTnLst>
                              <p:par>
                                <p:cTn id="27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990000"/>
                </a:solidFill>
                <a:latin typeface="Times New Roman"/>
              </a:rPr>
              <a:t>Висячі сади Вавилона</a:t>
            </a:r>
            <a:endParaRPr b="0" i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2916360" y="1822320"/>
            <a:ext cx="4706640" cy="503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990000"/>
                </a:solidFill>
                <a:latin typeface="Times New Roman"/>
              </a:rPr>
              <a:t>Висячі сади Вавилона</a:t>
            </a:r>
            <a:endParaRPr b="0" i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476000" y="1989000"/>
            <a:ext cx="3452760" cy="72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000000"/>
                </a:solidFill>
                <a:latin typeface="Times New Roman"/>
              </a:rPr>
              <a:t>Обчислити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967280" y="1989000"/>
            <a:ext cx="41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-54,46+130,28+(-35,8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476360" y="3357720"/>
            <a:ext cx="4029120" cy="7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Можливі відповіді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88000" y="3429000"/>
            <a:ext cx="1800360" cy="647640"/>
          </a:xfrm>
          <a:custGeom>
            <a:avLst/>
            <a:gdLst>
              <a:gd name="textAreaLeft" fmla="*/ 41760 w 1800360"/>
              <a:gd name="textAreaRight" fmla="*/ 1758600 w 180036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60024" h="21600">
                <a:moveTo>
                  <a:pt x="0" y="0"/>
                </a:moveTo>
                <a:lnTo>
                  <a:pt x="60024" y="0"/>
                </a:lnTo>
                <a:lnTo>
                  <a:pt x="60024" y="21600"/>
                </a:lnTo>
                <a:lnTo>
                  <a:pt x="0" y="21600"/>
                </a:lnTo>
                <a:close/>
              </a:path>
              <a:path fill="lightenLess" w="60024" h="21600">
                <a:moveTo>
                  <a:pt x="0" y="0"/>
                </a:moveTo>
                <a:lnTo>
                  <a:pt x="60024" y="0"/>
                </a:lnTo>
                <a:lnTo>
                  <a:pt x="58624" y="1400"/>
                </a:lnTo>
                <a:lnTo>
                  <a:pt x="1400" y="1400"/>
                </a:lnTo>
                <a:close/>
              </a:path>
              <a:path fill="darken" w="60024" h="21600">
                <a:moveTo>
                  <a:pt x="60024" y="0"/>
                </a:moveTo>
                <a:lnTo>
                  <a:pt x="60024" y="21600"/>
                </a:lnTo>
                <a:lnTo>
                  <a:pt x="58624" y="20200"/>
                </a:lnTo>
                <a:lnTo>
                  <a:pt x="58624" y="1400"/>
                </a:lnTo>
                <a:close/>
              </a:path>
              <a:path fill="darkenLess" w="60024" h="21600">
                <a:moveTo>
                  <a:pt x="600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624" y="20200"/>
                </a:lnTo>
                <a:close/>
              </a:path>
              <a:path fill="lighten" w="600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990000"/>
                </a:solidFill>
                <a:uFillTx/>
                <a:latin typeface="Times New Roman"/>
              </a:rPr>
              <a:t>4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588000" y="4221000"/>
            <a:ext cx="1800360" cy="648000"/>
          </a:xfrm>
          <a:custGeom>
            <a:avLst/>
            <a:gdLst>
              <a:gd name="textAreaLeft" fmla="*/ 41760 w 1800360"/>
              <a:gd name="textAreaRight" fmla="*/ 1758600 w 1800360"/>
              <a:gd name="textAreaTop" fmla="*/ 41760 h 648000"/>
              <a:gd name="textAreaBottom" fmla="*/ 606240 h 648000"/>
            </a:gdLst>
            <a:ahLst/>
            <a:rect l="textAreaLeft" t="textAreaTop" r="textAreaRight" b="textAreaBottom"/>
            <a:pathLst>
              <a:path w="59991" h="21600">
                <a:moveTo>
                  <a:pt x="0" y="0"/>
                </a:moveTo>
                <a:lnTo>
                  <a:pt x="59991" y="0"/>
                </a:lnTo>
                <a:lnTo>
                  <a:pt x="59991" y="21600"/>
                </a:lnTo>
                <a:lnTo>
                  <a:pt x="0" y="21600"/>
                </a:lnTo>
                <a:close/>
              </a:path>
              <a:path fill="lightenLess" w="59991" h="21600">
                <a:moveTo>
                  <a:pt x="0" y="0"/>
                </a:moveTo>
                <a:lnTo>
                  <a:pt x="59991" y="0"/>
                </a:lnTo>
                <a:lnTo>
                  <a:pt x="58591" y="1400"/>
                </a:lnTo>
                <a:lnTo>
                  <a:pt x="1400" y="1400"/>
                </a:lnTo>
                <a:close/>
              </a:path>
              <a:path fill="darken" w="59991" h="21600">
                <a:moveTo>
                  <a:pt x="59991" y="0"/>
                </a:moveTo>
                <a:lnTo>
                  <a:pt x="59991" y="21600"/>
                </a:lnTo>
                <a:lnTo>
                  <a:pt x="58591" y="20200"/>
                </a:lnTo>
                <a:lnTo>
                  <a:pt x="58591" y="1400"/>
                </a:lnTo>
                <a:close/>
              </a:path>
              <a:path fill="darkenLess" w="59991" h="21600">
                <a:moveTo>
                  <a:pt x="59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591" y="20200"/>
                </a:lnTo>
                <a:close/>
              </a:path>
              <a:path fill="lighten" w="59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990000"/>
                </a:solidFill>
                <a:uFillTx/>
                <a:latin typeface="Times New Roman"/>
              </a:rPr>
              <a:t>-4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588000" y="5013360"/>
            <a:ext cx="1800360" cy="647640"/>
          </a:xfrm>
          <a:custGeom>
            <a:avLst/>
            <a:gdLst>
              <a:gd name="textAreaLeft" fmla="*/ 41760 w 1800360"/>
              <a:gd name="textAreaRight" fmla="*/ 1758600 w 180036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60024" h="21600">
                <a:moveTo>
                  <a:pt x="0" y="0"/>
                </a:moveTo>
                <a:lnTo>
                  <a:pt x="60024" y="0"/>
                </a:lnTo>
                <a:lnTo>
                  <a:pt x="60024" y="21600"/>
                </a:lnTo>
                <a:lnTo>
                  <a:pt x="0" y="21600"/>
                </a:lnTo>
                <a:close/>
              </a:path>
              <a:path fill="lightenLess" w="60024" h="21600">
                <a:moveTo>
                  <a:pt x="0" y="0"/>
                </a:moveTo>
                <a:lnTo>
                  <a:pt x="60024" y="0"/>
                </a:lnTo>
                <a:lnTo>
                  <a:pt x="58624" y="1400"/>
                </a:lnTo>
                <a:lnTo>
                  <a:pt x="1400" y="1400"/>
                </a:lnTo>
                <a:close/>
              </a:path>
              <a:path fill="darken" w="60024" h="21600">
                <a:moveTo>
                  <a:pt x="60024" y="0"/>
                </a:moveTo>
                <a:lnTo>
                  <a:pt x="60024" y="21600"/>
                </a:lnTo>
                <a:lnTo>
                  <a:pt x="58624" y="20200"/>
                </a:lnTo>
                <a:lnTo>
                  <a:pt x="58624" y="1400"/>
                </a:lnTo>
                <a:close/>
              </a:path>
              <a:path fill="darkenLess" w="60024" h="21600">
                <a:moveTo>
                  <a:pt x="600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624" y="20200"/>
                </a:lnTo>
                <a:close/>
              </a:path>
              <a:path fill="lighten" w="600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990000"/>
                </a:solidFill>
                <a:uFillTx/>
                <a:latin typeface="Times New Roman"/>
              </a:rPr>
              <a:t>-4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588000" y="5805360"/>
            <a:ext cx="1800360" cy="648000"/>
          </a:xfrm>
          <a:custGeom>
            <a:avLst/>
            <a:gdLst>
              <a:gd name="textAreaLeft" fmla="*/ 41760 w 1800360"/>
              <a:gd name="textAreaRight" fmla="*/ 1758600 w 1800360"/>
              <a:gd name="textAreaTop" fmla="*/ 41760 h 648000"/>
              <a:gd name="textAreaBottom" fmla="*/ 606240 h 648000"/>
            </a:gdLst>
            <a:ahLst/>
            <a:rect l="textAreaLeft" t="textAreaTop" r="textAreaRight" b="textAreaBottom"/>
            <a:pathLst>
              <a:path w="59991" h="21600">
                <a:moveTo>
                  <a:pt x="0" y="0"/>
                </a:moveTo>
                <a:lnTo>
                  <a:pt x="59991" y="0"/>
                </a:lnTo>
                <a:lnTo>
                  <a:pt x="59991" y="21600"/>
                </a:lnTo>
                <a:lnTo>
                  <a:pt x="0" y="21600"/>
                </a:lnTo>
                <a:close/>
              </a:path>
              <a:path fill="lightenLess" w="59991" h="21600">
                <a:moveTo>
                  <a:pt x="0" y="0"/>
                </a:moveTo>
                <a:lnTo>
                  <a:pt x="59991" y="0"/>
                </a:lnTo>
                <a:lnTo>
                  <a:pt x="58591" y="1400"/>
                </a:lnTo>
                <a:lnTo>
                  <a:pt x="1400" y="1400"/>
                </a:lnTo>
                <a:close/>
              </a:path>
              <a:path fill="darken" w="59991" h="21600">
                <a:moveTo>
                  <a:pt x="59991" y="0"/>
                </a:moveTo>
                <a:lnTo>
                  <a:pt x="59991" y="21600"/>
                </a:lnTo>
                <a:lnTo>
                  <a:pt x="58591" y="20200"/>
                </a:lnTo>
                <a:lnTo>
                  <a:pt x="58591" y="1400"/>
                </a:lnTo>
                <a:close/>
              </a:path>
              <a:path fill="darkenLess" w="59991" h="21600">
                <a:moveTo>
                  <a:pt x="59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591" y="20200"/>
                </a:lnTo>
                <a:close/>
              </a:path>
              <a:path fill="lighten" w="59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990000"/>
                </a:solidFill>
                <a:uFillTx/>
                <a:latin typeface="Times New Roman"/>
              </a:rPr>
              <a:t>5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1547640" y="5729400"/>
            <a:ext cx="1979640" cy="1128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0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500"/>
                            </p:stCondLst>
                            <p:childTnLst>
                              <p:par>
                                <p:cTn id="2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1000"/>
                            </p:stCondLst>
                            <p:childTnLst>
                              <p:par>
                                <p:cTn id="29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500"/>
                            </p:stCondLst>
                            <p:childTnLst>
                              <p:par>
                                <p:cTn id="30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2500"/>
                            </p:stCondLst>
                            <p:childTnLst>
                              <p:par>
                                <p:cTn id="31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3000"/>
                            </p:stCondLst>
                            <p:childTnLst>
                              <p:par>
                                <p:cTn id="31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990000"/>
                </a:solidFill>
                <a:latin typeface="Times New Roman"/>
              </a:rPr>
              <a:t>Висячі сади Вавилона</a:t>
            </a:r>
            <a:endParaRPr b="0" i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517760" y="2923920"/>
            <a:ext cx="7626240" cy="259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a50021"/>
                </a:solidFill>
                <a:latin typeface="Times New Roman"/>
              </a:rPr>
              <a:t>Верхня тераса садів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a50021"/>
                </a:solidFill>
                <a:latin typeface="Times New Roman"/>
              </a:rPr>
              <a:t> </a:t>
            </a:r>
            <a:r>
              <a:rPr b="0" i="1" lang="ru-RU" sz="4800" spc="-1" strike="noStrike">
                <a:solidFill>
                  <a:srgbClr val="a50021"/>
                </a:solidFill>
                <a:latin typeface="Times New Roman"/>
              </a:rPr>
              <a:t>Семіраміди </a:t>
            </a:r>
            <a:r>
              <a:rPr b="0" i="1" lang="uk-UA" sz="4800" spc="-1" strike="noStrike">
                <a:solidFill>
                  <a:srgbClr val="a50021"/>
                </a:solidFill>
                <a:latin typeface="Times New Roman"/>
              </a:rPr>
              <a:t>знаходилас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800" spc="-1" strike="noStrike">
                <a:solidFill>
                  <a:srgbClr val="a50021"/>
                </a:solidFill>
                <a:latin typeface="Times New Roman"/>
              </a:rPr>
              <a:t>на висоті 40 м над землею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0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500"/>
                            </p:stCondLst>
                            <p:childTnLst>
                              <p:par>
                                <p:cTn id="33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1000"/>
                            </p:stCondLst>
                            <p:childTnLst>
                              <p:par>
                                <p:cTn id="3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990000"/>
                </a:solidFill>
                <a:latin typeface="Times New Roman"/>
              </a:rPr>
              <a:t>Колос Родоський</a:t>
            </a:r>
            <a:endParaRPr b="0" i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1481040" y="1824120"/>
            <a:ext cx="7662960" cy="503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990000"/>
                </a:solidFill>
                <a:latin typeface="Times New Roman"/>
              </a:rPr>
              <a:t>Колос Родоський</a:t>
            </a:r>
            <a:endParaRPr b="0" i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476000" y="2133360"/>
            <a:ext cx="3737160" cy="65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800" spc="-1" strike="noStrike">
                <a:solidFill>
                  <a:srgbClr val="000000"/>
                </a:solidFill>
                <a:latin typeface="Times New Roman"/>
              </a:rPr>
              <a:t>Обчислити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476360" y="3357720"/>
            <a:ext cx="4029120" cy="7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Можливі відповіді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>
            <a:hlinkClick r:id="rId2" action="ppaction://hlinksldjump"/>
          </p:cNvPr>
          <p:cNvSpPr/>
          <p:nvPr/>
        </p:nvSpPr>
        <p:spPr>
          <a:xfrm>
            <a:off x="6588000" y="3429000"/>
            <a:ext cx="1800360" cy="647640"/>
          </a:xfrm>
          <a:custGeom>
            <a:avLst/>
            <a:gdLst>
              <a:gd name="textAreaLeft" fmla="*/ 41760 w 1800360"/>
              <a:gd name="textAreaRight" fmla="*/ 1758600 w 180036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60024" h="21600">
                <a:moveTo>
                  <a:pt x="0" y="0"/>
                </a:moveTo>
                <a:lnTo>
                  <a:pt x="60024" y="0"/>
                </a:lnTo>
                <a:lnTo>
                  <a:pt x="60024" y="21600"/>
                </a:lnTo>
                <a:lnTo>
                  <a:pt x="0" y="21600"/>
                </a:lnTo>
                <a:close/>
              </a:path>
              <a:path fill="lightenLess" w="60024" h="21600">
                <a:moveTo>
                  <a:pt x="0" y="0"/>
                </a:moveTo>
                <a:lnTo>
                  <a:pt x="60024" y="0"/>
                </a:lnTo>
                <a:lnTo>
                  <a:pt x="58624" y="1400"/>
                </a:lnTo>
                <a:lnTo>
                  <a:pt x="1400" y="1400"/>
                </a:lnTo>
                <a:close/>
              </a:path>
              <a:path fill="darken" w="60024" h="21600">
                <a:moveTo>
                  <a:pt x="60024" y="0"/>
                </a:moveTo>
                <a:lnTo>
                  <a:pt x="60024" y="21600"/>
                </a:lnTo>
                <a:lnTo>
                  <a:pt x="58624" y="20200"/>
                </a:lnTo>
                <a:lnTo>
                  <a:pt x="58624" y="1400"/>
                </a:lnTo>
                <a:close/>
              </a:path>
              <a:path fill="darkenLess" w="60024" h="21600">
                <a:moveTo>
                  <a:pt x="600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624" y="20200"/>
                </a:lnTo>
                <a:close/>
              </a:path>
              <a:path fill="lighten" w="600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990000"/>
                </a:solidFill>
                <a:uFillTx/>
                <a:latin typeface="Times New Roman"/>
              </a:rPr>
              <a:t>5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>
            <a:hlinkClick r:id="rId3" action="ppaction://hlinksldjump"/>
          </p:cNvPr>
          <p:cNvSpPr/>
          <p:nvPr/>
        </p:nvSpPr>
        <p:spPr>
          <a:xfrm>
            <a:off x="6588000" y="4221000"/>
            <a:ext cx="1800360" cy="648000"/>
          </a:xfrm>
          <a:custGeom>
            <a:avLst/>
            <a:gdLst>
              <a:gd name="textAreaLeft" fmla="*/ 41760 w 1800360"/>
              <a:gd name="textAreaRight" fmla="*/ 1758600 w 1800360"/>
              <a:gd name="textAreaTop" fmla="*/ 41760 h 648000"/>
              <a:gd name="textAreaBottom" fmla="*/ 606240 h 648000"/>
            </a:gdLst>
            <a:ahLst/>
            <a:rect l="textAreaLeft" t="textAreaTop" r="textAreaRight" b="textAreaBottom"/>
            <a:pathLst>
              <a:path w="59991" h="21600">
                <a:moveTo>
                  <a:pt x="0" y="0"/>
                </a:moveTo>
                <a:lnTo>
                  <a:pt x="59991" y="0"/>
                </a:lnTo>
                <a:lnTo>
                  <a:pt x="59991" y="21600"/>
                </a:lnTo>
                <a:lnTo>
                  <a:pt x="0" y="21600"/>
                </a:lnTo>
                <a:close/>
              </a:path>
              <a:path fill="lightenLess" w="59991" h="21600">
                <a:moveTo>
                  <a:pt x="0" y="0"/>
                </a:moveTo>
                <a:lnTo>
                  <a:pt x="59991" y="0"/>
                </a:lnTo>
                <a:lnTo>
                  <a:pt x="58591" y="1400"/>
                </a:lnTo>
                <a:lnTo>
                  <a:pt x="1400" y="1400"/>
                </a:lnTo>
                <a:close/>
              </a:path>
              <a:path fill="darken" w="59991" h="21600">
                <a:moveTo>
                  <a:pt x="59991" y="0"/>
                </a:moveTo>
                <a:lnTo>
                  <a:pt x="59991" y="21600"/>
                </a:lnTo>
                <a:lnTo>
                  <a:pt x="58591" y="20200"/>
                </a:lnTo>
                <a:lnTo>
                  <a:pt x="58591" y="1400"/>
                </a:lnTo>
                <a:close/>
              </a:path>
              <a:path fill="darkenLess" w="59991" h="21600">
                <a:moveTo>
                  <a:pt x="59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591" y="20200"/>
                </a:lnTo>
                <a:close/>
              </a:path>
              <a:path fill="lighten" w="59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 u="sng">
                <a:solidFill>
                  <a:srgbClr val="990000"/>
                </a:solidFill>
                <a:uFillTx/>
                <a:latin typeface="Times New Roman"/>
              </a:rPr>
              <a:t>4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588000" y="5013360"/>
            <a:ext cx="1800360" cy="647640"/>
          </a:xfrm>
          <a:custGeom>
            <a:avLst/>
            <a:gdLst>
              <a:gd name="textAreaLeft" fmla="*/ 41760 w 1800360"/>
              <a:gd name="textAreaRight" fmla="*/ 1758600 w 180036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60024" h="21600">
                <a:moveTo>
                  <a:pt x="0" y="0"/>
                </a:moveTo>
                <a:lnTo>
                  <a:pt x="60024" y="0"/>
                </a:lnTo>
                <a:lnTo>
                  <a:pt x="60024" y="21600"/>
                </a:lnTo>
                <a:lnTo>
                  <a:pt x="0" y="21600"/>
                </a:lnTo>
                <a:close/>
              </a:path>
              <a:path fill="lightenLess" w="60024" h="21600">
                <a:moveTo>
                  <a:pt x="0" y="0"/>
                </a:moveTo>
                <a:lnTo>
                  <a:pt x="60024" y="0"/>
                </a:lnTo>
                <a:lnTo>
                  <a:pt x="58624" y="1400"/>
                </a:lnTo>
                <a:lnTo>
                  <a:pt x="1400" y="1400"/>
                </a:lnTo>
                <a:close/>
              </a:path>
              <a:path fill="darken" w="60024" h="21600">
                <a:moveTo>
                  <a:pt x="60024" y="0"/>
                </a:moveTo>
                <a:lnTo>
                  <a:pt x="60024" y="21600"/>
                </a:lnTo>
                <a:lnTo>
                  <a:pt x="58624" y="20200"/>
                </a:lnTo>
                <a:lnTo>
                  <a:pt x="58624" y="1400"/>
                </a:lnTo>
                <a:close/>
              </a:path>
              <a:path fill="darkenLess" w="60024" h="21600">
                <a:moveTo>
                  <a:pt x="600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624" y="20200"/>
                </a:lnTo>
                <a:close/>
              </a:path>
              <a:path fill="lighten" w="600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 u="sng">
                <a:solidFill>
                  <a:srgbClr val="990000"/>
                </a:solidFill>
                <a:uFillTx/>
                <a:latin typeface="Times New Roman"/>
              </a:rPr>
              <a:t>-4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588000" y="5805360"/>
            <a:ext cx="1800360" cy="648000"/>
          </a:xfrm>
          <a:custGeom>
            <a:avLst/>
            <a:gdLst>
              <a:gd name="textAreaLeft" fmla="*/ 41760 w 1800360"/>
              <a:gd name="textAreaRight" fmla="*/ 1758600 w 1800360"/>
              <a:gd name="textAreaTop" fmla="*/ 41760 h 648000"/>
              <a:gd name="textAreaBottom" fmla="*/ 606240 h 648000"/>
            </a:gdLst>
            <a:ahLst/>
            <a:rect l="textAreaLeft" t="textAreaTop" r="textAreaRight" b="textAreaBottom"/>
            <a:pathLst>
              <a:path w="59991" h="21600">
                <a:moveTo>
                  <a:pt x="0" y="0"/>
                </a:moveTo>
                <a:lnTo>
                  <a:pt x="59991" y="0"/>
                </a:lnTo>
                <a:lnTo>
                  <a:pt x="59991" y="21600"/>
                </a:lnTo>
                <a:lnTo>
                  <a:pt x="0" y="21600"/>
                </a:lnTo>
                <a:close/>
              </a:path>
              <a:path fill="lightenLess" w="59991" h="21600">
                <a:moveTo>
                  <a:pt x="0" y="0"/>
                </a:moveTo>
                <a:lnTo>
                  <a:pt x="59991" y="0"/>
                </a:lnTo>
                <a:lnTo>
                  <a:pt x="58591" y="1400"/>
                </a:lnTo>
                <a:lnTo>
                  <a:pt x="1400" y="1400"/>
                </a:lnTo>
                <a:close/>
              </a:path>
              <a:path fill="darken" w="59991" h="21600">
                <a:moveTo>
                  <a:pt x="59991" y="0"/>
                </a:moveTo>
                <a:lnTo>
                  <a:pt x="59991" y="21600"/>
                </a:lnTo>
                <a:lnTo>
                  <a:pt x="58591" y="20200"/>
                </a:lnTo>
                <a:lnTo>
                  <a:pt x="58591" y="1400"/>
                </a:lnTo>
                <a:close/>
              </a:path>
              <a:path fill="darkenLess" w="59991" h="21600">
                <a:moveTo>
                  <a:pt x="59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591" y="20200"/>
                </a:lnTo>
                <a:close/>
              </a:path>
              <a:path fill="lighten" w="59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990000"/>
                </a:solidFill>
                <a:uFillTx/>
                <a:latin typeface="Times New Roman"/>
              </a:rPr>
              <a:t>3</a:t>
            </a:r>
            <a:r>
              <a:rPr b="1" lang="uk-UA" sz="3200" spc="-1" strike="noStrike" u="sng">
                <a:solidFill>
                  <a:srgbClr val="990000"/>
                </a:solidFill>
                <a:uFillTx/>
                <a:latin typeface="Times New Roman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1547640" y="5729400"/>
            <a:ext cx="1979640" cy="11286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5435640" y="1844640"/>
                <a:ext cx="3519360" cy="104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9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31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0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500"/>
                            </p:stCondLst>
                            <p:childTnLst>
                              <p:par>
                                <p:cTn id="34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1000"/>
                            </p:stCondLst>
                            <p:childTnLst>
                              <p:par>
                                <p:cTn id="35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500"/>
                            </p:stCondLst>
                            <p:childTnLst>
                              <p:par>
                                <p:cTn id="35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2000"/>
                            </p:stCondLst>
                            <p:childTnLst>
                              <p:par>
                                <p:cTn id="36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2500"/>
                            </p:stCondLst>
                            <p:childTnLst>
                              <p:par>
                                <p:cTn id="3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3000"/>
                            </p:stCondLst>
                            <p:childTnLst>
                              <p:par>
                                <p:cTn id="37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76360" y="304560"/>
            <a:ext cx="7616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Times New Roman"/>
              </a:rPr>
              <a:t>Які числа називають раціональними</a:t>
            </a: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?</a:t>
            </a:r>
            <a:endParaRPr b="0" i="1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ru-RU" sz="4800" spc="-1" strike="noStrike">
                <a:solidFill>
                  <a:srgbClr val="a50021"/>
                </a:solidFill>
                <a:latin typeface="Times New Roman"/>
              </a:rPr>
              <a:t>Цілі числа  +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a50021"/>
                </a:solidFill>
                <a:latin typeface="Times New Roman"/>
              </a:rPr>
              <a:t>      </a:t>
            </a:r>
            <a:r>
              <a:rPr b="1" i="1" lang="ru-RU" sz="4800" spc="-1" strike="noStrike">
                <a:solidFill>
                  <a:srgbClr val="a50021"/>
                </a:solidFill>
                <a:latin typeface="Times New Roman"/>
              </a:rPr>
              <a:t>+ дробові числа  =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a50021"/>
                </a:solidFill>
                <a:latin typeface="Times New Roman"/>
              </a:rPr>
              <a:t>           </a:t>
            </a:r>
            <a:r>
              <a:rPr b="1" i="1" lang="ru-RU" sz="4800" spc="-1" strike="noStrike">
                <a:solidFill>
                  <a:srgbClr val="a50021"/>
                </a:solidFill>
                <a:latin typeface="Times New Roman"/>
              </a:rPr>
              <a:t>=  раціональні числа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990000"/>
                </a:solidFill>
                <a:latin typeface="Times New Roman"/>
              </a:rPr>
              <a:t>Колос Родоський</a:t>
            </a:r>
            <a:endParaRPr b="0" i="1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517760" y="3860640"/>
            <a:ext cx="7626240" cy="93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a50021"/>
                </a:solidFill>
                <a:latin typeface="Times New Roman"/>
              </a:rPr>
              <a:t>Висота статуї </a:t>
            </a:r>
            <a:r>
              <a:rPr b="0" i="1" lang="uk-UA" sz="4800" spc="-1" strike="noStrike">
                <a:solidFill>
                  <a:srgbClr val="a50021"/>
                </a:solidFill>
                <a:latin typeface="Times New Roman"/>
              </a:rPr>
              <a:t>40 м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0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990000"/>
                </a:solidFill>
                <a:latin typeface="Times New Roman"/>
              </a:rPr>
              <a:t>Мавзолей в Галікарнасі</a:t>
            </a:r>
            <a:endParaRPr b="0" i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2890800" y="1825560"/>
            <a:ext cx="4899240" cy="503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990000"/>
                </a:solidFill>
                <a:latin typeface="Times New Roman"/>
              </a:rPr>
              <a:t>Мавзолей в Галікарнасі</a:t>
            </a:r>
            <a:endParaRPr b="0" i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356000" y="2060640"/>
            <a:ext cx="432000" cy="504720"/>
          </a:xfrm>
          <a:prstGeom prst="rect">
            <a:avLst/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359240" y="2565360"/>
            <a:ext cx="432000" cy="504720"/>
          </a:xfrm>
          <a:prstGeom prst="rect">
            <a:avLst/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359240" y="3068640"/>
            <a:ext cx="432000" cy="504720"/>
          </a:xfrm>
          <a:prstGeom prst="rect">
            <a:avLst/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359240" y="3573360"/>
            <a:ext cx="432000" cy="505080"/>
          </a:xfrm>
          <a:prstGeom prst="rect">
            <a:avLst/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359240" y="4076640"/>
            <a:ext cx="432000" cy="504720"/>
          </a:xfrm>
          <a:prstGeom prst="rect">
            <a:avLst/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359240" y="4581360"/>
            <a:ext cx="432000" cy="505080"/>
          </a:xfrm>
          <a:prstGeom prst="rect">
            <a:avLst/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І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359240" y="5084640"/>
            <a:ext cx="432000" cy="505080"/>
          </a:xfrm>
          <a:prstGeom prst="rect">
            <a:avLst/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359240" y="5589720"/>
            <a:ext cx="432000" cy="504720"/>
          </a:xfrm>
          <a:prstGeom prst="rect">
            <a:avLst/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І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356000" y="6093000"/>
            <a:ext cx="432000" cy="504720"/>
          </a:xfrm>
          <a:prstGeom prst="rect">
            <a:avLst/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791240" y="2565360"/>
            <a:ext cx="43164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222880" y="2565360"/>
            <a:ext cx="43344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56320" y="2565360"/>
            <a:ext cx="43164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І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087960" y="2565360"/>
            <a:ext cx="43200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519960" y="2565360"/>
            <a:ext cx="43164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951600" y="2565360"/>
            <a:ext cx="43200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383600" y="2565360"/>
            <a:ext cx="43164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815240" y="2565360"/>
            <a:ext cx="43200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8242200" y="2565360"/>
            <a:ext cx="43200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927600" y="3068640"/>
            <a:ext cx="43164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505320" y="3068640"/>
            <a:ext cx="43164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644920" y="3068640"/>
            <a:ext cx="43164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212920" y="3068640"/>
            <a:ext cx="43200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790640" y="3068640"/>
            <a:ext cx="43200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370160" y="3068640"/>
            <a:ext cx="43164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938160" y="3068640"/>
            <a:ext cx="43200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8672400" y="2565360"/>
            <a:ext cx="43200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І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924360" y="2060640"/>
            <a:ext cx="43164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492360" y="2060640"/>
            <a:ext cx="43200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059280" y="2060640"/>
            <a:ext cx="43164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8000" y="3068640"/>
            <a:ext cx="43164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073320" y="3068640"/>
            <a:ext cx="43200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936960" y="3573360"/>
            <a:ext cx="432000" cy="50508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788000" y="3573360"/>
            <a:ext cx="431640" cy="50508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219640" y="3573360"/>
            <a:ext cx="432000" cy="50508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51640" y="3573360"/>
            <a:ext cx="431640" cy="50508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084720" y="3573360"/>
            <a:ext cx="432000" cy="50508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516720" y="3573360"/>
            <a:ext cx="431640" cy="50508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948360" y="3573360"/>
            <a:ext cx="432000" cy="50508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788000" y="4076640"/>
            <a:ext cx="43164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219640" y="4076640"/>
            <a:ext cx="43200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651640" y="4076640"/>
            <a:ext cx="43164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84720" y="4076640"/>
            <a:ext cx="43200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516720" y="4076640"/>
            <a:ext cx="43164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924360" y="4581360"/>
            <a:ext cx="433440" cy="50508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9640" y="4581360"/>
            <a:ext cx="432000" cy="50508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І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788000" y="4581360"/>
            <a:ext cx="431640" cy="50508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924360" y="5084640"/>
            <a:ext cx="433440" cy="50508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492360" y="5084640"/>
            <a:ext cx="432000" cy="50508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059280" y="5084640"/>
            <a:ext cx="431640" cy="50508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П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788000" y="5589720"/>
            <a:ext cx="43164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219640" y="5589720"/>
            <a:ext cx="43200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651640" y="5589720"/>
            <a:ext cx="43164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924360" y="6093000"/>
            <a:ext cx="43164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788000" y="6093000"/>
            <a:ext cx="43164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492360" y="6093000"/>
            <a:ext cx="43200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П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059280" y="6093000"/>
            <a:ext cx="43164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627280" y="6093000"/>
            <a:ext cx="43200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505320" y="3573360"/>
            <a:ext cx="431640" cy="50508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071880" y="3573360"/>
            <a:ext cx="431640" cy="50508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924360" y="5589720"/>
            <a:ext cx="43164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657440" y="333360"/>
            <a:ext cx="7486560" cy="968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990000"/>
                </a:solidFill>
                <a:latin typeface="Times New Roman"/>
              </a:rPr>
              <a:t>Храм Артеміди</a:t>
            </a:r>
            <a:endParaRPr b="0" i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2"/>
          <a:stretch/>
        </p:blipFill>
        <p:spPr>
          <a:xfrm>
            <a:off x="1488960" y="1817640"/>
            <a:ext cx="7655040" cy="504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990000"/>
                </a:solidFill>
                <a:latin typeface="Times New Roman"/>
              </a:rPr>
              <a:t>Храм Артеміди</a:t>
            </a:r>
            <a:endParaRPr b="0" i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488600" y="3227040"/>
            <a:ext cx="7626600" cy="252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800" spc="-1" strike="noStrike">
                <a:solidFill>
                  <a:srgbClr val="a50021"/>
                </a:solidFill>
                <a:latin typeface="Times New Roman"/>
              </a:rPr>
              <a:t>Храм Артеміди в Ефесі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800" spc="-1" strike="noStrike">
                <a:solidFill>
                  <a:srgbClr val="a50021"/>
                </a:solidFill>
                <a:latin typeface="Times New Roman"/>
              </a:rPr>
              <a:t>займав площу 10349 кв.м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800" spc="-1" strike="noStrike">
                <a:solidFill>
                  <a:srgbClr val="a50021"/>
                </a:solidFill>
                <a:latin typeface="Times New Roman"/>
              </a:rPr>
              <a:t>або 1,0349 га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0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500"/>
                            </p:stCondLst>
                            <p:childTnLst>
                              <p:par>
                                <p:cTn id="39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1000"/>
                            </p:stCondLst>
                            <p:childTnLst>
                              <p:par>
                                <p:cTn id="39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990000"/>
                </a:solidFill>
                <a:latin typeface="Times New Roman"/>
              </a:rPr>
              <a:t>Статуя Зевса</a:t>
            </a:r>
            <a:endParaRPr b="0" i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2"/>
          <a:stretch/>
        </p:blipFill>
        <p:spPr>
          <a:xfrm>
            <a:off x="1476360" y="1825560"/>
            <a:ext cx="7667640" cy="503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990000"/>
                </a:solidFill>
                <a:latin typeface="Times New Roman"/>
              </a:rPr>
              <a:t>Статуя Зевса</a:t>
            </a:r>
            <a:endParaRPr b="0" i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476000" y="1989000"/>
            <a:ext cx="3452760" cy="72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000000"/>
                </a:solidFill>
                <a:latin typeface="Times New Roman"/>
              </a:rPr>
              <a:t>Обчислити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588000" y="3429000"/>
            <a:ext cx="1800360" cy="647640"/>
          </a:xfrm>
          <a:custGeom>
            <a:avLst/>
            <a:gdLst>
              <a:gd name="textAreaLeft" fmla="*/ 41760 w 1800360"/>
              <a:gd name="textAreaRight" fmla="*/ 1758600 w 180036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60024" h="21600">
                <a:moveTo>
                  <a:pt x="0" y="0"/>
                </a:moveTo>
                <a:lnTo>
                  <a:pt x="60024" y="0"/>
                </a:lnTo>
                <a:lnTo>
                  <a:pt x="60024" y="21600"/>
                </a:lnTo>
                <a:lnTo>
                  <a:pt x="0" y="21600"/>
                </a:lnTo>
                <a:close/>
              </a:path>
              <a:path fill="lightenLess" w="60024" h="21600">
                <a:moveTo>
                  <a:pt x="0" y="0"/>
                </a:moveTo>
                <a:lnTo>
                  <a:pt x="60024" y="0"/>
                </a:lnTo>
                <a:lnTo>
                  <a:pt x="58624" y="1400"/>
                </a:lnTo>
                <a:lnTo>
                  <a:pt x="1400" y="1400"/>
                </a:lnTo>
                <a:close/>
              </a:path>
              <a:path fill="darken" w="60024" h="21600">
                <a:moveTo>
                  <a:pt x="60024" y="0"/>
                </a:moveTo>
                <a:lnTo>
                  <a:pt x="60024" y="21600"/>
                </a:lnTo>
                <a:lnTo>
                  <a:pt x="58624" y="20200"/>
                </a:lnTo>
                <a:lnTo>
                  <a:pt x="58624" y="1400"/>
                </a:lnTo>
                <a:close/>
              </a:path>
              <a:path fill="darkenLess" w="60024" h="21600">
                <a:moveTo>
                  <a:pt x="600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624" y="20200"/>
                </a:lnTo>
                <a:close/>
              </a:path>
              <a:path fill="lighten" w="600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 u="sng">
                <a:solidFill>
                  <a:srgbClr val="990000"/>
                </a:solidFill>
                <a:uFillTx/>
                <a:latin typeface="Times New Roman"/>
              </a:rPr>
              <a:t>2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686560" y="1989000"/>
            <a:ext cx="334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990000"/>
                </a:solidFill>
                <a:latin typeface="Times New Roman"/>
              </a:rPr>
              <a:t>-</a:t>
            </a: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4</a:t>
            </a:r>
            <a:r>
              <a:rPr b="1" lang="uk-UA" sz="3200" spc="-1" strike="noStrike">
                <a:solidFill>
                  <a:srgbClr val="99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5</a:t>
            </a:r>
            <a:r>
              <a:rPr b="1" lang="uk-UA" sz="3200" spc="-1" strike="noStrike">
                <a:solidFill>
                  <a:srgbClr val="990000"/>
                </a:solidFill>
                <a:latin typeface="Times New Roman"/>
              </a:rPr>
              <a:t>+28,6+(-11,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476360" y="3357720"/>
            <a:ext cx="4029120" cy="7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Можливі відповіді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588000" y="4221000"/>
            <a:ext cx="1800360" cy="648000"/>
          </a:xfrm>
          <a:custGeom>
            <a:avLst/>
            <a:gdLst>
              <a:gd name="textAreaLeft" fmla="*/ 41760 w 1800360"/>
              <a:gd name="textAreaRight" fmla="*/ 1758600 w 1800360"/>
              <a:gd name="textAreaTop" fmla="*/ 41760 h 648000"/>
              <a:gd name="textAreaBottom" fmla="*/ 606240 h 648000"/>
            </a:gdLst>
            <a:ahLst/>
            <a:rect l="textAreaLeft" t="textAreaTop" r="textAreaRight" b="textAreaBottom"/>
            <a:pathLst>
              <a:path w="59991" h="21600">
                <a:moveTo>
                  <a:pt x="0" y="0"/>
                </a:moveTo>
                <a:lnTo>
                  <a:pt x="59991" y="0"/>
                </a:lnTo>
                <a:lnTo>
                  <a:pt x="59991" y="21600"/>
                </a:lnTo>
                <a:lnTo>
                  <a:pt x="0" y="21600"/>
                </a:lnTo>
                <a:close/>
              </a:path>
              <a:path fill="lightenLess" w="59991" h="21600">
                <a:moveTo>
                  <a:pt x="0" y="0"/>
                </a:moveTo>
                <a:lnTo>
                  <a:pt x="59991" y="0"/>
                </a:lnTo>
                <a:lnTo>
                  <a:pt x="58591" y="1400"/>
                </a:lnTo>
                <a:lnTo>
                  <a:pt x="1400" y="1400"/>
                </a:lnTo>
                <a:close/>
              </a:path>
              <a:path fill="darken" w="59991" h="21600">
                <a:moveTo>
                  <a:pt x="59991" y="0"/>
                </a:moveTo>
                <a:lnTo>
                  <a:pt x="59991" y="21600"/>
                </a:lnTo>
                <a:lnTo>
                  <a:pt x="58591" y="20200"/>
                </a:lnTo>
                <a:lnTo>
                  <a:pt x="58591" y="1400"/>
                </a:lnTo>
                <a:close/>
              </a:path>
              <a:path fill="darkenLess" w="59991" h="21600">
                <a:moveTo>
                  <a:pt x="59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591" y="20200"/>
                </a:lnTo>
                <a:close/>
              </a:path>
              <a:path fill="lighten" w="59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 u="sng">
                <a:solidFill>
                  <a:srgbClr val="990000"/>
                </a:solidFill>
                <a:uFillTx/>
                <a:latin typeface="Times New Roman"/>
              </a:rPr>
              <a:t>-1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588000" y="5013360"/>
            <a:ext cx="1800360" cy="647640"/>
          </a:xfrm>
          <a:custGeom>
            <a:avLst/>
            <a:gdLst>
              <a:gd name="textAreaLeft" fmla="*/ 41760 w 1800360"/>
              <a:gd name="textAreaRight" fmla="*/ 1758600 w 180036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60024" h="21600">
                <a:moveTo>
                  <a:pt x="0" y="0"/>
                </a:moveTo>
                <a:lnTo>
                  <a:pt x="60024" y="0"/>
                </a:lnTo>
                <a:lnTo>
                  <a:pt x="60024" y="21600"/>
                </a:lnTo>
                <a:lnTo>
                  <a:pt x="0" y="21600"/>
                </a:lnTo>
                <a:close/>
              </a:path>
              <a:path fill="lightenLess" w="60024" h="21600">
                <a:moveTo>
                  <a:pt x="0" y="0"/>
                </a:moveTo>
                <a:lnTo>
                  <a:pt x="60024" y="0"/>
                </a:lnTo>
                <a:lnTo>
                  <a:pt x="58624" y="1400"/>
                </a:lnTo>
                <a:lnTo>
                  <a:pt x="1400" y="1400"/>
                </a:lnTo>
                <a:close/>
              </a:path>
              <a:path fill="darken" w="60024" h="21600">
                <a:moveTo>
                  <a:pt x="60024" y="0"/>
                </a:moveTo>
                <a:lnTo>
                  <a:pt x="60024" y="21600"/>
                </a:lnTo>
                <a:lnTo>
                  <a:pt x="58624" y="20200"/>
                </a:lnTo>
                <a:lnTo>
                  <a:pt x="58624" y="1400"/>
                </a:lnTo>
                <a:close/>
              </a:path>
              <a:path fill="darkenLess" w="60024" h="21600">
                <a:moveTo>
                  <a:pt x="600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624" y="20200"/>
                </a:lnTo>
                <a:close/>
              </a:path>
              <a:path fill="lighten" w="600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990000"/>
                </a:solidFill>
                <a:uFillTx/>
                <a:latin typeface="Times New Roman"/>
              </a:rPr>
              <a:t>-2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588000" y="5805360"/>
            <a:ext cx="1800360" cy="648000"/>
          </a:xfrm>
          <a:custGeom>
            <a:avLst/>
            <a:gdLst>
              <a:gd name="textAreaLeft" fmla="*/ 41760 w 1800360"/>
              <a:gd name="textAreaRight" fmla="*/ 1758600 w 1800360"/>
              <a:gd name="textAreaTop" fmla="*/ 41760 h 648000"/>
              <a:gd name="textAreaBottom" fmla="*/ 606240 h 648000"/>
            </a:gdLst>
            <a:ahLst/>
            <a:rect l="textAreaLeft" t="textAreaTop" r="textAreaRight" b="textAreaBottom"/>
            <a:pathLst>
              <a:path w="59991" h="21600">
                <a:moveTo>
                  <a:pt x="0" y="0"/>
                </a:moveTo>
                <a:lnTo>
                  <a:pt x="59991" y="0"/>
                </a:lnTo>
                <a:lnTo>
                  <a:pt x="59991" y="21600"/>
                </a:lnTo>
                <a:lnTo>
                  <a:pt x="0" y="21600"/>
                </a:lnTo>
                <a:close/>
              </a:path>
              <a:path fill="lightenLess" w="59991" h="21600">
                <a:moveTo>
                  <a:pt x="0" y="0"/>
                </a:moveTo>
                <a:lnTo>
                  <a:pt x="59991" y="0"/>
                </a:lnTo>
                <a:lnTo>
                  <a:pt x="58591" y="1400"/>
                </a:lnTo>
                <a:lnTo>
                  <a:pt x="1400" y="1400"/>
                </a:lnTo>
                <a:close/>
              </a:path>
              <a:path fill="darken" w="59991" h="21600">
                <a:moveTo>
                  <a:pt x="59991" y="0"/>
                </a:moveTo>
                <a:lnTo>
                  <a:pt x="59991" y="21600"/>
                </a:lnTo>
                <a:lnTo>
                  <a:pt x="58591" y="20200"/>
                </a:lnTo>
                <a:lnTo>
                  <a:pt x="58591" y="1400"/>
                </a:lnTo>
                <a:close/>
              </a:path>
              <a:path fill="darkenLess" w="59991" h="21600">
                <a:moveTo>
                  <a:pt x="59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591" y="20200"/>
                </a:lnTo>
                <a:close/>
              </a:path>
              <a:path fill="lighten" w="59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 u="sng">
                <a:solidFill>
                  <a:srgbClr val="990000"/>
                </a:solidFill>
                <a:uFillTx/>
                <a:latin typeface="Times New Roman"/>
              </a:rPr>
              <a:t>1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2"/>
          <a:stretch/>
        </p:blipFill>
        <p:spPr>
          <a:xfrm>
            <a:off x="1547640" y="5729400"/>
            <a:ext cx="1979640" cy="1128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0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500"/>
                            </p:stCondLst>
                            <p:childTnLst>
                              <p:par>
                                <p:cTn id="41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1000"/>
                            </p:stCondLst>
                            <p:childTnLst>
                              <p:par>
                                <p:cTn id="41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1500"/>
                            </p:stCondLst>
                            <p:childTnLst>
                              <p:par>
                                <p:cTn id="42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2000"/>
                            </p:stCondLst>
                            <p:childTnLst>
                              <p:par>
                                <p:cTn id="4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2500"/>
                            </p:stCondLst>
                            <p:childTnLst>
                              <p:par>
                                <p:cTn id="43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3000"/>
                            </p:stCondLst>
                            <p:childTnLst>
                              <p:par>
                                <p:cTn id="43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990000"/>
                </a:solidFill>
                <a:latin typeface="Times New Roman"/>
              </a:rPr>
              <a:t>Статуя Зевса</a:t>
            </a:r>
            <a:endParaRPr b="0" i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517760" y="3573360"/>
            <a:ext cx="7626240" cy="144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800" spc="-1" strike="noStrike">
                <a:solidFill>
                  <a:srgbClr val="a50021"/>
                </a:solidFill>
                <a:latin typeface="Times New Roman"/>
              </a:rPr>
              <a:t>Висота статуї 13 м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0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Times New Roman"/>
              </a:rPr>
              <a:t>Дякую за урок</a:t>
            </a:r>
            <a:endParaRPr b="0" i="1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2"/>
          <a:stretch/>
        </p:blipFill>
        <p:spPr>
          <a:xfrm>
            <a:off x="1476360" y="4267080"/>
            <a:ext cx="3743280" cy="2592360"/>
          </a:xfrm>
          <a:prstGeom prst="rect">
            <a:avLst/>
          </a:prstGeom>
          <a:ln w="0">
            <a:noFill/>
          </a:ln>
        </p:spPr>
      </p:pic>
      <p:pic>
        <p:nvPicPr>
          <p:cNvPr id="285" name="" descr=""/>
          <p:cNvPicPr/>
          <p:nvPr/>
        </p:nvPicPr>
        <p:blipFill>
          <a:blip r:embed="rId3"/>
          <a:stretch/>
        </p:blipFill>
        <p:spPr>
          <a:xfrm>
            <a:off x="5219640" y="1833480"/>
            <a:ext cx="3924360" cy="5024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" descr=""/>
          <p:cNvPicPr/>
          <p:nvPr/>
        </p:nvPicPr>
        <p:blipFill>
          <a:blip r:embed="rId2"/>
          <a:stretch/>
        </p:blipFill>
        <p:spPr>
          <a:xfrm>
            <a:off x="1476360" y="1836720"/>
            <a:ext cx="3708360" cy="5021280"/>
          </a:xfrm>
          <a:prstGeom prst="rect">
            <a:avLst/>
          </a:prstGeom>
          <a:ln w="0">
            <a:noFill/>
          </a:ln>
        </p:spPr>
      </p:pic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990000"/>
                </a:solidFill>
                <a:latin typeface="Times New Roman"/>
              </a:rPr>
              <a:t>Відповідь невірна</a:t>
            </a:r>
            <a:endParaRPr b="0" i="1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88" name="">
            <a:hlinkClick r:id="" action="ppaction://hlinkshowjump?jump=previousslide"/>
          </p:cNvPr>
          <p:cNvSpPr/>
          <p:nvPr/>
        </p:nvSpPr>
        <p:spPr>
          <a:xfrm>
            <a:off x="5867280" y="5661000"/>
            <a:ext cx="2735280" cy="647640"/>
          </a:xfrm>
          <a:custGeom>
            <a:avLst/>
            <a:gdLst>
              <a:gd name="textAreaLeft" fmla="*/ 41760 w 2735280"/>
              <a:gd name="textAreaRight" fmla="*/ 2693520 w 273528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91188" h="21600">
                <a:moveTo>
                  <a:pt x="0" y="0"/>
                </a:moveTo>
                <a:lnTo>
                  <a:pt x="91188" y="0"/>
                </a:lnTo>
                <a:lnTo>
                  <a:pt x="91188" y="21600"/>
                </a:lnTo>
                <a:lnTo>
                  <a:pt x="0" y="21600"/>
                </a:lnTo>
                <a:close/>
              </a:path>
              <a:path fill="lightenLess" w="91188" h="21600">
                <a:moveTo>
                  <a:pt x="0" y="0"/>
                </a:moveTo>
                <a:lnTo>
                  <a:pt x="91188" y="0"/>
                </a:lnTo>
                <a:lnTo>
                  <a:pt x="89788" y="1400"/>
                </a:lnTo>
                <a:lnTo>
                  <a:pt x="1400" y="1400"/>
                </a:lnTo>
                <a:close/>
              </a:path>
              <a:path fill="darken" w="91188" h="21600">
                <a:moveTo>
                  <a:pt x="91188" y="0"/>
                </a:moveTo>
                <a:lnTo>
                  <a:pt x="91188" y="21600"/>
                </a:lnTo>
                <a:lnTo>
                  <a:pt x="89788" y="20200"/>
                </a:lnTo>
                <a:lnTo>
                  <a:pt x="89788" y="1400"/>
                </a:lnTo>
                <a:close/>
              </a:path>
              <a:path fill="darkenLess" w="91188" h="21600">
                <a:moveTo>
                  <a:pt x="911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9788" y="20200"/>
                </a:lnTo>
                <a:close/>
              </a:path>
              <a:path fill="lighten" w="911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 u="sng">
                <a:solidFill>
                  <a:srgbClr val="990000"/>
                </a:solidFill>
                <a:uFillTx/>
                <a:latin typeface="Times New Roman"/>
              </a:rPr>
              <a:t>Наза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Times New Roman"/>
              </a:rPr>
              <a:t>Як додати два числа однакових знаків?</a:t>
            </a:r>
            <a:endParaRPr b="0" i="1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9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a50021"/>
                </a:solidFill>
                <a:latin typeface="Monotype Corsiva"/>
              </a:rPr>
              <a:t>Щоб додати два числа однакових знаків потрібно додати їх модулі і перед сумою поставити знак доданків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a50021"/>
                </a:solidFill>
                <a:latin typeface="Times New Roman"/>
              </a:rPr>
              <a:t>(+4)+(+5)=+9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a50021"/>
                </a:solidFill>
                <a:latin typeface="Times New Roman"/>
              </a:rPr>
              <a:t>(-4)+(-5)=-9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00"/>
                            </p:stCondLst>
                            <p:childTnLst>
                              <p:par>
                                <p:cTn id="5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500"/>
                            </p:stCondLst>
                            <p:childTnLst>
                              <p:par>
                                <p:cTn id="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1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1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990000"/>
                </a:solidFill>
                <a:latin typeface="Times New Roman"/>
              </a:rPr>
              <a:t>Правильно! Молодець!</a:t>
            </a:r>
            <a:endParaRPr b="0" i="1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2"/>
          <a:stretch/>
        </p:blipFill>
        <p:spPr>
          <a:xfrm>
            <a:off x="1476360" y="1820880"/>
            <a:ext cx="3708360" cy="5037120"/>
          </a:xfrm>
          <a:prstGeom prst="rect">
            <a:avLst/>
          </a:prstGeom>
          <a:ln w="0">
            <a:noFill/>
          </a:ln>
        </p:spPr>
      </p:pic>
      <p:sp>
        <p:nvSpPr>
          <p:cNvPr id="291" name="">
            <a:hlinkClick r:id="" action="ppaction://hlinkshowjump?jump=previousslide"/>
          </p:cNvPr>
          <p:cNvSpPr/>
          <p:nvPr/>
        </p:nvSpPr>
        <p:spPr>
          <a:xfrm>
            <a:off x="5867280" y="5661000"/>
            <a:ext cx="2735280" cy="647640"/>
          </a:xfrm>
          <a:custGeom>
            <a:avLst/>
            <a:gdLst>
              <a:gd name="textAreaLeft" fmla="*/ 41760 w 2735280"/>
              <a:gd name="textAreaRight" fmla="*/ 2693520 w 273528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91188" h="21600">
                <a:moveTo>
                  <a:pt x="0" y="0"/>
                </a:moveTo>
                <a:lnTo>
                  <a:pt x="91188" y="0"/>
                </a:lnTo>
                <a:lnTo>
                  <a:pt x="91188" y="21600"/>
                </a:lnTo>
                <a:lnTo>
                  <a:pt x="0" y="21600"/>
                </a:lnTo>
                <a:close/>
              </a:path>
              <a:path fill="lightenLess" w="91188" h="21600">
                <a:moveTo>
                  <a:pt x="0" y="0"/>
                </a:moveTo>
                <a:lnTo>
                  <a:pt x="91188" y="0"/>
                </a:lnTo>
                <a:lnTo>
                  <a:pt x="89788" y="1400"/>
                </a:lnTo>
                <a:lnTo>
                  <a:pt x="1400" y="1400"/>
                </a:lnTo>
                <a:close/>
              </a:path>
              <a:path fill="darken" w="91188" h="21600">
                <a:moveTo>
                  <a:pt x="91188" y="0"/>
                </a:moveTo>
                <a:lnTo>
                  <a:pt x="91188" y="21600"/>
                </a:lnTo>
                <a:lnTo>
                  <a:pt x="89788" y="20200"/>
                </a:lnTo>
                <a:lnTo>
                  <a:pt x="89788" y="1400"/>
                </a:lnTo>
                <a:close/>
              </a:path>
              <a:path fill="darkenLess" w="91188" h="21600">
                <a:moveTo>
                  <a:pt x="911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9788" y="20200"/>
                </a:lnTo>
                <a:close/>
              </a:path>
              <a:path fill="lighten" w="911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 u="sng">
                <a:solidFill>
                  <a:srgbClr val="990000"/>
                </a:solidFill>
                <a:uFillTx/>
                <a:latin typeface="Times New Roman"/>
              </a:rPr>
              <a:t>Наза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Times New Roman"/>
              </a:rPr>
              <a:t>Від</a:t>
            </a: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’</a:t>
            </a:r>
            <a:r>
              <a:rPr b="1" lang="ru-RU" sz="3200" spc="-1" strike="noStrike">
                <a:solidFill>
                  <a:srgbClr val="990000"/>
                </a:solidFill>
                <a:latin typeface="Times New Roman"/>
              </a:rPr>
              <a:t>ємні числа товаришують один з одним</a:t>
            </a:r>
            <a:endParaRPr b="0" i="1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0" y="5729400"/>
            <a:ext cx="1979640" cy="11286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 flipH="1">
            <a:off x="1692000" y="2060640"/>
            <a:ext cx="2701800" cy="366696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4"/>
          <a:stretch/>
        </p:blipFill>
        <p:spPr>
          <a:xfrm>
            <a:off x="5364000" y="2060640"/>
            <a:ext cx="2767320" cy="360504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3995640" y="3573360"/>
            <a:ext cx="1878120" cy="19447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755e00"/>
              </a:gs>
            </a:gsLst>
            <a:lin ang="8100000"/>
          </a:gra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Times New Roman"/>
              </a:rPr>
              <a:t>-39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476360" y="5668920"/>
            <a:ext cx="766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–</a:t>
            </a:r>
            <a:r>
              <a:rPr b="1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  +  (</a:t>
            </a:r>
            <a:r>
              <a:rPr b="1" lang="ru-RU" sz="7200" spc="-1" strike="noStrike">
                <a:solidFill>
                  <a:srgbClr val="000000"/>
                </a:solidFill>
                <a:latin typeface="Times New Roman"/>
              </a:rPr>
              <a:t>–15)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2500"/>
                            </p:stCondLst>
                            <p:childTnLst>
                              <p:par>
                                <p:cTn id="8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145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455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66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660">
                                          <p:stCondLst>
                                            <p:cond delay="166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830">
                                          <p:stCondLst>
                                            <p:cond delay="331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410">
                                          <p:stCondLst>
                                            <p:cond delay="414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8" dur="65" fill="hold">
                                          <p:stCondLst>
                                            <p:cond delay="1625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9" dur="415" fill="hold">
                                          <p:stCondLst>
                                            <p:cond delay="169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" dur="65" fill="hold">
                                          <p:stCondLst>
                                            <p:cond delay="328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1" dur="415" fill="hold">
                                          <p:stCondLst>
                                            <p:cond delay="3345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" dur="65" fill="hold">
                                          <p:stCondLst>
                                            <p:cond delay="4105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3" dur="415" fill="hold">
                                          <p:stCondLst>
                                            <p:cond delay="417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" dur="65" fill="hold">
                                          <p:stCondLst>
                                            <p:cond delay="452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5" dur="415" fill="hold">
                                          <p:stCondLst>
                                            <p:cond delay="4585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0000"/>
                </a:solidFill>
                <a:latin typeface="Times New Roman"/>
              </a:rPr>
              <a:t>Як додати два числа різних знаків?</a:t>
            </a:r>
            <a:endParaRPr b="0" i="1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79000"/>
          </a:bodyPr>
          <a:p>
            <a:pPr marL="270720" indent="-270720">
              <a:lnSpc>
                <a:spcPct val="90000"/>
              </a:lnSpc>
              <a:spcBef>
                <a:spcPts val="9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a50021"/>
                </a:solidFill>
                <a:latin typeface="Monotype Corsiva"/>
              </a:rPr>
              <a:t>Щоб додати два числа різних знаків потрібно від більшого модуля відняти менший і перед результатом поставити знак доданка з більшим модулем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a50021"/>
                </a:solidFill>
                <a:latin typeface="Times New Roman"/>
              </a:rPr>
              <a:t>(+17)+(-20)=-(20-17)=-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a50021"/>
                </a:solidFill>
                <a:latin typeface="Times New Roman"/>
              </a:rPr>
              <a:t>(+7)+(-5)=+(7-5)=+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a50021"/>
                </a:solidFill>
                <a:latin typeface="Times New Roman"/>
              </a:rPr>
              <a:t>(-12)+4=-(12-4)=-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500"/>
                            </p:stCondLst>
                            <p:childTnLst>
                              <p:par>
                                <p:cTn id="10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10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10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Times New Roman"/>
              </a:rPr>
              <a:t>Числа з різними знаками сваряться один з одним</a:t>
            </a:r>
            <a:endParaRPr b="0" i="1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0" y="5729400"/>
            <a:ext cx="1979640" cy="11286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1547640" y="2637000"/>
            <a:ext cx="2738520" cy="26622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5435640" y="1268280"/>
            <a:ext cx="4567320" cy="504504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1476360" y="5668920"/>
            <a:ext cx="766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3,7  +  (</a:t>
            </a:r>
            <a:r>
              <a:rPr b="1" lang="ru-RU" sz="7200" spc="-1" strike="noStrike">
                <a:solidFill>
                  <a:srgbClr val="000000"/>
                </a:solidFill>
                <a:latin typeface="Times New Roman"/>
              </a:rPr>
              <a:t>–5,9)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995640" y="3573360"/>
            <a:ext cx="1878120" cy="19447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755e00"/>
              </a:gs>
            </a:gsLst>
            <a:lin ang="8100000"/>
          </a:gra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Times New Roman"/>
              </a:rPr>
              <a:t>-2,2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500"/>
                            </p:stCondLst>
                            <p:childTnLst>
                              <p:par>
                                <p:cTn id="127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" dur="145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455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66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660">
                                          <p:stCondLst>
                                            <p:cond delay="166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830">
                                          <p:stCondLst>
                                            <p:cond delay="331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410">
                                          <p:stCondLst>
                                            <p:cond delay="414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2" dur="65" fill="hold">
                                          <p:stCondLst>
                                            <p:cond delay="1625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3" dur="415" fill="hold">
                                          <p:stCondLst>
                                            <p:cond delay="169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4" dur="65" fill="hold">
                                          <p:stCondLst>
                                            <p:cond delay="328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5" dur="415" fill="hold">
                                          <p:stCondLst>
                                            <p:cond delay="3345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6" dur="65" fill="hold">
                                          <p:stCondLst>
                                            <p:cond delay="4105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7" dur="415" fill="hold">
                                          <p:stCondLst>
                                            <p:cond delay="417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8" dur="65" fill="hold">
                                          <p:stCondLst>
                                            <p:cond delay="452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9" dur="415" fill="hold">
                                          <p:stCondLst>
                                            <p:cond delay="4585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a50021"/>
                </a:solidFill>
                <a:latin typeface="Times New Roman"/>
              </a:rPr>
              <a:t>Історична довідка</a:t>
            </a:r>
            <a:endParaRPr b="0" i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6633"/>
              </a:buClr>
              <a:buSzPct val="95000"/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a50021"/>
                </a:solidFill>
                <a:latin typeface="Monotype Corsiva"/>
              </a:rPr>
              <a:t>«Сума двох боргів є борг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6633"/>
              </a:buClr>
              <a:buSzPct val="95000"/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a50021"/>
                </a:solidFill>
                <a:latin typeface="Monotype Corsiva"/>
              </a:rPr>
              <a:t>«Сума двох майнів є майно»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6633"/>
              </a:buClr>
              <a:buSzPct val="95000"/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a50021"/>
                </a:solidFill>
                <a:latin typeface="Monotype Corsiva"/>
              </a:rPr>
              <a:t>«Сума майна і боргу дорівнює їх різниці»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7427880" y="5141880"/>
            <a:ext cx="1716120" cy="17161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8244000" y="4437000"/>
            <a:ext cx="1054080" cy="158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2000"/>
                            </p:stCondLst>
                            <p:childTnLst>
                              <p:par>
                                <p:cTn id="16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4000"/>
                            </p:stCondLst>
                            <p:childTnLst>
                              <p:par>
                                <p:cTn id="17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2050920" y="260280"/>
            <a:ext cx="75646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a50021"/>
                </a:solidFill>
                <a:latin typeface="Times New Roman"/>
              </a:rPr>
              <a:t>Алгоритм </a:t>
            </a:r>
            <a:r>
              <a:rPr b="1" i="1" lang="uk-UA" sz="3600" spc="-1" strike="noStrike">
                <a:solidFill>
                  <a:srgbClr val="a50021"/>
                </a:solidFill>
                <a:latin typeface="Times New Roman"/>
              </a:rPr>
              <a:t>додавання</a:t>
            </a:r>
            <a:br>
              <a:rPr sz="3600"/>
            </a:br>
            <a:r>
              <a:rPr b="1" i="1" lang="ru-RU" sz="3600" spc="-1" strike="noStrike">
                <a:solidFill>
                  <a:srgbClr val="a50021"/>
                </a:solidFill>
                <a:latin typeface="Times New Roman"/>
              </a:rPr>
              <a:t>раціональних чисе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6877080" y="14400"/>
            <a:ext cx="2266920" cy="160020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2742840" y="1523880"/>
            <a:ext cx="3962520" cy="609840"/>
          </a:xfrm>
          <a:prstGeom prst="rect">
            <a:avLst/>
          </a:prstGeom>
          <a:solidFill>
            <a:srgbClr val="ffcc99"/>
          </a:solidFill>
          <a:ln w="381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Дивись на знак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2133360" y="2209680"/>
            <a:ext cx="24382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734000" y="2209680"/>
            <a:ext cx="24382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042920" y="2852640"/>
            <a:ext cx="2360520" cy="608040"/>
          </a:xfrm>
          <a:prstGeom prst="rect">
            <a:avLst/>
          </a:prstGeom>
          <a:solidFill>
            <a:srgbClr val="ff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ff"/>
                </a:solidFill>
                <a:latin typeface="Times New Roman"/>
              </a:rPr>
              <a:t>Однакові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999040" y="2852640"/>
            <a:ext cx="2362320" cy="609840"/>
          </a:xfrm>
          <a:prstGeom prst="rect">
            <a:avLst/>
          </a:prstGeom>
          <a:solidFill>
            <a:srgbClr val="ff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ff"/>
                </a:solidFill>
                <a:latin typeface="Times New Roman"/>
              </a:rPr>
              <a:t>Різні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133720" y="3586320"/>
            <a:ext cx="0" cy="304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68360" y="4033800"/>
            <a:ext cx="3505320" cy="1119240"/>
          </a:xfrm>
          <a:prstGeom prst="rect">
            <a:avLst/>
          </a:prstGeom>
          <a:solidFill>
            <a:srgbClr val="ff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ff"/>
                </a:solidFill>
                <a:latin typeface="Times New Roman"/>
              </a:rPr>
              <a:t>Став спільний зна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133720" y="5248440"/>
            <a:ext cx="0" cy="287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57200" y="5657760"/>
            <a:ext cx="3538440" cy="838440"/>
          </a:xfrm>
          <a:prstGeom prst="rect">
            <a:avLst/>
          </a:prstGeom>
          <a:solidFill>
            <a:srgbClr val="ff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ff"/>
                </a:solidFill>
                <a:latin typeface="Times New Roman"/>
              </a:rPr>
              <a:t>Модулі додат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186680" y="358128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257800" y="4033800"/>
            <a:ext cx="3657600" cy="1081080"/>
          </a:xfrm>
          <a:prstGeom prst="rect">
            <a:avLst/>
          </a:prstGeom>
          <a:solidFill>
            <a:srgbClr val="ff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ff"/>
                </a:solidFill>
                <a:latin typeface="Times New Roman"/>
              </a:rPr>
              <a:t>Став знак більшог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ff"/>
                </a:solidFill>
                <a:latin typeface="Times New Roman"/>
              </a:rPr>
              <a:t>модул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186680" y="5248440"/>
            <a:ext cx="0" cy="287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262480" y="5688000"/>
            <a:ext cx="3630600" cy="838080"/>
          </a:xfrm>
          <a:prstGeom prst="rect">
            <a:avLst/>
          </a:prstGeom>
          <a:solidFill>
            <a:srgbClr val="ff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ff"/>
                </a:solidFill>
                <a:latin typeface="Times New Roman"/>
              </a:rPr>
              <a:t>Модулі віднят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990000"/>
                </a:solidFill>
                <a:latin typeface="Times New Roman"/>
              </a:rPr>
              <a:t>Єгипетські піраміди</a:t>
            </a:r>
            <a:endParaRPr b="0" i="1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1481040" y="1832040"/>
            <a:ext cx="7662960" cy="502596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6064200" y="1936800"/>
            <a:ext cx="275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1T11:48:30Z</dcterms:created>
  <dc:creator>Макогон</dc:creator>
  <dc:description/>
  <dc:language>en-US</dc:language>
  <cp:lastModifiedBy>Одмин</cp:lastModifiedBy>
  <dcterms:modified xsi:type="dcterms:W3CDTF">2012-01-30T18:04:29Z</dcterms:modified>
  <cp:revision>105</cp:revision>
  <dc:subject/>
  <dc:title>Сложение</dc:title>
</cp:coreProperties>
</file>