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png" ContentType="image/png"/>
  <Override PartName="/ppt/media/applause.wav" ContentType="audio/x-wav"/>
  <Override PartName="/ppt/media/image9.gif" ContentType="image/gif"/>
  <Override PartName="/ppt/media/image8.gif" ContentType="image/gif"/>
  <Override PartName="/ppt/media/image7.gif" ContentType="image/gif"/>
  <Override PartName="/ppt/media/image11.gif" ContentType="image/gif"/>
  <Override PartName="/ppt/media/image14.png" ContentType="image/png"/>
  <Override PartName="/ppt/media/image6.gif" ContentType="image/gif"/>
  <Override PartName="/ppt/media/image20.gif" ContentType="image/gif"/>
  <Override PartName="/ppt/media/image18.png" ContentType="image/png"/>
  <Override PartName="/ppt/media/image17.png" ContentType="image/png"/>
  <Override PartName="/ppt/media/image4.gif" ContentType="image/gif"/>
  <Override PartName="/ppt/media/chimes.wav" ContentType="audio/x-wav"/>
  <Override PartName="/ppt/media/image16.png" ContentType="image/png"/>
  <Override PartName="/ppt/media/drumroll.wav" ContentType="audio/x-wav"/>
  <Override PartName="/ppt/media/image15.png" ContentType="image/png"/>
  <Override PartName="/ppt/media/image19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05EE-4C19-47C6-A581-E2E6FDE9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535E-6941-468C-A61D-FF553195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7CDD-DFD4-4AE7-8B14-462450E11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BCEA-21F2-435F-B457-E2C7EAC34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EDD7-953C-4A91-9C2E-6DA541AA3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CD62-048B-47D8-80FC-AC3E2D75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AE4F-E508-48F6-9AC7-9E37D836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6E32-52DC-491D-80A5-2CDC8EB3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B698-2093-4683-B3B9-BBA3F991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0338-FDDA-423E-9D47-429EE9C0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BE31-5F72-4AFD-BFE1-4755B60D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C780-5102-4B8E-B2B0-5BB04D7A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254C-C8A1-4B3F-8C67-0B00C146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FF83-A840-4FEC-A21D-BA552402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CE70-5D66-442D-893F-44F2D847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12FC-54B0-48E3-A11F-7B261C0A5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2EBB-93DC-448B-95D3-18E9C36D0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5021-DF0F-4142-B616-D3FAFD8E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4051-A1E6-418A-A811-F1D1C826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D164-A7F8-4B29-A081-3F11E6E3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4CB5-5C81-40A2-A9E2-CD00049D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11FA-CBC6-4159-A431-F0D00927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9126-311F-4FD0-87FE-3A8BE74C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4F71-0136-48A5-9F3C-978EA445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0CDE-6923-484A-81F7-77BCD700206B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C61F-D7F9-4CB0-A47C-C76198CD5A54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9.xml"/><Relationship Id="rId3" Type="http://schemas.openxmlformats.org/officeDocument/2006/relationships/image" Target="../media/image5.gif"/><Relationship Id="rId4" Type="http://schemas.openxmlformats.org/officeDocument/2006/relationships/slide" Target="slide29.xm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slide" Target="slide29.xml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7740720" cy="31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Times New Roman"/>
              </a:rPr>
              <a:t>ТЕМА УРОК</a:t>
            </a:r>
            <a:r>
              <a:rPr b="1" lang="uk-UA" sz="1800" spc="-1" strike="noStrike">
                <a:solidFill>
                  <a:srgbClr val="cc66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Додаванн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раціональних чисе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Макогон Світлана Олександрівна, вчитель математики СЗШ №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м.С</a:t>
            </a:r>
            <a:r>
              <a:rPr b="1" lang="uk-UA" sz="1600" spc="-1" strike="noStrike">
                <a:solidFill>
                  <a:srgbClr val="990000"/>
                </a:solidFill>
                <a:latin typeface="Times New Roman"/>
              </a:rPr>
              <a:t>євєродонецьк Луганська об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916360" y="189000"/>
            <a:ext cx="4751280" cy="282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Єгипетські піраміди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3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686560" y="1989000"/>
            <a:ext cx="33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-255+570+(-16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3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4" action="ppaction://hlinksldjump"/>
          </p:cNvPr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1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1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Єгипетські піраміди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7760" y="3284640"/>
            <a:ext cx="7626240" cy="19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исота піраміди Хеопса 147 метрі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Олександрійський маяк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477800" y="1820880"/>
            <a:ext cx="7666200" cy="503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Олександрійський маяк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1989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|17+(-126)+59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2" action="ppaction://hlinksldjump"/>
          </p:cNvPr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3" action="ppaction://hlinksldjump"/>
          </p:cNvPr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6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4" action="ppaction://hlinksldjump"/>
          </p:cNvPr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5" action="ppaction://hlinksldjump"/>
          </p:cNvPr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Олександрійський маяк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7760" y="3284640"/>
            <a:ext cx="7626240" cy="19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ідстань, з якої було видн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маяк – 50 к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Висячі сади Вавилон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916360" y="1822320"/>
            <a:ext cx="4706640" cy="50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Висячі сади Вавилон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67280" y="19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-54,46+130,28+(-35,8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Висячі сади Вавилон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7760" y="2923920"/>
            <a:ext cx="7626240" cy="25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ерхня тераса саді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Семіраміди </a:t>
            </a: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знаходилас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на висоті 40 м над земле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Колос Родоський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481040" y="1824120"/>
            <a:ext cx="7662960" cy="503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Колос Родоський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76000" y="2133360"/>
            <a:ext cx="373716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3" action="ppaction://hlinksldjump"/>
          </p:cNvPr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3</a:t>
            </a: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435640" y="1844640"/>
                <a:ext cx="351936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500"/>
                            </p:stCondLst>
                            <p:childTnLst>
                              <p:par>
                                <p:cTn id="3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360" y="304560"/>
            <a:ext cx="7616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Які числа називають раціональними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?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Цілі числа  +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+ дробові числа 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=  раціональні числ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990000"/>
                </a:solidFill>
                <a:latin typeface="Times New Roman"/>
              </a:rPr>
              <a:t>Колос Родоський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7760" y="3860640"/>
            <a:ext cx="762624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исота статуї </a:t>
            </a: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40 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Мавзолей в Галікарнасі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2890800" y="1825560"/>
            <a:ext cx="489924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Мавзолей в Галікарнасі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56000" y="206064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59240" y="256536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59240" y="306864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59240" y="3573360"/>
            <a:ext cx="432000" cy="505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59240" y="407664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59240" y="4581360"/>
            <a:ext cx="432000" cy="505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59240" y="5084640"/>
            <a:ext cx="432000" cy="505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59240" y="558972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56000" y="609300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9124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22880" y="2565360"/>
            <a:ext cx="4334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5632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8796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1996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5160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8360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1524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24220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2760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4492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1292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79064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016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16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67240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24360" y="2060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92360" y="2060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59280" y="2060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800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7332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3696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8800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1964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5164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8472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1672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4836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88000" y="4076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19640" y="4076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51640" y="4076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84720" y="4076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516720" y="4076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24360" y="4581360"/>
            <a:ext cx="4334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9640" y="4581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88000" y="4581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24360" y="5084640"/>
            <a:ext cx="4334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508464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59280" y="508464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88000" y="558972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19640" y="558972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51640" y="558972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24360" y="609300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88000" y="609300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609300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59280" y="609300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27280" y="609300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0532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7188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24360" y="558972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57440" y="333360"/>
            <a:ext cx="748656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Храм Артеміди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488960" y="1817640"/>
            <a:ext cx="765504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Храм Артеміди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88600" y="3227040"/>
            <a:ext cx="7626600" cy="25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Храм Артеміди в Ефес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займав площу 10349 кв.м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або 1,0349 г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Статуя Зевс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1476360" y="1825560"/>
            <a:ext cx="766764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Статуя Зевс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86560" y="1989000"/>
            <a:ext cx="33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4</a:t>
            </a: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5</a:t>
            </a: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+28,6+(-11,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500"/>
                            </p:stCondLst>
                            <p:childTnLst>
                              <p:par>
                                <p:cTn id="4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Статуя Зевс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17760" y="3573360"/>
            <a:ext cx="7626240" cy="14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Висота статуї 13 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Times New Roman"/>
              </a:rPr>
              <a:t>Дякую за урок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1476360" y="4267080"/>
            <a:ext cx="3743280" cy="25923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5219640" y="1833480"/>
            <a:ext cx="3924360" cy="50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1476360" y="1836720"/>
            <a:ext cx="3708360" cy="50212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Відповідь невірна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8" name="">
            <a:hlinkClick r:id="" action="ppaction://hlinkshowjump?jump=previousslide"/>
          </p:cNvPr>
          <p:cNvSpPr/>
          <p:nvPr/>
        </p:nvSpPr>
        <p:spPr>
          <a:xfrm>
            <a:off x="5867280" y="5661000"/>
            <a:ext cx="2735280" cy="647640"/>
          </a:xfrm>
          <a:custGeom>
            <a:avLst/>
            <a:gdLst>
              <a:gd name="textAreaLeft" fmla="*/ 41760 w 2735280"/>
              <a:gd name="textAreaRight" fmla="*/ 2693520 w 2735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91188" h="21600">
                <a:moveTo>
                  <a:pt x="0" y="0"/>
                </a:moveTo>
                <a:lnTo>
                  <a:pt x="91188" y="0"/>
                </a:lnTo>
                <a:lnTo>
                  <a:pt x="91188" y="21600"/>
                </a:lnTo>
                <a:lnTo>
                  <a:pt x="0" y="21600"/>
                </a:lnTo>
                <a:close/>
              </a:path>
              <a:path fill="lightenLess" w="91188" h="21600">
                <a:moveTo>
                  <a:pt x="0" y="0"/>
                </a:moveTo>
                <a:lnTo>
                  <a:pt x="91188" y="0"/>
                </a:lnTo>
                <a:lnTo>
                  <a:pt x="89788" y="1400"/>
                </a:lnTo>
                <a:lnTo>
                  <a:pt x="1400" y="1400"/>
                </a:lnTo>
                <a:close/>
              </a:path>
              <a:path fill="darken" w="91188" h="21600">
                <a:moveTo>
                  <a:pt x="91188" y="0"/>
                </a:moveTo>
                <a:lnTo>
                  <a:pt x="91188" y="21600"/>
                </a:lnTo>
                <a:lnTo>
                  <a:pt x="89788" y="20200"/>
                </a:lnTo>
                <a:lnTo>
                  <a:pt x="89788" y="1400"/>
                </a:lnTo>
                <a:close/>
              </a:path>
              <a:path fill="darkenLess" w="91188" h="21600">
                <a:moveTo>
                  <a:pt x="91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88" y="20200"/>
                </a:lnTo>
                <a:close/>
              </a:path>
              <a:path fill="lighten" w="91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Як додати два числа однакових знаків?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Щоб додати два числа однакових знаків потрібно додати їх модулі і перед сумою поставити знак доданкі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+4)+(+5)=+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-4)+(-5)=-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Правильно! Молодець!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1476360" y="1820880"/>
            <a:ext cx="3708360" cy="503712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5867280" y="5661000"/>
            <a:ext cx="2735280" cy="647640"/>
          </a:xfrm>
          <a:custGeom>
            <a:avLst/>
            <a:gdLst>
              <a:gd name="textAreaLeft" fmla="*/ 41760 w 2735280"/>
              <a:gd name="textAreaRight" fmla="*/ 2693520 w 2735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91188" h="21600">
                <a:moveTo>
                  <a:pt x="0" y="0"/>
                </a:moveTo>
                <a:lnTo>
                  <a:pt x="91188" y="0"/>
                </a:lnTo>
                <a:lnTo>
                  <a:pt x="91188" y="21600"/>
                </a:lnTo>
                <a:lnTo>
                  <a:pt x="0" y="21600"/>
                </a:lnTo>
                <a:close/>
              </a:path>
              <a:path fill="lightenLess" w="91188" h="21600">
                <a:moveTo>
                  <a:pt x="0" y="0"/>
                </a:moveTo>
                <a:lnTo>
                  <a:pt x="91188" y="0"/>
                </a:lnTo>
                <a:lnTo>
                  <a:pt x="89788" y="1400"/>
                </a:lnTo>
                <a:lnTo>
                  <a:pt x="1400" y="1400"/>
                </a:lnTo>
                <a:close/>
              </a:path>
              <a:path fill="darken" w="91188" h="21600">
                <a:moveTo>
                  <a:pt x="91188" y="0"/>
                </a:moveTo>
                <a:lnTo>
                  <a:pt x="91188" y="21600"/>
                </a:lnTo>
                <a:lnTo>
                  <a:pt x="89788" y="20200"/>
                </a:lnTo>
                <a:lnTo>
                  <a:pt x="89788" y="1400"/>
                </a:lnTo>
                <a:close/>
              </a:path>
              <a:path fill="darkenLess" w="91188" h="21600">
                <a:moveTo>
                  <a:pt x="91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88" y="20200"/>
                </a:lnTo>
                <a:close/>
              </a:path>
              <a:path fill="lighten" w="91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Від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’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ємні числа товаришують один з одним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5729400"/>
            <a:ext cx="1979640" cy="1128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 flipH="1">
            <a:off x="1692000" y="2060640"/>
            <a:ext cx="2701800" cy="3666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364000" y="2060640"/>
            <a:ext cx="2767320" cy="3605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95640" y="3573360"/>
            <a:ext cx="1878120" cy="1944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81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-39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76360" y="5668920"/>
            <a:ext cx="76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–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 +  (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–15)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Times New Roman"/>
              </a:rPr>
              <a:t>Як додати два числа різних знаків?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Щоб додати два числа різних знаків потрібно від більшого модуля відняти менший і перед результатом поставити знак доданка з більшим модуле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+17)+(-20)=-(20-17)=-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+7)+(-5)=+(7-5)=+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-12)+4=-(12-4)=-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Числа з різними знаками сваряться один з одним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5729400"/>
            <a:ext cx="1979640" cy="1128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547640" y="2637000"/>
            <a:ext cx="2738520" cy="2662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435640" y="1268280"/>
            <a:ext cx="4567320" cy="50450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476360" y="5668920"/>
            <a:ext cx="76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,7  +  (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–5,9)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95640" y="3573360"/>
            <a:ext cx="1878120" cy="1944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81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-2,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a50021"/>
                </a:solidFill>
                <a:latin typeface="Times New Roman"/>
              </a:rPr>
              <a:t>Історична довідк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«Сума двох боргів є борг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«Сума двох майнів є майно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«Сума майна і боргу дорівнює їх різниці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427880" y="5141880"/>
            <a:ext cx="1716120" cy="1716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8244000" y="4437000"/>
            <a:ext cx="105408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050920" y="260280"/>
            <a:ext cx="756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Times New Roman"/>
              </a:rPr>
              <a:t>Алгоритм </a:t>
            </a:r>
            <a:r>
              <a:rPr b="1" i="1" lang="uk-UA" sz="3600" spc="-1" strike="noStrike">
                <a:solidFill>
                  <a:srgbClr val="a50021"/>
                </a:solidFill>
                <a:latin typeface="Times New Roman"/>
              </a:rPr>
              <a:t>додавання</a:t>
            </a:r>
            <a:br>
              <a:rPr sz="3600"/>
            </a:br>
            <a:r>
              <a:rPr b="1" i="1" lang="ru-RU" sz="3600" spc="-1" strike="noStrike">
                <a:solidFill>
                  <a:srgbClr val="a50021"/>
                </a:solidFill>
                <a:latin typeface="Times New Roman"/>
              </a:rPr>
              <a:t>раціональних чисе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877080" y="14400"/>
            <a:ext cx="2266920" cy="1600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742840" y="1523880"/>
            <a:ext cx="3962520" cy="6098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ивись на зна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133360" y="2209680"/>
            <a:ext cx="24382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34000" y="2209680"/>
            <a:ext cx="24382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42920" y="2852640"/>
            <a:ext cx="2360520" cy="6080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Однаков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99040" y="2852640"/>
            <a:ext cx="2362320" cy="6098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Різн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33720" y="3586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4033800"/>
            <a:ext cx="3505320" cy="11192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Став спільний зна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33720" y="524844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5657760"/>
            <a:ext cx="3538440" cy="8384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Модулі дода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86680" y="35812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57800" y="4033800"/>
            <a:ext cx="3657600" cy="1081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Став знак більш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модул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86680" y="524844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62480" y="5688000"/>
            <a:ext cx="3630600" cy="838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Модулі відня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Єгипетські піраміди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481040" y="1832040"/>
            <a:ext cx="7662960" cy="50259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064200" y="1936800"/>
            <a:ext cx="275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1:48:30Z</dcterms:created>
  <dc:creator>Макогон</dc:creator>
  <dc:description/>
  <dc:language>en-US</dc:language>
  <cp:lastModifiedBy>Одмин</cp:lastModifiedBy>
  <dcterms:modified xsi:type="dcterms:W3CDTF">2012-01-30T18:04:29Z</dcterms:modified>
  <cp:revision>105</cp:revision>
  <dc:subject/>
  <dc:title>Сложение</dc:title>
</cp:coreProperties>
</file>