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0.png" ContentType="image/png"/>
  <Override PartName="/ppt/media/applause.wav" ContentType="audio/x-wav"/>
  <Override PartName="/ppt/media/image9.gif" ContentType="image/gif"/>
  <Override PartName="/ppt/media/image8.gif" ContentType="image/gif"/>
  <Override PartName="/ppt/media/image7.gif" ContentType="image/gif"/>
  <Override PartName="/ppt/media/image11.gif" ContentType="image/gif"/>
  <Override PartName="/ppt/media/image14.png" ContentType="image/png"/>
  <Override PartName="/ppt/media/image6.gif" ContentType="image/gif"/>
  <Override PartName="/ppt/media/image20.gif" ContentType="image/gif"/>
  <Override PartName="/ppt/media/image18.png" ContentType="image/png"/>
  <Override PartName="/ppt/media/image17.png" ContentType="image/png"/>
  <Override PartName="/ppt/media/image4.gif" ContentType="image/gif"/>
  <Override PartName="/ppt/media/chimes.wav" ContentType="audio/x-wav"/>
  <Override PartName="/ppt/media/image16.png" ContentType="image/png"/>
  <Override PartName="/ppt/media/drumroll.wav" ContentType="audio/x-wav"/>
  <Override PartName="/ppt/media/image15.png" ContentType="image/png"/>
  <Override PartName="/ppt/media/image19.gif" ContentType="image/gif"/>
  <Override PartName="/ppt/media/image1.png" ContentType="image/png"/>
  <Override PartName="/ppt/media/image2.png" ContentType="image/png"/>
  <Override PartName="/ppt/media/image3.png" ContentType="image/png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>
    <p:sldRg st="1" end="30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DF0A-6C4D-45BC-85D7-6841EC36C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AB8E-BEA1-4AFA-815D-C59F15E3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9C5D-DC8E-4288-BFD6-CD634FF9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BA10-58ED-419A-A30D-D6A4311AB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51EAE-50F6-4390-8883-C5ABC0886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E17C3-FCA6-4B5A-8ACE-9E8F2D424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1E356-D2C4-42E0-9777-DF09AB69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4D2EA-C413-48CA-A2F8-0FC5AF930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61A0-0790-4C6D-9A13-74DF7C12E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E1E30-1774-43F4-849E-F06127391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8071-353D-41D4-A2E2-409226598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2C762-AF12-4AE1-A6FF-D6CCA3AB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76249-24AC-4E80-8F77-A38BA45BE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9DF57-969F-4D16-A61D-4D9F8829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90658-4063-4BD4-B670-937484C5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F36D-1613-4E58-8060-C7889B5E5D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9E5AB-6A7A-4610-A0D6-3B94129491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4BBE-939B-477D-A6BA-82624AC7B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6873-2026-4252-9D52-71A103D2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315A-BEE5-4A1B-AA3D-1D9C7213E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2C0C-63EC-4D0A-BE18-2CAD595A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2A00D-97A1-4C36-AD2B-D0ACBAEF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22AC9-EE93-47F8-950A-1097CCF9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0BCF-420E-41AB-B565-6DA9201E7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/>
                <a:ahLst/>
                <a:rect l="l" t="t" r="r" b="b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F154B-ADCE-4BDC-831D-E5143BE4AA07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ffa800"/>
                  </a:gs>
                  <a:gs pos="100000">
                    <a:srgbClr val="825600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/>
                <a:ahLst/>
                <a:rect l="l" t="t" r="r" b="b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3" name="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5" name="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/>
                  <a:ahLst/>
                  <a:rect l="l" t="t" r="r" b="b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87E04-AFD6-4C46-9BF1-73A6AD5483B4}" type="slidenum">
              <a:rPr b="0" lang="ru-RU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image" Target="../media/image5.gif"/><Relationship Id="rId4" Type="http://schemas.openxmlformats.org/officeDocument/2006/relationships/slide" Target="slide29.xml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29.xml"/><Relationship Id="rId4" Type="http://schemas.openxmlformats.org/officeDocument/2006/relationships/slide" Target="slide30.xml"/><Relationship Id="rId5" Type="http://schemas.openxmlformats.org/officeDocument/2006/relationships/slide" Target="slide29.xml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slide29.xml"/><Relationship Id="rId3" Type="http://schemas.openxmlformats.org/officeDocument/2006/relationships/slide" Target="slide30.xml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gif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gif"/><Relationship Id="rId3" Type="http://schemas.openxmlformats.org/officeDocument/2006/relationships/image" Target="../media/image7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1403280" y="3284640"/>
            <a:ext cx="7740720" cy="316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c6600"/>
                </a:solidFill>
                <a:latin typeface="Times New Roman"/>
              </a:rPr>
              <a:t>ТЕМА УРОК</a:t>
            </a:r>
            <a:r>
              <a:rPr b="1" lang="uk-UA" sz="1800" spc="-1" strike="noStrike">
                <a:solidFill>
                  <a:srgbClr val="cc6600"/>
                </a:solidFill>
                <a:latin typeface="Times New Roman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Додаванн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990000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акогон Світлана Олександрівна, вчитель математики СЗШ №1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0000"/>
                </a:solidFill>
                <a:latin typeface="Times New Roman"/>
              </a:rPr>
              <a:t>м.С</a:t>
            </a:r>
            <a:r>
              <a:rPr b="1" lang="uk-UA" sz="1600" spc="-1" strike="noStrike">
                <a:solidFill>
                  <a:srgbClr val="990000"/>
                </a:solidFill>
                <a:latin typeface="Times New Roman"/>
              </a:rPr>
              <a:t>євєродонецьк Луганська об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2916360" y="189000"/>
            <a:ext cx="4751280" cy="28209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255+570+(-16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31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4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30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піраміди Хеопса 147 метр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1477800" y="1820880"/>
            <a:ext cx="7666200" cy="503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67280" y="198900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|17+(-126)+59|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6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rId4" action="ppaction://hlinksldjump"/>
          </p:cNvPr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rId5" action="ppaction://hlinksldjump"/>
          </p:cNvPr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6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500"/>
                            </p:stCondLst>
                            <p:childTnLst>
                              <p:par>
                                <p:cTn id="24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500"/>
                            </p:stCondLst>
                            <p:childTnLst>
                              <p:par>
                                <p:cTn id="2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000"/>
                            </p:stCondLst>
                            <p:childTnLst>
                              <p:par>
                                <p:cTn id="2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00"/>
                            </p:stCondLst>
                            <p:childTnLst>
                              <p:par>
                                <p:cTn id="2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3000"/>
                            </p:stCondLst>
                            <p:childTnLst>
                              <p:par>
                                <p:cTn id="26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Олександрійський маяк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517760" y="3284640"/>
            <a:ext cx="7626240" cy="1952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ідстань, з якої було видн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маяк – 50 к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2"/>
          <a:stretch/>
        </p:blipFill>
        <p:spPr>
          <a:xfrm>
            <a:off x="2916360" y="1822320"/>
            <a:ext cx="4706640" cy="503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967280" y="198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-54,46+130,28+(-35,8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0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000"/>
                            </p:stCondLst>
                            <p:childTnLst>
                              <p:par>
                                <p:cTn id="2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500"/>
                            </p:stCondLst>
                            <p:childTnLst>
                              <p:par>
                                <p:cTn id="30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500"/>
                            </p:stCondLst>
                            <p:childTnLst>
                              <p:par>
                                <p:cTn id="31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3000"/>
                            </p:stCondLst>
                            <p:childTnLst>
                              <p:par>
                                <p:cTn id="3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Висячі сади Вавилон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517760" y="2923920"/>
            <a:ext cx="7626240" cy="25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ерхня тераса саді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Семіраміди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находилас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на висоті 40 м над земле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1481040" y="1824120"/>
            <a:ext cx="7662960" cy="50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76000" y="2133360"/>
            <a:ext cx="3737160" cy="655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8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2" action="ppaction://hlinksldjump"/>
          </p:cNvPr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5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rId3" action="ppaction://hlinksldjump"/>
          </p:cNvPr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4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3</a:t>
            </a: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5435640" y="1844640"/>
                <a:ext cx="3519360" cy="104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9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  <m:r>
                      <m:t xml:space="preserve">+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f>
                      <m:num>
                        <m:r>
                          <m:t xml:space="preserve">9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31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500"/>
                            </p:stCondLst>
                            <p:childTnLst>
                              <p:par>
                                <p:cTn id="3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500"/>
                            </p:stCondLst>
                            <p:childTnLst>
                              <p:par>
                                <p:cTn id="3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2500"/>
                            </p:stCondLst>
                            <p:childTnLst>
                              <p:par>
                                <p:cTn id="3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76360" y="304560"/>
            <a:ext cx="7616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і числа називають раціональними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Цілі числа  +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+ дробові числа  =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           </a:t>
            </a:r>
            <a:r>
              <a:rPr b="1" i="1" lang="ru-RU" sz="4800" spc="-1" strike="noStrike">
                <a:solidFill>
                  <a:srgbClr val="a50021"/>
                </a:solidFill>
                <a:latin typeface="Times New Roman"/>
              </a:rPr>
              <a:t>=  раціональні числ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990000"/>
                </a:solidFill>
                <a:latin typeface="Times New Roman"/>
              </a:rPr>
              <a:t>Колос Родоський</a:t>
            </a:r>
            <a:endParaRPr b="0" i="1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517760" y="3860640"/>
            <a:ext cx="7626240" cy="93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a50021"/>
                </a:solidFill>
                <a:latin typeface="Times New Roman"/>
              </a:rPr>
              <a:t>Висота статуї </a:t>
            </a: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40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2890800" y="1825560"/>
            <a:ext cx="48992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Мавзолей в Галікарнасі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356000" y="2060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9240" y="256536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9240" y="3068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9240" y="3573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9240" y="407664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9240" y="458136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359240" y="5084640"/>
            <a:ext cx="432000" cy="50508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359240" y="558972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356000" y="6093000"/>
            <a:ext cx="432000" cy="504720"/>
          </a:xfrm>
          <a:prstGeom prst="rect">
            <a:avLst/>
          </a:prstGeom>
          <a:solidFill>
            <a:srgbClr val="ff993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79124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222880" y="2565360"/>
            <a:ext cx="4334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5632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8796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51996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9516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383600" y="256536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81524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2422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276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053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4492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2129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79064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37016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3816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672400" y="256536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2436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492360" y="2060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059280" y="2060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8000" y="3068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073320" y="3068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9369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478800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21964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5164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5167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948360" y="3573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78800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21964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65164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84720" y="407664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516720" y="407664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924360" y="458136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9640" y="458136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788000" y="4581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924360" y="5084640"/>
            <a:ext cx="4334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5084640"/>
            <a:ext cx="43200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508464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478800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219640" y="558972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65164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92436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8800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49236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59280" y="609300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627280" y="6093000"/>
            <a:ext cx="43200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50532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071880" y="3573360"/>
            <a:ext cx="431640" cy="50508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924360" y="5589720"/>
            <a:ext cx="431640" cy="504720"/>
          </a:xfrm>
          <a:prstGeom prst="rect">
            <a:avLst/>
          </a:prstGeom>
          <a:solidFill>
            <a:srgbClr val="ffcc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660033"/>
                </a:solidFill>
                <a:latin typeface="Times New Roman"/>
              </a:rPr>
              <a:t>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57440" y="333360"/>
            <a:ext cx="7486560" cy="968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488960" y="1817640"/>
            <a:ext cx="76550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Храм Артеміди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488600" y="3227040"/>
            <a:ext cx="7626600" cy="252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Храм Артеміди в Ефесі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займав площу 10349 кв.м,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або 1,0349 га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000"/>
                            </p:stCondLst>
                            <p:childTnLst>
                              <p:par>
                                <p:cTn id="3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2"/>
          <a:stretch/>
        </p:blipFill>
        <p:spPr>
          <a:xfrm>
            <a:off x="1476360" y="1825560"/>
            <a:ext cx="766764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476000" y="1989000"/>
            <a:ext cx="3452760" cy="72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000000"/>
                </a:solidFill>
                <a:latin typeface="Times New Roman"/>
              </a:rPr>
              <a:t>Обчислит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588000" y="342900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86560" y="1989000"/>
            <a:ext cx="33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-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4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5</a:t>
            </a:r>
            <a:r>
              <a:rPr b="1" lang="uk-UA" sz="3200" spc="-1" strike="noStrike">
                <a:solidFill>
                  <a:srgbClr val="990000"/>
                </a:solidFill>
                <a:latin typeface="Times New Roman"/>
              </a:rPr>
              <a:t>+28,6+(-11,1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3357720"/>
            <a:ext cx="4029120" cy="7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Можливі відповіді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588000" y="422100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-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588000" y="5013360"/>
            <a:ext cx="1800360" cy="64764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60024" h="21600">
                <a:moveTo>
                  <a:pt x="0" y="0"/>
                </a:moveTo>
                <a:lnTo>
                  <a:pt x="60024" y="0"/>
                </a:lnTo>
                <a:lnTo>
                  <a:pt x="60024" y="21600"/>
                </a:lnTo>
                <a:lnTo>
                  <a:pt x="0" y="21600"/>
                </a:lnTo>
                <a:close/>
              </a:path>
              <a:path fill="lightenLess" w="60024" h="21600">
                <a:moveTo>
                  <a:pt x="0" y="0"/>
                </a:moveTo>
                <a:lnTo>
                  <a:pt x="60024" y="0"/>
                </a:lnTo>
                <a:lnTo>
                  <a:pt x="58624" y="1400"/>
                </a:lnTo>
                <a:lnTo>
                  <a:pt x="1400" y="1400"/>
                </a:lnTo>
                <a:close/>
              </a:path>
              <a:path fill="darken" w="60024" h="21600">
                <a:moveTo>
                  <a:pt x="60024" y="0"/>
                </a:moveTo>
                <a:lnTo>
                  <a:pt x="60024" y="21600"/>
                </a:lnTo>
                <a:lnTo>
                  <a:pt x="58624" y="20200"/>
                </a:lnTo>
                <a:lnTo>
                  <a:pt x="58624" y="1400"/>
                </a:lnTo>
                <a:close/>
              </a:path>
              <a:path fill="darkenLess" w="60024" h="21600">
                <a:moveTo>
                  <a:pt x="600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624" y="20200"/>
                </a:lnTo>
                <a:close/>
              </a:path>
              <a:path fill="lighten" w="600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990000"/>
                </a:solidFill>
                <a:uFillTx/>
                <a:latin typeface="Times New Roman"/>
              </a:rPr>
              <a:t>-2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588000" y="5805360"/>
            <a:ext cx="1800360" cy="648000"/>
          </a:xfrm>
          <a:custGeom>
            <a:avLst/>
            <a:gdLst>
              <a:gd name="textAreaLeft" fmla="*/ 41760 w 1800360"/>
              <a:gd name="textAreaRight" fmla="*/ 1758600 w 1800360"/>
              <a:gd name="textAreaTop" fmla="*/ 41760 h 648000"/>
              <a:gd name="textAreaBottom" fmla="*/ 606240 h 648000"/>
            </a:gdLst>
            <a:ahLst/>
            <a:rect l="textAreaLeft" t="textAreaTop" r="textAreaRight" b="textAreaBottom"/>
            <a:pathLst>
              <a:path w="59991" h="21600">
                <a:moveTo>
                  <a:pt x="0" y="0"/>
                </a:moveTo>
                <a:lnTo>
                  <a:pt x="59991" y="0"/>
                </a:lnTo>
                <a:lnTo>
                  <a:pt x="59991" y="21600"/>
                </a:lnTo>
                <a:lnTo>
                  <a:pt x="0" y="21600"/>
                </a:lnTo>
                <a:close/>
              </a:path>
              <a:path fill="lightenLess" w="59991" h="21600">
                <a:moveTo>
                  <a:pt x="0" y="0"/>
                </a:moveTo>
                <a:lnTo>
                  <a:pt x="59991" y="0"/>
                </a:lnTo>
                <a:lnTo>
                  <a:pt x="58591" y="1400"/>
                </a:lnTo>
                <a:lnTo>
                  <a:pt x="1400" y="1400"/>
                </a:lnTo>
                <a:close/>
              </a:path>
              <a:path fill="darken" w="59991" h="21600">
                <a:moveTo>
                  <a:pt x="59991" y="0"/>
                </a:moveTo>
                <a:lnTo>
                  <a:pt x="59991" y="21600"/>
                </a:lnTo>
                <a:lnTo>
                  <a:pt x="58591" y="20200"/>
                </a:lnTo>
                <a:lnTo>
                  <a:pt x="58591" y="1400"/>
                </a:lnTo>
                <a:close/>
              </a:path>
              <a:path fill="darkenLess" w="59991" h="21600">
                <a:moveTo>
                  <a:pt x="599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591" y="20200"/>
                </a:lnTo>
                <a:close/>
              </a:path>
              <a:path fill="lighten" w="599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1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1547640" y="5729400"/>
            <a:ext cx="1979640" cy="1128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1" fill="hold">
                            <p:stCondLst>
                              <p:cond delay="500"/>
                            </p:stCondLst>
                            <p:childTnLst>
                              <p:par>
                                <p:cTn id="4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1000"/>
                            </p:stCondLst>
                            <p:childTnLst>
                              <p:par>
                                <p:cTn id="41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000"/>
                            </p:stCondLst>
                            <p:childTnLst>
                              <p:par>
                                <p:cTn id="4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2500"/>
                            </p:stCondLst>
                            <p:childTnLst>
                              <p:par>
                                <p:cTn id="43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000"/>
                            </p:stCondLst>
                            <p:childTnLst>
                              <p:par>
                                <p:cTn id="4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990000"/>
                </a:solidFill>
                <a:latin typeface="Times New Roman"/>
              </a:rPr>
              <a:t>Статуя Зевс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517760" y="3573360"/>
            <a:ext cx="762624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4800" spc="-1" strike="noStrike">
                <a:solidFill>
                  <a:srgbClr val="a50021"/>
                </a:solidFill>
                <a:latin typeface="Times New Roman"/>
              </a:rPr>
              <a:t>Висота статуї 13 м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0033"/>
                </a:solidFill>
                <a:latin typeface="Times New Roman"/>
              </a:rPr>
              <a:t>Дякую за урок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2"/>
          <a:stretch/>
        </p:blipFill>
        <p:spPr>
          <a:xfrm>
            <a:off x="1476360" y="4267080"/>
            <a:ext cx="3743280" cy="259236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5219640" y="1833480"/>
            <a:ext cx="3924360" cy="50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" descr=""/>
          <p:cNvPicPr/>
          <p:nvPr/>
        </p:nvPicPr>
        <p:blipFill>
          <a:blip r:embed="rId2"/>
          <a:stretch/>
        </p:blipFill>
        <p:spPr>
          <a:xfrm>
            <a:off x="1476360" y="1836720"/>
            <a:ext cx="3708360" cy="5021280"/>
          </a:xfrm>
          <a:prstGeom prst="rect">
            <a:avLst/>
          </a:prstGeom>
          <a:ln w="0">
            <a:noFill/>
          </a:ln>
        </p:spPr>
      </p:pic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Відповідь невірна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8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однаков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однакових знаків потрібно додати їх модулі і перед сумою поставити знак доданків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4)+(+5)=+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4)+(-5)=-9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1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5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1000" fill="hold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Правильно! Молодець!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1476360" y="1820880"/>
            <a:ext cx="3708360" cy="5037120"/>
          </a:xfrm>
          <a:prstGeom prst="rect">
            <a:avLst/>
          </a:prstGeom>
          <a:ln w="0">
            <a:noFill/>
          </a:ln>
        </p:spPr>
      </p:pic>
      <p:sp>
        <p:nvSpPr>
          <p:cNvPr id="291" name="">
            <a:hlinkClick r:id="" action="ppaction://hlinkshowjump?jump=previousslide"/>
          </p:cNvPr>
          <p:cNvSpPr/>
          <p:nvPr/>
        </p:nvSpPr>
        <p:spPr>
          <a:xfrm>
            <a:off x="5867280" y="5661000"/>
            <a:ext cx="2735280" cy="647640"/>
          </a:xfrm>
          <a:custGeom>
            <a:avLst/>
            <a:gdLst>
              <a:gd name="textAreaLeft" fmla="*/ 41760 w 2735280"/>
              <a:gd name="textAreaRight" fmla="*/ 2693520 w 27352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91188" h="21600">
                <a:moveTo>
                  <a:pt x="0" y="0"/>
                </a:moveTo>
                <a:lnTo>
                  <a:pt x="91188" y="0"/>
                </a:lnTo>
                <a:lnTo>
                  <a:pt x="91188" y="21600"/>
                </a:lnTo>
                <a:lnTo>
                  <a:pt x="0" y="21600"/>
                </a:lnTo>
                <a:close/>
              </a:path>
              <a:path fill="lightenLess" w="91188" h="21600">
                <a:moveTo>
                  <a:pt x="0" y="0"/>
                </a:moveTo>
                <a:lnTo>
                  <a:pt x="91188" y="0"/>
                </a:lnTo>
                <a:lnTo>
                  <a:pt x="89788" y="1400"/>
                </a:lnTo>
                <a:lnTo>
                  <a:pt x="1400" y="1400"/>
                </a:lnTo>
                <a:close/>
              </a:path>
              <a:path fill="darken" w="91188" h="21600">
                <a:moveTo>
                  <a:pt x="91188" y="0"/>
                </a:moveTo>
                <a:lnTo>
                  <a:pt x="91188" y="21600"/>
                </a:lnTo>
                <a:lnTo>
                  <a:pt x="89788" y="20200"/>
                </a:lnTo>
                <a:lnTo>
                  <a:pt x="89788" y="1400"/>
                </a:lnTo>
                <a:close/>
              </a:path>
              <a:path fill="darkenLess" w="91188" h="21600">
                <a:moveTo>
                  <a:pt x="911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9788" y="20200"/>
                </a:lnTo>
                <a:close/>
              </a:path>
              <a:path fill="lighten" w="911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 u="sng">
                <a:solidFill>
                  <a:srgbClr val="990000"/>
                </a:solidFill>
                <a:uFillTx/>
                <a:latin typeface="Times New Roman"/>
              </a:rPr>
              <a:t>Наза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Від</a:t>
            </a:r>
            <a:r>
              <a:rPr b="1" lang="en-US" sz="3200" spc="-1" strike="noStrike">
                <a:solidFill>
                  <a:srgbClr val="990000"/>
                </a:solidFill>
                <a:latin typeface="Times New Roman"/>
              </a:rPr>
              <a:t>’</a:t>
            </a: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ємні числа товаришують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 flipH="1">
            <a:off x="1692000" y="2060640"/>
            <a:ext cx="2701800" cy="36669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5364000" y="2060640"/>
            <a:ext cx="2767320" cy="36050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39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–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15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2500"/>
                            </p:stCondLst>
                            <p:childTnLst>
                              <p:par>
                                <p:cTn id="8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8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9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0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1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2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4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5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990000"/>
                </a:solidFill>
                <a:latin typeface="Times New Roman"/>
              </a:rPr>
              <a:t>Як додати два числа різних знаків?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Щоб додати два числа різних знаків потрібно від більшого модуля відняти менший і перед результатом поставити знак доданка з більшим модулем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17)+(-20)=-(20-17)=-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+7)+(-5)=+(7-5)=+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70720" indent="-27072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a50021"/>
                </a:solidFill>
                <a:latin typeface="Times New Roman"/>
              </a:rPr>
              <a:t>(-12)+4=-(12-4)=-8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0000"/>
                </a:solidFill>
                <a:latin typeface="Times New Roman"/>
              </a:rPr>
              <a:t>Числа з різними знаками сваряться один з одним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5729400"/>
            <a:ext cx="1979640" cy="11286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1547640" y="2637000"/>
            <a:ext cx="2738520" cy="26622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5435640" y="1268280"/>
            <a:ext cx="4567320" cy="50450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1476360" y="5668920"/>
            <a:ext cx="766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3,7  +  (</a:t>
            </a:r>
            <a:r>
              <a:rPr b="1" lang="ru-RU" sz="7200" spc="-1" strike="noStrike">
                <a:solidFill>
                  <a:srgbClr val="000000"/>
                </a:solidFill>
                <a:latin typeface="Times New Roman"/>
              </a:rPr>
              <a:t>–5,9)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995640" y="3573360"/>
            <a:ext cx="1878120" cy="19447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lin ang="8100000"/>
          </a:gra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</a:rPr>
              <a:t>-2,2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45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455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66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660">
                                          <p:stCondLst>
                                            <p:cond delay="166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30">
                                          <p:stCondLst>
                                            <p:cond delay="331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410">
                                          <p:stCondLst>
                                            <p:cond delay="414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2" dur="65" fill="hold">
                                          <p:stCondLst>
                                            <p:cond delay="162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3" dur="415" fill="hold">
                                          <p:stCondLst>
                                            <p:cond delay="169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4" dur="65" fill="hold">
                                          <p:stCondLst>
                                            <p:cond delay="328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5" dur="415" fill="hold">
                                          <p:stCondLst>
                                            <p:cond delay="334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6" dur="65" fill="hold">
                                          <p:stCondLst>
                                            <p:cond delay="410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7" dur="415" fill="hold">
                                          <p:stCondLst>
                                            <p:cond delay="417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8" dur="65" fill="hold">
                                          <p:stCondLst>
                                            <p:cond delay="452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9" dur="415" fill="hold">
                                          <p:stCondLst>
                                            <p:cond delay="4585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Історична довідка</a:t>
            </a:r>
            <a:endParaRPr b="0" i="1" lang="en-US" sz="36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боргів є борг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двох майнів є майно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5000"/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a50021"/>
                </a:solidFill>
                <a:latin typeface="Monotype Corsiva"/>
              </a:rPr>
              <a:t>«Сума майна і боргу дорівнює їх різниці»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7427880" y="5141880"/>
            <a:ext cx="1716120" cy="17161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8244000" y="4437000"/>
            <a:ext cx="1054080" cy="158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2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2000" fill="hold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4000"/>
                            </p:stCondLst>
                            <p:childTnLst>
                              <p:par>
                                <p:cTn id="17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050920" y="260280"/>
            <a:ext cx="7564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Алгоритм </a:t>
            </a:r>
            <a:r>
              <a:rPr b="1" i="1" lang="uk-UA" sz="3600" spc="-1" strike="noStrike">
                <a:solidFill>
                  <a:srgbClr val="a50021"/>
                </a:solidFill>
                <a:latin typeface="Times New Roman"/>
              </a:rPr>
              <a:t>додавання</a:t>
            </a:r>
            <a:br>
              <a:rPr sz="3600"/>
            </a:br>
            <a:r>
              <a:rPr b="1" i="1" lang="ru-RU" sz="3600" spc="-1" strike="noStrike">
                <a:solidFill>
                  <a:srgbClr val="a50021"/>
                </a:solidFill>
                <a:latin typeface="Times New Roman"/>
              </a:rPr>
              <a:t>раціональних чисе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6877080" y="14400"/>
            <a:ext cx="2266920" cy="160020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2742840" y="1523880"/>
            <a:ext cx="39625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вись на зна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213336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734000" y="2209680"/>
            <a:ext cx="24382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42920" y="2852640"/>
            <a:ext cx="2360520" cy="6080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Однаков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99040" y="2852640"/>
            <a:ext cx="2362320" cy="6098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Різні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133720" y="3586320"/>
            <a:ext cx="0" cy="304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60" y="4033800"/>
            <a:ext cx="3505320" cy="11192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спільний зна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3372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57200" y="5657760"/>
            <a:ext cx="3538440" cy="83844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дода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86680" y="358128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257800" y="4033800"/>
            <a:ext cx="3657600" cy="1081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Став знак більшог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186680" y="524844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62480" y="5688000"/>
            <a:ext cx="3630600" cy="838080"/>
          </a:xfrm>
          <a:prstGeom prst="rect">
            <a:avLst/>
          </a:prstGeom>
          <a:solidFill>
            <a:srgbClr val="ffcc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Times New Roman"/>
              </a:rPr>
              <a:t>Модулі відн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990000"/>
                </a:solidFill>
                <a:latin typeface="Times New Roman"/>
              </a:rPr>
              <a:t>Єгипетські піраміди</a:t>
            </a:r>
            <a:endParaRPr b="0" i="1" lang="en-US" sz="32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1481040" y="1832040"/>
            <a:ext cx="7662960" cy="50259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064200" y="1936800"/>
            <a:ext cx="275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11:48:30Z</dcterms:created>
  <dc:creator>Макогон</dc:creator>
  <dc:description/>
  <dc:language>en-US</dc:language>
  <cp:lastModifiedBy>Одмин</cp:lastModifiedBy>
  <dcterms:modified xsi:type="dcterms:W3CDTF">2012-01-30T18:04:29Z</dcterms:modified>
  <cp:revision>105</cp:revision>
  <dc:subject/>
  <dc:title>Сложение</dc:title>
</cp:coreProperties>
</file>