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188-31E0-49C6-A064-D5C57BB8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191A-ED55-43E3-84A6-3CC817EE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0EB-0196-4466-B45A-5E84A7FB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91D-44D1-449B-84F5-0D46B46B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65F-9E53-4A6E-8318-7AFBABB7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8BCA-6ECB-4DDF-B5D2-E9D49B36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159-9424-4E91-8F6D-7D2C3F96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38A-7796-4215-B91F-16ECC62E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067E-4C75-402A-A933-BEAE2FE0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A353-5CE8-4542-9B3E-00A1647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07B-C72F-4DE5-A0DA-587A8161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200-D0F9-40D2-84D8-A86FCF7E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63C-4A2F-4CB9-9678-550966E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ED43-C2E8-461C-825A-AE0870C2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162A-F75A-45AB-818D-2DE6633B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379-CF70-4E0E-81F7-409D8A6C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3F94-9EB4-4E25-9621-F9DD7B41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27CD-C121-4EBD-918C-032B69D0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7B03-999C-44AE-86EE-B4728F8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059-E8F3-4E94-8FEC-91FC637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AC78-EE33-408B-9F1D-FD15CEEF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610-C123-4CC9-9C97-739728DE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170-F892-41DA-8485-47FDAD3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948-828E-4675-8F68-48DD085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3836-F525-432A-8698-1F58FCD2D8C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55F-5C11-4843-93D7-40BA1CEB54F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1720"/>
            <a:ext cx="7678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 графиков функци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0200" y="3429000"/>
            <a:ext cx="290340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0960" y="3430440"/>
            <a:ext cx="392616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43200" y="458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6324480" y="4724280"/>
          <a:ext cx="13654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4724280"/>
                    <a:ext cx="1365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81916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95480" y="3429000"/>
            <a:ext cx="3195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32040" y="3443400"/>
            <a:ext cx="35164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4080" y="3352680"/>
            <a:ext cx="2641680" cy="15256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960720" y="4265640"/>
            <a:ext cx="0" cy="61128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24080" y="2728800"/>
            <a:ext cx="2670120" cy="27720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441972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888160" y="489744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88160" y="489744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растяжен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3276720"/>
            <a:ext cx="2641680" cy="16621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3200400"/>
            <a:ext cx="2641680" cy="18032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3124080"/>
            <a:ext cx="2641680" cy="19400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048120"/>
            <a:ext cx="2641680" cy="20793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2971800"/>
            <a:ext cx="2641680" cy="2216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124080" y="2895480"/>
            <a:ext cx="2641680" cy="23576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2819520"/>
            <a:ext cx="2641680" cy="24937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771640"/>
            <a:ext cx="2641680" cy="2633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38720" y="838080"/>
          <a:ext cx="243072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8720" y="838080"/>
                    <a:ext cx="24307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24080" y="3505320"/>
            <a:ext cx="2641680" cy="12207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952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5450040" y="35258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0040" y="35258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5867280" y="4495680"/>
          <a:ext cx="133668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495680"/>
                    <a:ext cx="1336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791320"/>
            <a:ext cx="3047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3581280"/>
            <a:ext cx="2641680" cy="109692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3659040"/>
            <a:ext cx="2641680" cy="98928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693960"/>
            <a:ext cx="2641680" cy="89244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754440"/>
            <a:ext cx="2641680" cy="8031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752480" y="4419720"/>
            <a:ext cx="1800" cy="612360"/>
            <a:chOff x="1752480" y="4419720"/>
            <a:chExt cx="1800" cy="612360"/>
          </a:xfrm>
        </p:grpSpPr>
        <p:sp>
          <p:nvSpPr>
            <p:cNvPr id="425" name=""/>
            <p:cNvSpPr/>
            <p:nvPr/>
          </p:nvSpPr>
          <p:spPr>
            <a:xfrm>
              <a:off x="1754280" y="4419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752480" y="4725720"/>
              <a:ext cx="0" cy="30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sin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162240"/>
            <a:ext cx="609624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Свойства функции </a:t>
            </a:r>
            <a:r>
              <a:rPr b="0" i="1" lang="en-US" sz="4000" spc="-1" strike="noStrike">
                <a:solidFill>
                  <a:srgbClr val="003366"/>
                </a:solidFill>
                <a:latin typeface="Verdana"/>
              </a:rPr>
              <a:t>cos(x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962520" y="198108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377208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381880" y="3772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2057400"/>
            <a:ext cx="3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31622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248520" y="377208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505320" y="2765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381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838760"/>
            <a:ext cx="45720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657600" y="4915080"/>
          <a:ext cx="7221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4915080"/>
                    <a:ext cx="722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4343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675800" y="3162240"/>
            <a:ext cx="6095880" cy="1227240"/>
          </a:xfrm>
          <a:custGeom>
            <a:avLst/>
            <a:gdLst/>
            <a:ahLst/>
            <a:rect l="l" t="t" r="r" b="b"/>
            <a:pathLst>
              <a:path w="3840" h="773">
                <a:moveTo>
                  <a:pt x="0" y="192"/>
                </a:moveTo>
                <a:cubicBezTo>
                  <a:pt x="160" y="336"/>
                  <a:pt x="320" y="480"/>
                  <a:pt x="480" y="576"/>
                </a:cubicBezTo>
                <a:cubicBezTo>
                  <a:pt x="640" y="672"/>
                  <a:pt x="800" y="768"/>
                  <a:pt x="960" y="768"/>
                </a:cubicBezTo>
                <a:cubicBezTo>
                  <a:pt x="1120" y="768"/>
                  <a:pt x="1280" y="672"/>
                  <a:pt x="1440" y="576"/>
                </a:cubicBezTo>
                <a:cubicBezTo>
                  <a:pt x="1600" y="480"/>
                  <a:pt x="1760" y="288"/>
                  <a:pt x="1920" y="192"/>
                </a:cubicBezTo>
                <a:cubicBezTo>
                  <a:pt x="2080" y="96"/>
                  <a:pt x="2240" y="0"/>
                  <a:pt x="2400" y="0"/>
                </a:cubicBezTo>
                <a:cubicBezTo>
                  <a:pt x="2560" y="0"/>
                  <a:pt x="2720" y="96"/>
                  <a:pt x="2880" y="192"/>
                </a:cubicBezTo>
                <a:cubicBezTo>
                  <a:pt x="3040" y="288"/>
                  <a:pt x="3224" y="484"/>
                  <a:pt x="3360" y="576"/>
                </a:cubicBezTo>
                <a:cubicBezTo>
                  <a:pt x="3496" y="668"/>
                  <a:pt x="3616" y="709"/>
                  <a:pt x="3696" y="741"/>
                </a:cubicBezTo>
                <a:cubicBezTo>
                  <a:pt x="3776" y="773"/>
                  <a:pt x="3810" y="763"/>
                  <a:pt x="3840" y="768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05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248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629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81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05740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9528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91520" y="3162240"/>
            <a:ext cx="0" cy="121932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295280" y="43815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346716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295280" y="4076640"/>
            <a:ext cx="60962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7924680" y="4137120"/>
          <a:ext cx="1003320" cy="39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4137120"/>
                    <a:ext cx="100332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4114800" y="2209680"/>
          <a:ext cx="138420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209680"/>
                    <a:ext cx="138420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95880" y="3809880"/>
          <a:ext cx="200160" cy="27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6095880" y="3809880"/>
                    <a:ext cx="20016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3962520" y="3809880"/>
          <a:ext cx="199800" cy="344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10">
                    <a:alphaModFix amt="50000"/>
                  </a:blip>
                  <a:stretch/>
                </p:blipFill>
                <p:spPr>
                  <a:xfrm>
                    <a:off x="3962520" y="3809880"/>
                    <a:ext cx="1998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1447920" y="3809880"/>
          <a:ext cx="339480" cy="270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2">
                    <a:alphaModFix amt="50000"/>
                  </a:blip>
                  <a:stretch/>
                </p:blipFill>
                <p:spPr>
                  <a:xfrm>
                    <a:off x="1447920" y="3809880"/>
                    <a:ext cx="339480" cy="2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029200" y="3733920"/>
          <a:ext cx="228600" cy="60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14">
                    <a:alphaModFix amt="50000"/>
                  </a:blip>
                  <a:stretch/>
                </p:blipFill>
                <p:spPr>
                  <a:xfrm>
                    <a:off x="5029200" y="3733920"/>
                    <a:ext cx="2286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2590920" y="3733920"/>
          <a:ext cx="38088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16">
                    <a:alphaModFix amt="50000"/>
                  </a:blip>
                  <a:stretch/>
                </p:blipFill>
                <p:spPr>
                  <a:xfrm>
                    <a:off x="2590920" y="3733920"/>
                    <a:ext cx="380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7238880" y="3733920"/>
          <a:ext cx="34308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18">
                    <a:alphaModFix amt="50000"/>
                  </a:blip>
                  <a:stretch/>
                </p:blipFill>
                <p:spPr>
                  <a:xfrm>
                    <a:off x="7238880" y="3733920"/>
                    <a:ext cx="343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4300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Индивидуальный тренинг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990720" y="2438280"/>
          <a:ext cx="1633320" cy="5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3332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609480" y="12182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остройте график функции и определите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D(f), E(f)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99072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2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1904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Times New Roman"/>
              </a:rPr>
              <a:t>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011240" y="2971800"/>
          <a:ext cx="18669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971800"/>
                    <a:ext cx="186696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990720" y="3506760"/>
          <a:ext cx="16333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506760"/>
                    <a:ext cx="1633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990720" y="3921120"/>
          <a:ext cx="2333520" cy="103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3921120"/>
                    <a:ext cx="23335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974880" y="4952880"/>
          <a:ext cx="2366640" cy="103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74880" y="4952880"/>
                    <a:ext cx="2366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019840" y="2209680"/>
          <a:ext cx="2833560" cy="103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19840" y="2209680"/>
                    <a:ext cx="283356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5005440" y="2952720"/>
          <a:ext cx="2233440" cy="1030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5440" y="2952720"/>
                    <a:ext cx="223344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5024520" y="3770280"/>
          <a:ext cx="1833480" cy="1030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4520" y="3770280"/>
                    <a:ext cx="18334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5062680" y="4705200"/>
          <a:ext cx="2100240" cy="532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62680" y="4705200"/>
                    <a:ext cx="21002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"/>
          <p:cNvSpPr/>
          <p:nvPr/>
        </p:nvSpPr>
        <p:spPr>
          <a:xfrm>
            <a:off x="4267080" y="5410080"/>
            <a:ext cx="4343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наберите максимальное количество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05120" y="3429000"/>
            <a:ext cx="5486400" cy="156204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342900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371600" y="4952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24480" y="4191120"/>
            <a:ext cx="0" cy="1218960"/>
          </a:xfrm>
          <a:prstGeom prst="line">
            <a:avLst/>
          </a:prstGeom>
          <a:ln w="12600">
            <a:solidFill>
              <a:srgbClr val="0033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33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495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5257800"/>
            <a:ext cx="914400" cy="0"/>
          </a:xfrm>
          <a:prstGeom prst="line">
            <a:avLst/>
          </a:prstGeom>
          <a:ln w="12600">
            <a:solidFill>
              <a:srgbClr val="0033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5477040" y="5313240"/>
          <a:ext cx="78264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7040" y="5313240"/>
                    <a:ext cx="7826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7848720" y="4495680"/>
          <a:ext cx="1003320" cy="39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4495680"/>
                    <a:ext cx="100332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4405320" y="2639880"/>
          <a:ext cx="1846080" cy="39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05320" y="2639880"/>
                    <a:ext cx="1846080" cy="3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Гармоническая функция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4114800" y="838080"/>
          <a:ext cx="411804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838080"/>
                    <a:ext cx="4118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4191120"/>
            <a:ext cx="7924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381880" y="4191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5791320" y="1905120"/>
          <a:ext cx="259056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905120"/>
                    <a:ext cx="25905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"/>
          <p:cNvSpPr/>
          <p:nvPr/>
        </p:nvSpPr>
        <p:spPr>
          <a:xfrm>
            <a:off x="533520" y="3948120"/>
            <a:ext cx="80769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533520" y="4800600"/>
          <a:ext cx="1622160" cy="3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800600"/>
                    <a:ext cx="162216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2286000" y="5029200"/>
          <a:ext cx="1805040" cy="3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029200"/>
                    <a:ext cx="18050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4419720" y="5105520"/>
          <a:ext cx="2538360" cy="68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5105520"/>
                    <a:ext cx="253836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"/>
          <p:cNvGraphicFramePr/>
          <p:nvPr/>
        </p:nvGraphicFramePr>
        <p:xfrm>
          <a:off x="6095880" y="5635800"/>
          <a:ext cx="2878200" cy="688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5635800"/>
                    <a:ext cx="287820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"/>
          <p:cNvSpPr/>
          <p:nvPr/>
        </p:nvSpPr>
        <p:spPr>
          <a:xfrm>
            <a:off x="914400" y="3962520"/>
            <a:ext cx="72691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230480" y="3962520"/>
            <a:ext cx="654192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47920" y="3962520"/>
            <a:ext cx="588780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29528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143000" y="3962520"/>
            <a:ext cx="5888160" cy="457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43000" y="3840120"/>
            <a:ext cx="5888160" cy="65556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43000" y="3787920"/>
            <a:ext cx="5888160" cy="78408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43000" y="3705120"/>
            <a:ext cx="5888160" cy="943200"/>
          </a:xfrm>
          <a:custGeom>
            <a:avLst/>
            <a:gdLst/>
            <a:ahLst/>
            <a:rect l="l" t="t" r="r" b="b"/>
            <a:pathLst>
              <a:path w="3456" h="984">
                <a:moveTo>
                  <a:pt x="0" y="0"/>
                </a:moveTo>
                <a:cubicBezTo>
                  <a:pt x="96" y="480"/>
                  <a:pt x="192" y="960"/>
                  <a:pt x="288" y="960"/>
                </a:cubicBezTo>
                <a:cubicBezTo>
                  <a:pt x="384" y="960"/>
                  <a:pt x="480" y="0"/>
                  <a:pt x="576" y="0"/>
                </a:cubicBezTo>
                <a:cubicBezTo>
                  <a:pt x="672" y="0"/>
                  <a:pt x="768" y="960"/>
                  <a:pt x="864" y="960"/>
                </a:cubicBezTo>
                <a:cubicBezTo>
                  <a:pt x="960" y="960"/>
                  <a:pt x="1048" y="0"/>
                  <a:pt x="1152" y="0"/>
                </a:cubicBezTo>
                <a:cubicBezTo>
                  <a:pt x="1256" y="0"/>
                  <a:pt x="1384" y="960"/>
                  <a:pt x="1488" y="960"/>
                </a:cubicBezTo>
                <a:cubicBezTo>
                  <a:pt x="1592" y="960"/>
                  <a:pt x="1680" y="0"/>
                  <a:pt x="1776" y="0"/>
                </a:cubicBezTo>
                <a:cubicBezTo>
                  <a:pt x="1872" y="0"/>
                  <a:pt x="1968" y="960"/>
                  <a:pt x="2064" y="960"/>
                </a:cubicBezTo>
                <a:cubicBezTo>
                  <a:pt x="2160" y="960"/>
                  <a:pt x="2256" y="0"/>
                  <a:pt x="2352" y="0"/>
                </a:cubicBezTo>
                <a:cubicBezTo>
                  <a:pt x="2448" y="0"/>
                  <a:pt x="2544" y="960"/>
                  <a:pt x="2640" y="960"/>
                </a:cubicBezTo>
                <a:cubicBezTo>
                  <a:pt x="2736" y="960"/>
                  <a:pt x="2832" y="0"/>
                  <a:pt x="2928" y="0"/>
                </a:cubicBezTo>
                <a:cubicBezTo>
                  <a:pt x="3024" y="0"/>
                  <a:pt x="3128" y="936"/>
                  <a:pt x="3216" y="960"/>
                </a:cubicBezTo>
                <a:cubicBezTo>
                  <a:pt x="3304" y="984"/>
                  <a:pt x="3380" y="564"/>
                  <a:pt x="3456" y="144"/>
                </a:cubicBezTo>
              </a:path>
            </a:pathLst>
          </a:custGeom>
          <a:noFill/>
          <a:ln w="2844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762120" y="1828800"/>
            <a:ext cx="4800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9a0000"/>
                </a:solidFill>
                <a:uFillTx/>
                <a:latin typeface="Times New Roman"/>
              </a:rPr>
              <a:t>Что общего межд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90720" y="259092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каче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990720" y="318456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музы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90720" y="3794040"/>
            <a:ext cx="2057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99"/>
                </a:solidFill>
                <a:latin typeface="Times New Roman"/>
              </a:rPr>
              <a:t>и све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505320" y="2590920"/>
            <a:ext cx="53337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a0000"/>
                </a:solidFill>
                <a:latin typeface="Times New Roman"/>
              </a:rPr>
              <a:t>это колебательные процессы, которые описываются с помощью гармонической функ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гад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3733920" y="5105520"/>
          <a:ext cx="411768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5105520"/>
                    <a:ext cx="4117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685800" y="2362320"/>
            <a:ext cx="815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подними качели повыше – измен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t</a:t>
            </a: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(фазу) механически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5800" y="327672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включи полную громкость – увелич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амплитуду) колебаний возд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4146480"/>
            <a:ext cx="80773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добавь красного цвета в палитру – уменьшишь 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k</a:t>
            </a:r>
            <a:r>
              <a:rPr b="1" i="1" lang="ru-RU" sz="2400" spc="-1" strike="noStrike">
                <a:solidFill>
                  <a:srgbClr val="9a0000"/>
                </a:solidFill>
                <a:latin typeface="Times New Roman"/>
              </a:rPr>
              <a:t> (частоту) электромагнитных колеб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959280" y="28954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9280" y="28954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3811680" y="3657600"/>
          <a:ext cx="322416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657600"/>
                    <a:ext cx="32241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886200" y="4495680"/>
          <a:ext cx="2479680" cy="792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4956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911760" y="5227560"/>
          <a:ext cx="242856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11760" y="5227560"/>
                    <a:ext cx="24285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066680" y="167616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вторить правила преобразован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160880" y="2971800"/>
          <a:ext cx="2577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0880" y="2971800"/>
                    <a:ext cx="2577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066680" y="167616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Построить преобразования тригонометрических функци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135320" y="4008600"/>
          <a:ext cx="26290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35320" y="4008600"/>
                    <a:ext cx="2629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Задачи урока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392640" y="2971800"/>
          <a:ext cx="41148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2640" y="2971800"/>
                    <a:ext cx="41148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066680" y="167616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Times New Roman"/>
              </a:rPr>
              <a:t>Изучить гармоническую функцию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514240" y="493884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90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49687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946160" y="3124080"/>
          <a:ext cx="16369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6160" y="3124080"/>
                    <a:ext cx="16369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954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864400" y="838080"/>
          <a:ext cx="29764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4400" y="838080"/>
                    <a:ext cx="29764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4938840"/>
            <a:ext cx="60984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39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50292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743200" y="312408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12408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4992840" y="3124080"/>
          <a:ext cx="16380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92840" y="3124080"/>
                    <a:ext cx="16380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327672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90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505320" y="34164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3416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3429000"/>
            <a:ext cx="266688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33526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67280" y="4114440"/>
            <a:ext cx="0" cy="6094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28195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42670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648320"/>
          <a:ext cx="125568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648320"/>
                    <a:ext cx="125568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11840" y="274320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11840" y="274320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327672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32004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1240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0351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29592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40560" y="838080"/>
          <a:ext cx="322416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0560" y="838080"/>
                    <a:ext cx="32241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35686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4829040"/>
            <a:ext cx="0" cy="6098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403848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48769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830920" y="4440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0920" y="4440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5810400" y="5049720"/>
          <a:ext cx="177480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0" y="5049720"/>
                    <a:ext cx="1774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сдвиг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y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3645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37209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79728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38736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3949560"/>
            <a:ext cx="2667240" cy="138456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50120"/>
            <a:ext cx="767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Преобразование: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113520" y="838080"/>
          <a:ext cx="2479680" cy="7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3520" y="838080"/>
                    <a:ext cx="247968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3048120" y="6324480"/>
            <a:ext cx="5562360" cy="76320"/>
          </a:xfrm>
          <a:prstGeom prst="rect">
            <a:avLst/>
          </a:prstGeom>
          <a:solidFill>
            <a:srgbClr val="9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343400" y="190476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4191120"/>
            <a:ext cx="426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102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3429000"/>
            <a:ext cx="2667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38560" y="3429000"/>
            <a:ext cx="24001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543852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47960" y="3429000"/>
            <a:ext cx="13352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267080" y="449568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383000" y="3297240"/>
          <a:ext cx="12556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3297240"/>
                    <a:ext cx="12556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4648320" y="4668840"/>
          <a:ext cx="1365120" cy="43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668840"/>
                    <a:ext cx="13651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6400800" y="411480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190512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5791320"/>
            <a:ext cx="281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9a0000"/>
                </a:solidFill>
                <a:uFillTx/>
                <a:latin typeface="Times New Roman"/>
              </a:rPr>
              <a:t>сжатие</a:t>
            </a:r>
            <a:r>
              <a:rPr b="0" i="1" lang="ru-RU" sz="2400" spc="-1" strike="noStrike">
                <a:solidFill>
                  <a:srgbClr val="9a0000"/>
                </a:solidFill>
                <a:latin typeface="Times New Roman"/>
              </a:rPr>
              <a:t> по оси </a:t>
            </a:r>
            <a:r>
              <a:rPr b="0" i="1" lang="en-US" sz="2400" spc="-1" strike="noStrike">
                <a:solidFill>
                  <a:srgbClr val="9a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429000"/>
            <a:ext cx="213372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65360" y="3429000"/>
            <a:ext cx="186876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95680" y="3429000"/>
            <a:ext cx="1601640" cy="1384200"/>
          </a:xfrm>
          <a:custGeom>
            <a:avLst/>
            <a:gdLst/>
            <a:ahLst/>
            <a:rect l="l" t="t" r="r" b="b"/>
            <a:pathLst>
              <a:path w="2496" h="1304">
                <a:moveTo>
                  <a:pt x="0" y="1304"/>
                </a:moveTo>
                <a:cubicBezTo>
                  <a:pt x="148" y="756"/>
                  <a:pt x="296" y="208"/>
                  <a:pt x="528" y="104"/>
                </a:cubicBezTo>
                <a:cubicBezTo>
                  <a:pt x="760" y="0"/>
                  <a:pt x="1160" y="640"/>
                  <a:pt x="1392" y="680"/>
                </a:cubicBezTo>
                <a:cubicBezTo>
                  <a:pt x="1624" y="720"/>
                  <a:pt x="1736" y="256"/>
                  <a:pt x="1920" y="344"/>
                </a:cubicBezTo>
                <a:cubicBezTo>
                  <a:pt x="2104" y="432"/>
                  <a:pt x="2400" y="1064"/>
                  <a:pt x="2496" y="1208"/>
                </a:cubicBezTo>
              </a:path>
            </a:pathLst>
          </a:custGeom>
          <a:noFill/>
          <a:ln w="442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4648320"/>
            <a:ext cx="30636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2:26:00Z</dcterms:created>
  <dc:creator>Vladimir</dc:creator>
  <dc:description/>
  <dc:language>en-US</dc:language>
  <cp:lastModifiedBy>Vladimir</cp:lastModifiedBy>
  <dcterms:modified xsi:type="dcterms:W3CDTF">2006-12-11T19:17:17Z</dcterms:modified>
  <cp:revision>46</cp:revision>
  <dc:subject/>
  <dc:title>Преобразование графиков</dc:title>
</cp:coreProperties>
</file>