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10.wmf" ContentType="image/x-wmf"/>
  <Override PartName="/ppt/media/image46.wmf" ContentType="image/x-wmf"/>
  <Override PartName="/ppt/media/image11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00F7-AFF1-4DF5-8563-5993D6EFB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FEDF-2578-4763-9A02-4AF98A939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E24E-6A9B-4BD1-A51F-3757331EE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E9C4-ADAC-4468-AAE9-CD80D737A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99E18-28E0-46FB-8700-A631297B4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BFFEE-1325-4151-81B5-43205C7DE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92D64-B008-44D2-A069-4A3919752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C2ACD-77DE-4898-BCD0-C58BA8F5D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BC271-2963-4586-BE52-1EF36C822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B353F-308B-4A65-BFAE-F84CBA6E8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C4F9A-2095-4B82-8AB2-108BE4FC6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B079-0970-4C5C-8E2B-2EE7E3775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7E11F-726A-4FBE-89FA-4D515E958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EA257-46B0-4025-84F7-AC5B17905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BFE72-8B84-42AF-880A-4F58B3464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DFBF1-3DE1-4A81-A79E-55E56C941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94FB4-70CD-4661-90C0-68F0A61AD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742A-90C6-45C5-BFFA-F0D1574E6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DBB5-E809-4BF7-86E5-A0AF6E5DC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7BF5-D652-4643-8D0A-B1C4A7E79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7441-882D-416D-8214-E960934F3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FA60-2F43-425A-A898-CBEAD3426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74CE-BB8E-48AA-8869-2392E9B02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58EE-27F5-4FF3-9494-FD951DDFD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1FFD2-74B1-4011-A7D1-CC2D28B45963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9E257-729B-445C-8845-C12EEEF18F73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wmf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wmf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9.wmf"/><Relationship Id="rId1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9.wmf"/><Relationship Id="rId1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7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8.wmf"/><Relationship Id="rId1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1.wmf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6.wmf"/><Relationship Id="rId1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531720"/>
            <a:ext cx="76788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Verdana"/>
              </a:rPr>
              <a:t>Преобразование графиков функций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0" y="150120"/>
            <a:ext cx="7678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Verdana"/>
              </a:rPr>
              <a:t>Преобразование: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6113520" y="838080"/>
          <a:ext cx="2479680" cy="79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3520" y="838080"/>
                    <a:ext cx="2479680" cy="7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7" name=""/>
          <p:cNvSpPr/>
          <p:nvPr/>
        </p:nvSpPr>
        <p:spPr>
          <a:xfrm>
            <a:off x="3048120" y="6324480"/>
            <a:ext cx="5562360" cy="76320"/>
          </a:xfrm>
          <a:prstGeom prst="rect">
            <a:avLst/>
          </a:prstGeom>
          <a:solidFill>
            <a:srgbClr val="9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 flipV="1">
            <a:off x="4343400" y="1904760"/>
            <a:ext cx="0" cy="4267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362320" y="4191120"/>
            <a:ext cx="4267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010280" y="1828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&l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124080" y="3429000"/>
            <a:ext cx="266724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040200" y="3429000"/>
            <a:ext cx="290340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5791320" y="4648320"/>
            <a:ext cx="306360" cy="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550960" y="3430440"/>
            <a:ext cx="3926160" cy="138456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743200" y="4587840"/>
            <a:ext cx="30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4383000" y="3297240"/>
          <a:ext cx="1255680" cy="436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83000" y="3297240"/>
                    <a:ext cx="125568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6324480" y="4724280"/>
          <a:ext cx="1365480" cy="436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324480" y="4724280"/>
                    <a:ext cx="136548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6400800" y="4114800"/>
            <a:ext cx="30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886200" y="1905120"/>
            <a:ext cx="30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334120" y="5791320"/>
            <a:ext cx="3047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9a0000"/>
                </a:solidFill>
                <a:uFillTx/>
                <a:latin typeface="Times New Roman"/>
              </a:rPr>
              <a:t>растяжение</a:t>
            </a:r>
            <a:r>
              <a:rPr b="0" i="1" lang="ru-RU" sz="2400" spc="-1" strike="noStrike">
                <a:solidFill>
                  <a:srgbClr val="9a0000"/>
                </a:solidFill>
                <a:latin typeface="Times New Roman"/>
              </a:rPr>
              <a:t> по оси </a:t>
            </a:r>
            <a:r>
              <a:rPr b="0" i="1" lang="en-US" sz="2400" spc="-1" strike="noStrike">
                <a:solidFill>
                  <a:srgbClr val="9a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2819160" y="4648320"/>
            <a:ext cx="306360" cy="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895480" y="3429000"/>
            <a:ext cx="319572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732040" y="3443400"/>
            <a:ext cx="351648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0" y="150120"/>
            <a:ext cx="7678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Verdana"/>
              </a:rPr>
              <a:t>Преобразование: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6138720" y="838080"/>
          <a:ext cx="2430720" cy="79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38720" y="838080"/>
                    <a:ext cx="2430720" cy="7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"/>
          <p:cNvSpPr/>
          <p:nvPr/>
        </p:nvSpPr>
        <p:spPr>
          <a:xfrm>
            <a:off x="3048120" y="6324480"/>
            <a:ext cx="5562360" cy="76320"/>
          </a:xfrm>
          <a:prstGeom prst="rect">
            <a:avLst/>
          </a:prstGeom>
          <a:solidFill>
            <a:srgbClr val="9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4343400" y="1904760"/>
            <a:ext cx="0" cy="4267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362320" y="4191120"/>
            <a:ext cx="4267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7010280" y="1828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124080" y="3429000"/>
            <a:ext cx="266724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124080" y="3352680"/>
            <a:ext cx="2641680" cy="152568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 flipV="1">
            <a:off x="3960720" y="4265640"/>
            <a:ext cx="0" cy="611280"/>
          </a:xfrm>
          <a:prstGeom prst="line">
            <a:avLst/>
          </a:prstGeom>
          <a:ln w="2844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124080" y="2728800"/>
            <a:ext cx="2670120" cy="27720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505320" y="4419720"/>
            <a:ext cx="304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8" name=""/>
          <p:cNvGraphicFramePr/>
          <p:nvPr/>
        </p:nvGraphicFramePr>
        <p:xfrm>
          <a:off x="5450040" y="3525840"/>
          <a:ext cx="1255680" cy="436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50040" y="3525840"/>
                    <a:ext cx="125568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0" name=""/>
          <p:cNvGraphicFramePr/>
          <p:nvPr/>
        </p:nvGraphicFramePr>
        <p:xfrm>
          <a:off x="5888160" y="4897440"/>
          <a:ext cx="1336680" cy="436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9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88160" y="4897440"/>
                    <a:ext cx="133668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2" name=""/>
          <p:cNvSpPr/>
          <p:nvPr/>
        </p:nvSpPr>
        <p:spPr>
          <a:xfrm>
            <a:off x="6400800" y="4114800"/>
            <a:ext cx="30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886200" y="1905120"/>
            <a:ext cx="30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5334120" y="5791320"/>
            <a:ext cx="3047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9a0000"/>
                </a:solidFill>
                <a:uFillTx/>
                <a:latin typeface="Times New Roman"/>
              </a:rPr>
              <a:t>растяжение</a:t>
            </a:r>
            <a:r>
              <a:rPr b="0" i="1" lang="ru-RU" sz="2400" spc="-1" strike="noStrike">
                <a:solidFill>
                  <a:srgbClr val="9a0000"/>
                </a:solidFill>
                <a:latin typeface="Times New Roman"/>
              </a:rPr>
              <a:t> по оси </a:t>
            </a:r>
            <a:r>
              <a:rPr b="0" i="1" lang="en-US" sz="2400" spc="-1" strike="noStrike">
                <a:solidFill>
                  <a:srgbClr val="9a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3124080" y="3276720"/>
            <a:ext cx="2641680" cy="166212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124080" y="3200400"/>
            <a:ext cx="2641680" cy="180324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124080" y="3124080"/>
            <a:ext cx="2641680" cy="194004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124080" y="3048120"/>
            <a:ext cx="2641680" cy="207936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124080" y="2971800"/>
            <a:ext cx="2641680" cy="221616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124080" y="2895480"/>
            <a:ext cx="2641680" cy="235764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124080" y="2819520"/>
            <a:ext cx="2641680" cy="249372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124080" y="2771640"/>
            <a:ext cx="2641680" cy="263376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0" y="150120"/>
            <a:ext cx="7678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Verdana"/>
              </a:rPr>
              <a:t>Преобразование: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6138720" y="838080"/>
          <a:ext cx="2430720" cy="79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38720" y="838080"/>
                    <a:ext cx="2430720" cy="7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6" name=""/>
          <p:cNvSpPr/>
          <p:nvPr/>
        </p:nvSpPr>
        <p:spPr>
          <a:xfrm>
            <a:off x="3048120" y="6324480"/>
            <a:ext cx="5562360" cy="76320"/>
          </a:xfrm>
          <a:prstGeom prst="rect">
            <a:avLst/>
          </a:prstGeom>
          <a:solidFill>
            <a:srgbClr val="9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flipV="1">
            <a:off x="4343400" y="1904760"/>
            <a:ext cx="0" cy="4267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362320" y="4191120"/>
            <a:ext cx="4267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7010280" y="1828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&l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124080" y="3429000"/>
            <a:ext cx="266724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124080" y="3505320"/>
            <a:ext cx="2641680" cy="122076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295280" y="4495680"/>
            <a:ext cx="30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5450040" y="3525840"/>
          <a:ext cx="1255680" cy="436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50040" y="3525840"/>
                    <a:ext cx="125568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5" name=""/>
          <p:cNvGraphicFramePr/>
          <p:nvPr/>
        </p:nvGraphicFramePr>
        <p:xfrm>
          <a:off x="5867280" y="4495680"/>
          <a:ext cx="1336680" cy="436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495680"/>
                    <a:ext cx="133668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7" name=""/>
          <p:cNvSpPr/>
          <p:nvPr/>
        </p:nvSpPr>
        <p:spPr>
          <a:xfrm>
            <a:off x="6400800" y="4114800"/>
            <a:ext cx="30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886200" y="1905120"/>
            <a:ext cx="30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334120" y="5791320"/>
            <a:ext cx="3047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9a0000"/>
                </a:solidFill>
                <a:uFillTx/>
                <a:latin typeface="Times New Roman"/>
              </a:rPr>
              <a:t>сжатие</a:t>
            </a:r>
            <a:r>
              <a:rPr b="0" i="1" lang="ru-RU" sz="2400" spc="-1" strike="noStrike">
                <a:solidFill>
                  <a:srgbClr val="9a0000"/>
                </a:solidFill>
                <a:latin typeface="Times New Roman"/>
              </a:rPr>
              <a:t> по оси </a:t>
            </a:r>
            <a:r>
              <a:rPr b="0" i="1" lang="en-US" sz="2400" spc="-1" strike="noStrike">
                <a:solidFill>
                  <a:srgbClr val="9a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124080" y="3581280"/>
            <a:ext cx="2641680" cy="109692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124080" y="3659040"/>
            <a:ext cx="2641680" cy="98928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124080" y="3693960"/>
            <a:ext cx="2641680" cy="89244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124080" y="3754440"/>
            <a:ext cx="2641680" cy="80316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4" name=""/>
          <p:cNvGrpSpPr/>
          <p:nvPr/>
        </p:nvGrpSpPr>
        <p:grpSpPr>
          <a:xfrm>
            <a:off x="1752480" y="4419720"/>
            <a:ext cx="1800" cy="612360"/>
            <a:chOff x="1752480" y="4419720"/>
            <a:chExt cx="1800" cy="612360"/>
          </a:xfrm>
        </p:grpSpPr>
        <p:sp>
          <p:nvSpPr>
            <p:cNvPr id="425" name=""/>
            <p:cNvSpPr/>
            <p:nvPr/>
          </p:nvSpPr>
          <p:spPr>
            <a:xfrm>
              <a:off x="1754280" y="4419720"/>
              <a:ext cx="0" cy="30636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 flipV="1">
              <a:off x="1752480" y="4725720"/>
              <a:ext cx="0" cy="30636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0" y="150120"/>
            <a:ext cx="7678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Verdana"/>
              </a:rPr>
              <a:t>Свойства функции </a:t>
            </a:r>
            <a:r>
              <a:rPr b="0" i="1" lang="en-US" sz="4000" spc="-1" strike="noStrike">
                <a:solidFill>
                  <a:srgbClr val="003366"/>
                </a:solidFill>
                <a:latin typeface="Verdana"/>
              </a:rPr>
              <a:t>sin(x)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 flipV="1">
            <a:off x="3962520" y="1981080"/>
            <a:ext cx="0" cy="2743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685800" y="3772080"/>
            <a:ext cx="7924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8381880" y="3772080"/>
            <a:ext cx="30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3505320" y="2057400"/>
            <a:ext cx="304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1295280" y="3162240"/>
            <a:ext cx="609624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676520" y="3772080"/>
            <a:ext cx="0" cy="121896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248520" y="3772080"/>
            <a:ext cx="0" cy="121896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505320" y="27655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3505320" y="438156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1676520" y="4838760"/>
            <a:ext cx="4572000" cy="0"/>
          </a:xfrm>
          <a:prstGeom prst="line">
            <a:avLst/>
          </a:prstGeom>
          <a:ln w="12600">
            <a:solidFill>
              <a:srgbClr val="003366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8" name=""/>
          <p:cNvGraphicFramePr/>
          <p:nvPr/>
        </p:nvGraphicFramePr>
        <p:xfrm>
          <a:off x="3657600" y="4915080"/>
          <a:ext cx="722160" cy="34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7600" y="4915080"/>
                    <a:ext cx="722160" cy="34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0" name=""/>
          <p:cNvSpPr/>
          <p:nvPr/>
        </p:nvSpPr>
        <p:spPr>
          <a:xfrm>
            <a:off x="434340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1295280" y="3162240"/>
            <a:ext cx="6096240" cy="1227240"/>
          </a:xfrm>
          <a:custGeom>
            <a:avLst/>
            <a:gdLst/>
            <a:ahLst/>
            <a:rect l="l" t="t" r="r" b="b"/>
            <a:pathLst>
              <a:path w="3840" h="773">
                <a:moveTo>
                  <a:pt x="0" y="192"/>
                </a:moveTo>
                <a:cubicBezTo>
                  <a:pt x="160" y="336"/>
                  <a:pt x="320" y="480"/>
                  <a:pt x="480" y="576"/>
                </a:cubicBezTo>
                <a:cubicBezTo>
                  <a:pt x="640" y="672"/>
                  <a:pt x="800" y="768"/>
                  <a:pt x="960" y="768"/>
                </a:cubicBezTo>
                <a:cubicBezTo>
                  <a:pt x="1120" y="768"/>
                  <a:pt x="1280" y="672"/>
                  <a:pt x="1440" y="576"/>
                </a:cubicBezTo>
                <a:cubicBezTo>
                  <a:pt x="1600" y="480"/>
                  <a:pt x="1760" y="288"/>
                  <a:pt x="1920" y="192"/>
                </a:cubicBezTo>
                <a:cubicBezTo>
                  <a:pt x="2080" y="96"/>
                  <a:pt x="2240" y="0"/>
                  <a:pt x="2400" y="0"/>
                </a:cubicBezTo>
                <a:cubicBezTo>
                  <a:pt x="2560" y="0"/>
                  <a:pt x="2720" y="96"/>
                  <a:pt x="2880" y="192"/>
                </a:cubicBezTo>
                <a:cubicBezTo>
                  <a:pt x="3040" y="288"/>
                  <a:pt x="3224" y="484"/>
                  <a:pt x="3360" y="576"/>
                </a:cubicBezTo>
                <a:cubicBezTo>
                  <a:pt x="3496" y="668"/>
                  <a:pt x="3616" y="709"/>
                  <a:pt x="3696" y="741"/>
                </a:cubicBezTo>
                <a:cubicBezTo>
                  <a:pt x="3776" y="773"/>
                  <a:pt x="3810" y="763"/>
                  <a:pt x="3840" y="768"/>
                </a:cubicBezTo>
              </a:path>
            </a:pathLst>
          </a:custGeom>
          <a:noFill/>
          <a:ln w="284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510552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624852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2428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548640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586728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662940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701028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358128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20040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81952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43828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05740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167652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29528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739152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295280" y="4381560"/>
            <a:ext cx="609624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295280" y="3467160"/>
            <a:ext cx="609624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295280" y="4076640"/>
            <a:ext cx="609624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0" name=""/>
          <p:cNvGraphicFramePr/>
          <p:nvPr/>
        </p:nvGraphicFramePr>
        <p:xfrm>
          <a:off x="7924680" y="4137120"/>
          <a:ext cx="1003320" cy="392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924680" y="4137120"/>
                    <a:ext cx="1003320" cy="39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2" name=""/>
          <p:cNvGraphicFramePr/>
          <p:nvPr/>
        </p:nvGraphicFramePr>
        <p:xfrm>
          <a:off x="4114800" y="2209680"/>
          <a:ext cx="1384200" cy="392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6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14800" y="2209680"/>
                    <a:ext cx="1384200" cy="3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4" name=""/>
          <p:cNvGraphicFramePr/>
          <p:nvPr/>
        </p:nvGraphicFramePr>
        <p:xfrm>
          <a:off x="6095880" y="3809880"/>
          <a:ext cx="200160" cy="270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65" name="" descr=""/>
                  <p:cNvPicPr/>
                  <p:nvPr/>
                </p:nvPicPr>
                <p:blipFill>
                  <a:blip r:embed="rId8">
                    <a:alphaModFix amt="50000"/>
                  </a:blip>
                  <a:stretch/>
                </p:blipFill>
                <p:spPr>
                  <a:xfrm>
                    <a:off x="6095880" y="3809880"/>
                    <a:ext cx="200160" cy="27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6" name=""/>
          <p:cNvGraphicFramePr/>
          <p:nvPr/>
        </p:nvGraphicFramePr>
        <p:xfrm>
          <a:off x="3962520" y="3809880"/>
          <a:ext cx="199800" cy="344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67" name="" descr=""/>
                  <p:cNvPicPr/>
                  <p:nvPr/>
                </p:nvPicPr>
                <p:blipFill>
                  <a:blip r:embed="rId10">
                    <a:alphaModFix amt="50000"/>
                  </a:blip>
                  <a:stretch/>
                </p:blipFill>
                <p:spPr>
                  <a:xfrm>
                    <a:off x="3962520" y="3809880"/>
                    <a:ext cx="199800" cy="34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8" name=""/>
          <p:cNvGraphicFramePr/>
          <p:nvPr/>
        </p:nvGraphicFramePr>
        <p:xfrm>
          <a:off x="1447920" y="3809880"/>
          <a:ext cx="339480" cy="2700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69" name="" descr=""/>
                  <p:cNvPicPr/>
                  <p:nvPr/>
                </p:nvPicPr>
                <p:blipFill>
                  <a:blip r:embed="rId12">
                    <a:alphaModFix amt="50000"/>
                  </a:blip>
                  <a:stretch/>
                </p:blipFill>
                <p:spPr>
                  <a:xfrm>
                    <a:off x="1447920" y="3809880"/>
                    <a:ext cx="339480" cy="27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0" name=""/>
          <p:cNvGraphicFramePr/>
          <p:nvPr/>
        </p:nvGraphicFramePr>
        <p:xfrm>
          <a:off x="5029200" y="3733920"/>
          <a:ext cx="228600" cy="6094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71" name="" descr=""/>
                  <p:cNvPicPr/>
                  <p:nvPr/>
                </p:nvPicPr>
                <p:blipFill>
                  <a:blip r:embed="rId14">
                    <a:alphaModFix amt="50000"/>
                  </a:blip>
                  <a:stretch/>
                </p:blipFill>
                <p:spPr>
                  <a:xfrm>
                    <a:off x="5029200" y="3733920"/>
                    <a:ext cx="22860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2" name=""/>
          <p:cNvGraphicFramePr/>
          <p:nvPr/>
        </p:nvGraphicFramePr>
        <p:xfrm>
          <a:off x="2590920" y="3733920"/>
          <a:ext cx="380880" cy="5331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73" name="" descr=""/>
                  <p:cNvPicPr/>
                  <p:nvPr/>
                </p:nvPicPr>
                <p:blipFill>
                  <a:blip r:embed="rId16">
                    <a:alphaModFix amt="50000"/>
                  </a:blip>
                  <a:stretch/>
                </p:blipFill>
                <p:spPr>
                  <a:xfrm>
                    <a:off x="2590920" y="3733920"/>
                    <a:ext cx="38088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4" name=""/>
          <p:cNvGraphicFramePr/>
          <p:nvPr/>
        </p:nvGraphicFramePr>
        <p:xfrm>
          <a:off x="7238880" y="3733920"/>
          <a:ext cx="343080" cy="6094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475" name="" descr=""/>
                  <p:cNvPicPr/>
                  <p:nvPr/>
                </p:nvPicPr>
                <p:blipFill>
                  <a:blip r:embed="rId18">
                    <a:alphaModFix amt="50000"/>
                  </a:blip>
                  <a:stretch/>
                </p:blipFill>
                <p:spPr>
                  <a:xfrm>
                    <a:off x="7238880" y="3733920"/>
                    <a:ext cx="34308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6" name=""/>
          <p:cNvSpPr/>
          <p:nvPr/>
        </p:nvSpPr>
        <p:spPr>
          <a:xfrm>
            <a:off x="3048120" y="6324480"/>
            <a:ext cx="5562360" cy="76320"/>
          </a:xfrm>
          <a:prstGeom prst="rect">
            <a:avLst/>
          </a:prstGeom>
          <a:solidFill>
            <a:srgbClr val="9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0" y="150120"/>
            <a:ext cx="7678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Verdana"/>
              </a:rPr>
              <a:t>Свойства функции </a:t>
            </a:r>
            <a:r>
              <a:rPr b="0" i="1" lang="en-US" sz="4000" spc="-1" strike="noStrike">
                <a:solidFill>
                  <a:srgbClr val="003366"/>
                </a:solidFill>
                <a:latin typeface="Verdana"/>
              </a:rPr>
              <a:t>cos(x)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78" name=""/>
          <p:cNvSpPr/>
          <p:nvPr/>
        </p:nvSpPr>
        <p:spPr>
          <a:xfrm flipV="1">
            <a:off x="3962520" y="1981080"/>
            <a:ext cx="0" cy="2743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685800" y="3772080"/>
            <a:ext cx="7924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8381880" y="3772080"/>
            <a:ext cx="30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3505320" y="2057400"/>
            <a:ext cx="304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1295280" y="3162240"/>
            <a:ext cx="609624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1676520" y="3772080"/>
            <a:ext cx="0" cy="121896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6248520" y="3772080"/>
            <a:ext cx="0" cy="121896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3505320" y="27655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3505320" y="438156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676520" y="4838760"/>
            <a:ext cx="4572000" cy="0"/>
          </a:xfrm>
          <a:prstGeom prst="line">
            <a:avLst/>
          </a:prstGeom>
          <a:ln w="12600">
            <a:solidFill>
              <a:srgbClr val="003366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8" name=""/>
          <p:cNvGraphicFramePr/>
          <p:nvPr/>
        </p:nvGraphicFramePr>
        <p:xfrm>
          <a:off x="3657600" y="4915080"/>
          <a:ext cx="722160" cy="34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7600" y="4915080"/>
                    <a:ext cx="722160" cy="34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0" name=""/>
          <p:cNvSpPr/>
          <p:nvPr/>
        </p:nvSpPr>
        <p:spPr>
          <a:xfrm>
            <a:off x="434340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 flipH="1">
            <a:off x="1675800" y="3162240"/>
            <a:ext cx="6095880" cy="1227240"/>
          </a:xfrm>
          <a:custGeom>
            <a:avLst/>
            <a:gdLst/>
            <a:ahLst/>
            <a:rect l="l" t="t" r="r" b="b"/>
            <a:pathLst>
              <a:path w="3840" h="773">
                <a:moveTo>
                  <a:pt x="0" y="192"/>
                </a:moveTo>
                <a:cubicBezTo>
                  <a:pt x="160" y="336"/>
                  <a:pt x="320" y="480"/>
                  <a:pt x="480" y="576"/>
                </a:cubicBezTo>
                <a:cubicBezTo>
                  <a:pt x="640" y="672"/>
                  <a:pt x="800" y="768"/>
                  <a:pt x="960" y="768"/>
                </a:cubicBezTo>
                <a:cubicBezTo>
                  <a:pt x="1120" y="768"/>
                  <a:pt x="1280" y="672"/>
                  <a:pt x="1440" y="576"/>
                </a:cubicBezTo>
                <a:cubicBezTo>
                  <a:pt x="1600" y="480"/>
                  <a:pt x="1760" y="288"/>
                  <a:pt x="1920" y="192"/>
                </a:cubicBezTo>
                <a:cubicBezTo>
                  <a:pt x="2080" y="96"/>
                  <a:pt x="2240" y="0"/>
                  <a:pt x="2400" y="0"/>
                </a:cubicBezTo>
                <a:cubicBezTo>
                  <a:pt x="2560" y="0"/>
                  <a:pt x="2720" y="96"/>
                  <a:pt x="2880" y="192"/>
                </a:cubicBezTo>
                <a:cubicBezTo>
                  <a:pt x="3040" y="288"/>
                  <a:pt x="3224" y="484"/>
                  <a:pt x="3360" y="576"/>
                </a:cubicBezTo>
                <a:cubicBezTo>
                  <a:pt x="3496" y="668"/>
                  <a:pt x="3616" y="709"/>
                  <a:pt x="3696" y="741"/>
                </a:cubicBezTo>
                <a:cubicBezTo>
                  <a:pt x="3776" y="773"/>
                  <a:pt x="3810" y="763"/>
                  <a:pt x="3840" y="768"/>
                </a:cubicBezTo>
              </a:path>
            </a:pathLst>
          </a:custGeom>
          <a:noFill/>
          <a:ln w="284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510552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624852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472428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548640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586728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662940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701028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358128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320040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81952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43828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05740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167652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29528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739152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1295280" y="4381560"/>
            <a:ext cx="609624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1295280" y="3467160"/>
            <a:ext cx="609624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1295280" y="4076640"/>
            <a:ext cx="609624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0" name=""/>
          <p:cNvGraphicFramePr/>
          <p:nvPr/>
        </p:nvGraphicFramePr>
        <p:xfrm>
          <a:off x="7924680" y="4137120"/>
          <a:ext cx="1003320" cy="392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924680" y="4137120"/>
                    <a:ext cx="1003320" cy="39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2" name=""/>
          <p:cNvGraphicFramePr/>
          <p:nvPr/>
        </p:nvGraphicFramePr>
        <p:xfrm>
          <a:off x="4114800" y="2209680"/>
          <a:ext cx="1384200" cy="392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1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14800" y="2209680"/>
                    <a:ext cx="1384200" cy="3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4" name=""/>
          <p:cNvGraphicFramePr/>
          <p:nvPr/>
        </p:nvGraphicFramePr>
        <p:xfrm>
          <a:off x="6095880" y="3809880"/>
          <a:ext cx="200160" cy="270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15" name="" descr=""/>
                  <p:cNvPicPr/>
                  <p:nvPr/>
                </p:nvPicPr>
                <p:blipFill>
                  <a:blip r:embed="rId8">
                    <a:alphaModFix amt="50000"/>
                  </a:blip>
                  <a:stretch/>
                </p:blipFill>
                <p:spPr>
                  <a:xfrm>
                    <a:off x="6095880" y="3809880"/>
                    <a:ext cx="200160" cy="27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6" name=""/>
          <p:cNvGraphicFramePr/>
          <p:nvPr/>
        </p:nvGraphicFramePr>
        <p:xfrm>
          <a:off x="3962520" y="3809880"/>
          <a:ext cx="199800" cy="344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10">
                    <a:alphaModFix amt="50000"/>
                  </a:blip>
                  <a:stretch/>
                </p:blipFill>
                <p:spPr>
                  <a:xfrm>
                    <a:off x="3962520" y="3809880"/>
                    <a:ext cx="199800" cy="34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8" name=""/>
          <p:cNvGraphicFramePr/>
          <p:nvPr/>
        </p:nvGraphicFramePr>
        <p:xfrm>
          <a:off x="1447920" y="3809880"/>
          <a:ext cx="339480" cy="2700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19" name="" descr=""/>
                  <p:cNvPicPr/>
                  <p:nvPr/>
                </p:nvPicPr>
                <p:blipFill>
                  <a:blip r:embed="rId12">
                    <a:alphaModFix amt="50000"/>
                  </a:blip>
                  <a:stretch/>
                </p:blipFill>
                <p:spPr>
                  <a:xfrm>
                    <a:off x="1447920" y="3809880"/>
                    <a:ext cx="339480" cy="27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0" name=""/>
          <p:cNvGraphicFramePr/>
          <p:nvPr/>
        </p:nvGraphicFramePr>
        <p:xfrm>
          <a:off x="5029200" y="3733920"/>
          <a:ext cx="228600" cy="6094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14">
                    <a:alphaModFix amt="50000"/>
                  </a:blip>
                  <a:stretch/>
                </p:blipFill>
                <p:spPr>
                  <a:xfrm>
                    <a:off x="5029200" y="3733920"/>
                    <a:ext cx="22860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2" name=""/>
          <p:cNvGraphicFramePr/>
          <p:nvPr/>
        </p:nvGraphicFramePr>
        <p:xfrm>
          <a:off x="2590920" y="3733920"/>
          <a:ext cx="380880" cy="5331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16">
                    <a:alphaModFix amt="50000"/>
                  </a:blip>
                  <a:stretch/>
                </p:blipFill>
                <p:spPr>
                  <a:xfrm>
                    <a:off x="2590920" y="3733920"/>
                    <a:ext cx="38088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4" name=""/>
          <p:cNvGraphicFramePr/>
          <p:nvPr/>
        </p:nvGraphicFramePr>
        <p:xfrm>
          <a:off x="7238880" y="3733920"/>
          <a:ext cx="343080" cy="6094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525" name="" descr=""/>
                  <p:cNvPicPr/>
                  <p:nvPr/>
                </p:nvPicPr>
                <p:blipFill>
                  <a:blip r:embed="rId18">
                    <a:alphaModFix amt="50000"/>
                  </a:blip>
                  <a:stretch/>
                </p:blipFill>
                <p:spPr>
                  <a:xfrm>
                    <a:off x="7238880" y="3733920"/>
                    <a:ext cx="34308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6" name=""/>
          <p:cNvSpPr/>
          <p:nvPr/>
        </p:nvSpPr>
        <p:spPr>
          <a:xfrm>
            <a:off x="3048120" y="6324480"/>
            <a:ext cx="5562360" cy="76320"/>
          </a:xfrm>
          <a:prstGeom prst="rect">
            <a:avLst/>
          </a:prstGeom>
          <a:solidFill>
            <a:srgbClr val="9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143000" y="150120"/>
            <a:ext cx="7678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Verdana"/>
              </a:rPr>
              <a:t>Индивидуальный тренинг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528" name=""/>
          <p:cNvGraphicFramePr/>
          <p:nvPr/>
        </p:nvGraphicFramePr>
        <p:xfrm>
          <a:off x="990720" y="2438280"/>
          <a:ext cx="1633320" cy="53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438280"/>
                    <a:ext cx="1633320" cy="5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0" name=""/>
          <p:cNvSpPr/>
          <p:nvPr/>
        </p:nvSpPr>
        <p:spPr>
          <a:xfrm>
            <a:off x="609480" y="121824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66"/>
                </a:solidFill>
                <a:latin typeface="Times New Roman"/>
              </a:rPr>
              <a:t>Постройте график функции и определите </a:t>
            </a: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D(f), E(f) </a:t>
            </a:r>
            <a:r>
              <a:rPr b="0" i="1" lang="ru-RU" sz="2400" spc="-1" strike="noStrike">
                <a:solidFill>
                  <a:srgbClr val="000066"/>
                </a:solidFill>
                <a:latin typeface="Times New Roman"/>
              </a:rPr>
              <a:t>и </a:t>
            </a: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T</a:t>
            </a:r>
            <a:r>
              <a:rPr b="0" i="1" lang="ru-RU" sz="2400" spc="-1" strike="noStrike">
                <a:solidFill>
                  <a:srgbClr val="000066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3048120" y="6324480"/>
            <a:ext cx="5562360" cy="76320"/>
          </a:xfrm>
          <a:prstGeom prst="rect">
            <a:avLst/>
          </a:prstGeom>
          <a:solidFill>
            <a:srgbClr val="9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990720" y="19040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66"/>
                </a:solidFill>
                <a:uFillTx/>
                <a:latin typeface="Times New Roman"/>
              </a:rPr>
              <a:t>2 </a:t>
            </a:r>
            <a:r>
              <a:rPr b="0" i="1" lang="ru-RU" sz="2400" spc="-1" strike="noStrike" u="sng">
                <a:solidFill>
                  <a:srgbClr val="000066"/>
                </a:solidFill>
                <a:uFillTx/>
                <a:latin typeface="Times New Roman"/>
              </a:rPr>
              <a:t>бал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5486400" y="19040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66"/>
                </a:solidFill>
                <a:uFillTx/>
                <a:latin typeface="Times New Roman"/>
              </a:rPr>
              <a:t>3</a:t>
            </a:r>
            <a:r>
              <a:rPr b="0" i="1" lang="en-US" sz="2400" spc="-1" strike="noStrike" u="sng">
                <a:solidFill>
                  <a:srgbClr val="000066"/>
                </a:solidFill>
                <a:uFillTx/>
                <a:latin typeface="Times New Roman"/>
              </a:rPr>
              <a:t> </a:t>
            </a:r>
            <a:r>
              <a:rPr b="0" i="1" lang="ru-RU" sz="2400" spc="-1" strike="noStrike" u="sng">
                <a:solidFill>
                  <a:srgbClr val="000066"/>
                </a:solidFill>
                <a:uFillTx/>
                <a:latin typeface="Times New Roman"/>
              </a:rPr>
              <a:t>бал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4" name=""/>
          <p:cNvGraphicFramePr/>
          <p:nvPr/>
        </p:nvGraphicFramePr>
        <p:xfrm>
          <a:off x="1011240" y="2971800"/>
          <a:ext cx="1866960" cy="531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11240" y="2971800"/>
                    <a:ext cx="1866960" cy="53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6" name=""/>
          <p:cNvGraphicFramePr/>
          <p:nvPr/>
        </p:nvGraphicFramePr>
        <p:xfrm>
          <a:off x="990720" y="3506760"/>
          <a:ext cx="1633320" cy="531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3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90720" y="3506760"/>
                    <a:ext cx="1633320" cy="53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8" name=""/>
          <p:cNvGraphicFramePr/>
          <p:nvPr/>
        </p:nvGraphicFramePr>
        <p:xfrm>
          <a:off x="990720" y="3921120"/>
          <a:ext cx="2333520" cy="1031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3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90720" y="3921120"/>
                    <a:ext cx="2333520" cy="103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0" name=""/>
          <p:cNvGraphicFramePr/>
          <p:nvPr/>
        </p:nvGraphicFramePr>
        <p:xfrm>
          <a:off x="974880" y="4952880"/>
          <a:ext cx="2366640" cy="1032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4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974880" y="4952880"/>
                    <a:ext cx="2366640" cy="103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2" name=""/>
          <p:cNvGraphicFramePr/>
          <p:nvPr/>
        </p:nvGraphicFramePr>
        <p:xfrm>
          <a:off x="5019840" y="2209680"/>
          <a:ext cx="2833560" cy="10321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4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019840" y="2209680"/>
                    <a:ext cx="2833560" cy="103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4" name=""/>
          <p:cNvGraphicFramePr/>
          <p:nvPr/>
        </p:nvGraphicFramePr>
        <p:xfrm>
          <a:off x="5005440" y="2952720"/>
          <a:ext cx="2233440" cy="10303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4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005440" y="2952720"/>
                    <a:ext cx="2233440" cy="10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6" name=""/>
          <p:cNvGraphicFramePr/>
          <p:nvPr/>
        </p:nvGraphicFramePr>
        <p:xfrm>
          <a:off x="5024520" y="3770280"/>
          <a:ext cx="1833480" cy="10303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54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024520" y="3770280"/>
                    <a:ext cx="1833480" cy="10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8" name=""/>
          <p:cNvGraphicFramePr/>
          <p:nvPr/>
        </p:nvGraphicFramePr>
        <p:xfrm>
          <a:off x="5062680" y="4705200"/>
          <a:ext cx="2100240" cy="5320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54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062680" y="4705200"/>
                    <a:ext cx="2100240" cy="5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0" name=""/>
          <p:cNvSpPr/>
          <p:nvPr/>
        </p:nvSpPr>
        <p:spPr>
          <a:xfrm>
            <a:off x="4267080" y="5410080"/>
            <a:ext cx="43434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a0000"/>
                </a:solidFill>
                <a:latin typeface="Times New Roman"/>
              </a:rPr>
              <a:t>наберите максимальное количество бал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0" y="150120"/>
            <a:ext cx="7678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Verdana"/>
              </a:rPr>
              <a:t>Гармоническая функция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552" name=""/>
          <p:cNvGraphicFramePr/>
          <p:nvPr/>
        </p:nvGraphicFramePr>
        <p:xfrm>
          <a:off x="4114800" y="838080"/>
          <a:ext cx="4118040" cy="79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838080"/>
                    <a:ext cx="4118040" cy="7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4" name=""/>
          <p:cNvSpPr/>
          <p:nvPr/>
        </p:nvSpPr>
        <p:spPr>
          <a:xfrm>
            <a:off x="3048120" y="6324480"/>
            <a:ext cx="5562360" cy="76320"/>
          </a:xfrm>
          <a:prstGeom prst="rect">
            <a:avLst/>
          </a:prstGeom>
          <a:solidFill>
            <a:srgbClr val="9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 flipV="1">
            <a:off x="4343400" y="1904760"/>
            <a:ext cx="0" cy="4267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685800" y="4191120"/>
            <a:ext cx="7924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8381880" y="4191120"/>
            <a:ext cx="30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3886200" y="1905120"/>
            <a:ext cx="30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1905120" y="3429000"/>
            <a:ext cx="5486400" cy="1562040"/>
          </a:xfrm>
          <a:custGeom>
            <a:avLst/>
            <a:gdLst/>
            <a:ahLst/>
            <a:rect l="l" t="t" r="r" b="b"/>
            <a:pathLst>
              <a:path w="3456" h="984">
                <a:moveTo>
                  <a:pt x="0" y="0"/>
                </a:moveTo>
                <a:cubicBezTo>
                  <a:pt x="96" y="480"/>
                  <a:pt x="192" y="960"/>
                  <a:pt x="288" y="960"/>
                </a:cubicBezTo>
                <a:cubicBezTo>
                  <a:pt x="384" y="960"/>
                  <a:pt x="480" y="0"/>
                  <a:pt x="576" y="0"/>
                </a:cubicBezTo>
                <a:cubicBezTo>
                  <a:pt x="672" y="0"/>
                  <a:pt x="768" y="960"/>
                  <a:pt x="864" y="960"/>
                </a:cubicBezTo>
                <a:cubicBezTo>
                  <a:pt x="960" y="960"/>
                  <a:pt x="1048" y="0"/>
                  <a:pt x="1152" y="0"/>
                </a:cubicBezTo>
                <a:cubicBezTo>
                  <a:pt x="1256" y="0"/>
                  <a:pt x="1384" y="960"/>
                  <a:pt x="1488" y="960"/>
                </a:cubicBezTo>
                <a:cubicBezTo>
                  <a:pt x="1592" y="960"/>
                  <a:pt x="1680" y="0"/>
                  <a:pt x="1776" y="0"/>
                </a:cubicBezTo>
                <a:cubicBezTo>
                  <a:pt x="1872" y="0"/>
                  <a:pt x="1968" y="960"/>
                  <a:pt x="2064" y="960"/>
                </a:cubicBezTo>
                <a:cubicBezTo>
                  <a:pt x="2160" y="960"/>
                  <a:pt x="2256" y="0"/>
                  <a:pt x="2352" y="0"/>
                </a:cubicBezTo>
                <a:cubicBezTo>
                  <a:pt x="2448" y="0"/>
                  <a:pt x="2544" y="960"/>
                  <a:pt x="2640" y="960"/>
                </a:cubicBezTo>
                <a:cubicBezTo>
                  <a:pt x="2736" y="960"/>
                  <a:pt x="2832" y="0"/>
                  <a:pt x="2928" y="0"/>
                </a:cubicBezTo>
                <a:cubicBezTo>
                  <a:pt x="3024" y="0"/>
                  <a:pt x="3128" y="936"/>
                  <a:pt x="3216" y="960"/>
                </a:cubicBezTo>
                <a:cubicBezTo>
                  <a:pt x="3304" y="984"/>
                  <a:pt x="3380" y="564"/>
                  <a:pt x="3456" y="144"/>
                </a:cubicBezTo>
              </a:path>
            </a:pathLst>
          </a:custGeom>
          <a:noFill/>
          <a:ln w="284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1219320" y="3429000"/>
            <a:ext cx="70866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1371600" y="4952880"/>
            <a:ext cx="70866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410080" y="4191120"/>
            <a:ext cx="0" cy="121896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324480" y="4191120"/>
            <a:ext cx="0" cy="121896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3733920" y="29718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809880" y="49528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5410080" y="5257800"/>
            <a:ext cx="914400" cy="0"/>
          </a:xfrm>
          <a:prstGeom prst="line">
            <a:avLst/>
          </a:prstGeom>
          <a:ln w="12600">
            <a:solidFill>
              <a:srgbClr val="003366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7" name=""/>
          <p:cNvGraphicFramePr/>
          <p:nvPr/>
        </p:nvGraphicFramePr>
        <p:xfrm>
          <a:off x="5477040" y="5313240"/>
          <a:ext cx="782640" cy="80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77040" y="5313240"/>
                    <a:ext cx="782640" cy="80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9" name=""/>
          <p:cNvGraphicFramePr/>
          <p:nvPr/>
        </p:nvGraphicFramePr>
        <p:xfrm>
          <a:off x="7848720" y="4495680"/>
          <a:ext cx="1003320" cy="392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7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848720" y="4495680"/>
                    <a:ext cx="1003320" cy="3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1" name=""/>
          <p:cNvGraphicFramePr/>
          <p:nvPr/>
        </p:nvGraphicFramePr>
        <p:xfrm>
          <a:off x="4405320" y="2639880"/>
          <a:ext cx="1846080" cy="392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7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405320" y="2639880"/>
                    <a:ext cx="1846080" cy="3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0" y="150120"/>
            <a:ext cx="7678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Verdana"/>
              </a:rPr>
              <a:t>Гармоническая функция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574" name=""/>
          <p:cNvGraphicFramePr/>
          <p:nvPr/>
        </p:nvGraphicFramePr>
        <p:xfrm>
          <a:off x="4114800" y="838080"/>
          <a:ext cx="4118040" cy="79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838080"/>
                    <a:ext cx="4118040" cy="7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6" name=""/>
          <p:cNvSpPr/>
          <p:nvPr/>
        </p:nvSpPr>
        <p:spPr>
          <a:xfrm>
            <a:off x="3048120" y="6324480"/>
            <a:ext cx="5562360" cy="76320"/>
          </a:xfrm>
          <a:prstGeom prst="rect">
            <a:avLst/>
          </a:prstGeom>
          <a:solidFill>
            <a:srgbClr val="9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 flipV="1">
            <a:off x="4343400" y="1904760"/>
            <a:ext cx="0" cy="4267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685800" y="4191120"/>
            <a:ext cx="7924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8381880" y="4191120"/>
            <a:ext cx="30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886200" y="1905120"/>
            <a:ext cx="30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1" name=""/>
          <p:cNvGraphicFramePr/>
          <p:nvPr/>
        </p:nvGraphicFramePr>
        <p:xfrm>
          <a:off x="5791320" y="1905120"/>
          <a:ext cx="2590560" cy="1066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1905120"/>
                    <a:ext cx="259056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3" name=""/>
          <p:cNvSpPr/>
          <p:nvPr/>
        </p:nvSpPr>
        <p:spPr>
          <a:xfrm>
            <a:off x="533520" y="3948120"/>
            <a:ext cx="8076960" cy="457200"/>
          </a:xfrm>
          <a:custGeom>
            <a:avLst/>
            <a:gdLst/>
            <a:ahLst/>
            <a:rect l="l" t="t" r="r" b="b"/>
            <a:pathLst>
              <a:path w="3456" h="984">
                <a:moveTo>
                  <a:pt x="0" y="0"/>
                </a:moveTo>
                <a:cubicBezTo>
                  <a:pt x="96" y="480"/>
                  <a:pt x="192" y="960"/>
                  <a:pt x="288" y="960"/>
                </a:cubicBezTo>
                <a:cubicBezTo>
                  <a:pt x="384" y="960"/>
                  <a:pt x="480" y="0"/>
                  <a:pt x="576" y="0"/>
                </a:cubicBezTo>
                <a:cubicBezTo>
                  <a:pt x="672" y="0"/>
                  <a:pt x="768" y="960"/>
                  <a:pt x="864" y="960"/>
                </a:cubicBezTo>
                <a:cubicBezTo>
                  <a:pt x="960" y="960"/>
                  <a:pt x="1048" y="0"/>
                  <a:pt x="1152" y="0"/>
                </a:cubicBezTo>
                <a:cubicBezTo>
                  <a:pt x="1256" y="0"/>
                  <a:pt x="1384" y="960"/>
                  <a:pt x="1488" y="960"/>
                </a:cubicBezTo>
                <a:cubicBezTo>
                  <a:pt x="1592" y="960"/>
                  <a:pt x="1680" y="0"/>
                  <a:pt x="1776" y="0"/>
                </a:cubicBezTo>
                <a:cubicBezTo>
                  <a:pt x="1872" y="0"/>
                  <a:pt x="1968" y="960"/>
                  <a:pt x="2064" y="960"/>
                </a:cubicBezTo>
                <a:cubicBezTo>
                  <a:pt x="2160" y="960"/>
                  <a:pt x="2256" y="0"/>
                  <a:pt x="2352" y="0"/>
                </a:cubicBezTo>
                <a:cubicBezTo>
                  <a:pt x="2448" y="0"/>
                  <a:pt x="2544" y="960"/>
                  <a:pt x="2640" y="960"/>
                </a:cubicBezTo>
                <a:cubicBezTo>
                  <a:pt x="2736" y="960"/>
                  <a:pt x="2832" y="0"/>
                  <a:pt x="2928" y="0"/>
                </a:cubicBezTo>
                <a:cubicBezTo>
                  <a:pt x="3024" y="0"/>
                  <a:pt x="3128" y="936"/>
                  <a:pt x="3216" y="960"/>
                </a:cubicBezTo>
                <a:cubicBezTo>
                  <a:pt x="3304" y="984"/>
                  <a:pt x="3380" y="564"/>
                  <a:pt x="3456" y="144"/>
                </a:cubicBezTo>
              </a:path>
            </a:pathLst>
          </a:custGeom>
          <a:noFill/>
          <a:ln w="284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4" name=""/>
          <p:cNvGraphicFramePr/>
          <p:nvPr/>
        </p:nvGraphicFramePr>
        <p:xfrm>
          <a:off x="533520" y="4800600"/>
          <a:ext cx="1622160" cy="355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8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3520" y="4800600"/>
                    <a:ext cx="1622160" cy="3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6" name=""/>
          <p:cNvGraphicFramePr/>
          <p:nvPr/>
        </p:nvGraphicFramePr>
        <p:xfrm>
          <a:off x="2286000" y="5029200"/>
          <a:ext cx="1805040" cy="355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8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86000" y="5029200"/>
                    <a:ext cx="1805040" cy="3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8" name=""/>
          <p:cNvGraphicFramePr/>
          <p:nvPr/>
        </p:nvGraphicFramePr>
        <p:xfrm>
          <a:off x="4419720" y="5105520"/>
          <a:ext cx="2538360" cy="688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8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419720" y="5105520"/>
                    <a:ext cx="2538360" cy="68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0" name=""/>
          <p:cNvGraphicFramePr/>
          <p:nvPr/>
        </p:nvGraphicFramePr>
        <p:xfrm>
          <a:off x="6095880" y="5635800"/>
          <a:ext cx="2878200" cy="6886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9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095880" y="5635800"/>
                    <a:ext cx="2878200" cy="68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2" name=""/>
          <p:cNvSpPr/>
          <p:nvPr/>
        </p:nvSpPr>
        <p:spPr>
          <a:xfrm>
            <a:off x="914400" y="3962520"/>
            <a:ext cx="7269120" cy="457200"/>
          </a:xfrm>
          <a:custGeom>
            <a:avLst/>
            <a:gdLst/>
            <a:ahLst/>
            <a:rect l="l" t="t" r="r" b="b"/>
            <a:pathLst>
              <a:path w="3456" h="984">
                <a:moveTo>
                  <a:pt x="0" y="0"/>
                </a:moveTo>
                <a:cubicBezTo>
                  <a:pt x="96" y="480"/>
                  <a:pt x="192" y="960"/>
                  <a:pt x="288" y="960"/>
                </a:cubicBezTo>
                <a:cubicBezTo>
                  <a:pt x="384" y="960"/>
                  <a:pt x="480" y="0"/>
                  <a:pt x="576" y="0"/>
                </a:cubicBezTo>
                <a:cubicBezTo>
                  <a:pt x="672" y="0"/>
                  <a:pt x="768" y="960"/>
                  <a:pt x="864" y="960"/>
                </a:cubicBezTo>
                <a:cubicBezTo>
                  <a:pt x="960" y="960"/>
                  <a:pt x="1048" y="0"/>
                  <a:pt x="1152" y="0"/>
                </a:cubicBezTo>
                <a:cubicBezTo>
                  <a:pt x="1256" y="0"/>
                  <a:pt x="1384" y="960"/>
                  <a:pt x="1488" y="960"/>
                </a:cubicBezTo>
                <a:cubicBezTo>
                  <a:pt x="1592" y="960"/>
                  <a:pt x="1680" y="0"/>
                  <a:pt x="1776" y="0"/>
                </a:cubicBezTo>
                <a:cubicBezTo>
                  <a:pt x="1872" y="0"/>
                  <a:pt x="1968" y="960"/>
                  <a:pt x="2064" y="960"/>
                </a:cubicBezTo>
                <a:cubicBezTo>
                  <a:pt x="2160" y="960"/>
                  <a:pt x="2256" y="0"/>
                  <a:pt x="2352" y="0"/>
                </a:cubicBezTo>
                <a:cubicBezTo>
                  <a:pt x="2448" y="0"/>
                  <a:pt x="2544" y="960"/>
                  <a:pt x="2640" y="960"/>
                </a:cubicBezTo>
                <a:cubicBezTo>
                  <a:pt x="2736" y="960"/>
                  <a:pt x="2832" y="0"/>
                  <a:pt x="2928" y="0"/>
                </a:cubicBezTo>
                <a:cubicBezTo>
                  <a:pt x="3024" y="0"/>
                  <a:pt x="3128" y="936"/>
                  <a:pt x="3216" y="960"/>
                </a:cubicBezTo>
                <a:cubicBezTo>
                  <a:pt x="3304" y="984"/>
                  <a:pt x="3380" y="564"/>
                  <a:pt x="3456" y="144"/>
                </a:cubicBezTo>
              </a:path>
            </a:pathLst>
          </a:custGeom>
          <a:noFill/>
          <a:ln w="284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1230480" y="3962520"/>
            <a:ext cx="6541920" cy="457200"/>
          </a:xfrm>
          <a:custGeom>
            <a:avLst/>
            <a:gdLst/>
            <a:ahLst/>
            <a:rect l="l" t="t" r="r" b="b"/>
            <a:pathLst>
              <a:path w="3456" h="984">
                <a:moveTo>
                  <a:pt x="0" y="0"/>
                </a:moveTo>
                <a:cubicBezTo>
                  <a:pt x="96" y="480"/>
                  <a:pt x="192" y="960"/>
                  <a:pt x="288" y="960"/>
                </a:cubicBezTo>
                <a:cubicBezTo>
                  <a:pt x="384" y="960"/>
                  <a:pt x="480" y="0"/>
                  <a:pt x="576" y="0"/>
                </a:cubicBezTo>
                <a:cubicBezTo>
                  <a:pt x="672" y="0"/>
                  <a:pt x="768" y="960"/>
                  <a:pt x="864" y="960"/>
                </a:cubicBezTo>
                <a:cubicBezTo>
                  <a:pt x="960" y="960"/>
                  <a:pt x="1048" y="0"/>
                  <a:pt x="1152" y="0"/>
                </a:cubicBezTo>
                <a:cubicBezTo>
                  <a:pt x="1256" y="0"/>
                  <a:pt x="1384" y="960"/>
                  <a:pt x="1488" y="960"/>
                </a:cubicBezTo>
                <a:cubicBezTo>
                  <a:pt x="1592" y="960"/>
                  <a:pt x="1680" y="0"/>
                  <a:pt x="1776" y="0"/>
                </a:cubicBezTo>
                <a:cubicBezTo>
                  <a:pt x="1872" y="0"/>
                  <a:pt x="1968" y="960"/>
                  <a:pt x="2064" y="960"/>
                </a:cubicBezTo>
                <a:cubicBezTo>
                  <a:pt x="2160" y="960"/>
                  <a:pt x="2256" y="0"/>
                  <a:pt x="2352" y="0"/>
                </a:cubicBezTo>
                <a:cubicBezTo>
                  <a:pt x="2448" y="0"/>
                  <a:pt x="2544" y="960"/>
                  <a:pt x="2640" y="960"/>
                </a:cubicBezTo>
                <a:cubicBezTo>
                  <a:pt x="2736" y="960"/>
                  <a:pt x="2832" y="0"/>
                  <a:pt x="2928" y="0"/>
                </a:cubicBezTo>
                <a:cubicBezTo>
                  <a:pt x="3024" y="0"/>
                  <a:pt x="3128" y="936"/>
                  <a:pt x="3216" y="960"/>
                </a:cubicBezTo>
                <a:cubicBezTo>
                  <a:pt x="3304" y="984"/>
                  <a:pt x="3380" y="564"/>
                  <a:pt x="3456" y="144"/>
                </a:cubicBezTo>
              </a:path>
            </a:pathLst>
          </a:custGeom>
          <a:noFill/>
          <a:ln w="284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1523880" y="3962520"/>
            <a:ext cx="5888160" cy="457200"/>
          </a:xfrm>
          <a:custGeom>
            <a:avLst/>
            <a:gdLst/>
            <a:ahLst/>
            <a:rect l="l" t="t" r="r" b="b"/>
            <a:pathLst>
              <a:path w="3456" h="984">
                <a:moveTo>
                  <a:pt x="0" y="0"/>
                </a:moveTo>
                <a:cubicBezTo>
                  <a:pt x="96" y="480"/>
                  <a:pt x="192" y="960"/>
                  <a:pt x="288" y="960"/>
                </a:cubicBezTo>
                <a:cubicBezTo>
                  <a:pt x="384" y="960"/>
                  <a:pt x="480" y="0"/>
                  <a:pt x="576" y="0"/>
                </a:cubicBezTo>
                <a:cubicBezTo>
                  <a:pt x="672" y="0"/>
                  <a:pt x="768" y="960"/>
                  <a:pt x="864" y="960"/>
                </a:cubicBezTo>
                <a:cubicBezTo>
                  <a:pt x="960" y="960"/>
                  <a:pt x="1048" y="0"/>
                  <a:pt x="1152" y="0"/>
                </a:cubicBezTo>
                <a:cubicBezTo>
                  <a:pt x="1256" y="0"/>
                  <a:pt x="1384" y="960"/>
                  <a:pt x="1488" y="960"/>
                </a:cubicBezTo>
                <a:cubicBezTo>
                  <a:pt x="1592" y="960"/>
                  <a:pt x="1680" y="0"/>
                  <a:pt x="1776" y="0"/>
                </a:cubicBezTo>
                <a:cubicBezTo>
                  <a:pt x="1872" y="0"/>
                  <a:pt x="1968" y="960"/>
                  <a:pt x="2064" y="960"/>
                </a:cubicBezTo>
                <a:cubicBezTo>
                  <a:pt x="2160" y="960"/>
                  <a:pt x="2256" y="0"/>
                  <a:pt x="2352" y="0"/>
                </a:cubicBezTo>
                <a:cubicBezTo>
                  <a:pt x="2448" y="0"/>
                  <a:pt x="2544" y="960"/>
                  <a:pt x="2640" y="960"/>
                </a:cubicBezTo>
                <a:cubicBezTo>
                  <a:pt x="2736" y="960"/>
                  <a:pt x="2832" y="0"/>
                  <a:pt x="2928" y="0"/>
                </a:cubicBezTo>
                <a:cubicBezTo>
                  <a:pt x="3024" y="0"/>
                  <a:pt x="3128" y="936"/>
                  <a:pt x="3216" y="960"/>
                </a:cubicBezTo>
                <a:cubicBezTo>
                  <a:pt x="3304" y="984"/>
                  <a:pt x="3380" y="564"/>
                  <a:pt x="3456" y="144"/>
                </a:cubicBezTo>
              </a:path>
            </a:pathLst>
          </a:custGeom>
          <a:noFill/>
          <a:ln w="284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1447920" y="3962520"/>
            <a:ext cx="5887800" cy="457200"/>
          </a:xfrm>
          <a:custGeom>
            <a:avLst/>
            <a:gdLst/>
            <a:ahLst/>
            <a:rect l="l" t="t" r="r" b="b"/>
            <a:pathLst>
              <a:path w="3456" h="984">
                <a:moveTo>
                  <a:pt x="0" y="0"/>
                </a:moveTo>
                <a:cubicBezTo>
                  <a:pt x="96" y="480"/>
                  <a:pt x="192" y="960"/>
                  <a:pt x="288" y="960"/>
                </a:cubicBezTo>
                <a:cubicBezTo>
                  <a:pt x="384" y="960"/>
                  <a:pt x="480" y="0"/>
                  <a:pt x="576" y="0"/>
                </a:cubicBezTo>
                <a:cubicBezTo>
                  <a:pt x="672" y="0"/>
                  <a:pt x="768" y="960"/>
                  <a:pt x="864" y="960"/>
                </a:cubicBezTo>
                <a:cubicBezTo>
                  <a:pt x="960" y="960"/>
                  <a:pt x="1048" y="0"/>
                  <a:pt x="1152" y="0"/>
                </a:cubicBezTo>
                <a:cubicBezTo>
                  <a:pt x="1256" y="0"/>
                  <a:pt x="1384" y="960"/>
                  <a:pt x="1488" y="960"/>
                </a:cubicBezTo>
                <a:cubicBezTo>
                  <a:pt x="1592" y="960"/>
                  <a:pt x="1680" y="0"/>
                  <a:pt x="1776" y="0"/>
                </a:cubicBezTo>
                <a:cubicBezTo>
                  <a:pt x="1872" y="0"/>
                  <a:pt x="1968" y="960"/>
                  <a:pt x="2064" y="960"/>
                </a:cubicBezTo>
                <a:cubicBezTo>
                  <a:pt x="2160" y="960"/>
                  <a:pt x="2256" y="0"/>
                  <a:pt x="2352" y="0"/>
                </a:cubicBezTo>
                <a:cubicBezTo>
                  <a:pt x="2448" y="0"/>
                  <a:pt x="2544" y="960"/>
                  <a:pt x="2640" y="960"/>
                </a:cubicBezTo>
                <a:cubicBezTo>
                  <a:pt x="2736" y="960"/>
                  <a:pt x="2832" y="0"/>
                  <a:pt x="2928" y="0"/>
                </a:cubicBezTo>
                <a:cubicBezTo>
                  <a:pt x="3024" y="0"/>
                  <a:pt x="3128" y="936"/>
                  <a:pt x="3216" y="960"/>
                </a:cubicBezTo>
                <a:cubicBezTo>
                  <a:pt x="3304" y="984"/>
                  <a:pt x="3380" y="564"/>
                  <a:pt x="3456" y="144"/>
                </a:cubicBezTo>
              </a:path>
            </a:pathLst>
          </a:custGeom>
          <a:noFill/>
          <a:ln w="284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1295280" y="3962520"/>
            <a:ext cx="5888160" cy="457200"/>
          </a:xfrm>
          <a:custGeom>
            <a:avLst/>
            <a:gdLst/>
            <a:ahLst/>
            <a:rect l="l" t="t" r="r" b="b"/>
            <a:pathLst>
              <a:path w="3456" h="984">
                <a:moveTo>
                  <a:pt x="0" y="0"/>
                </a:moveTo>
                <a:cubicBezTo>
                  <a:pt x="96" y="480"/>
                  <a:pt x="192" y="960"/>
                  <a:pt x="288" y="960"/>
                </a:cubicBezTo>
                <a:cubicBezTo>
                  <a:pt x="384" y="960"/>
                  <a:pt x="480" y="0"/>
                  <a:pt x="576" y="0"/>
                </a:cubicBezTo>
                <a:cubicBezTo>
                  <a:pt x="672" y="0"/>
                  <a:pt x="768" y="960"/>
                  <a:pt x="864" y="960"/>
                </a:cubicBezTo>
                <a:cubicBezTo>
                  <a:pt x="960" y="960"/>
                  <a:pt x="1048" y="0"/>
                  <a:pt x="1152" y="0"/>
                </a:cubicBezTo>
                <a:cubicBezTo>
                  <a:pt x="1256" y="0"/>
                  <a:pt x="1384" y="960"/>
                  <a:pt x="1488" y="960"/>
                </a:cubicBezTo>
                <a:cubicBezTo>
                  <a:pt x="1592" y="960"/>
                  <a:pt x="1680" y="0"/>
                  <a:pt x="1776" y="0"/>
                </a:cubicBezTo>
                <a:cubicBezTo>
                  <a:pt x="1872" y="0"/>
                  <a:pt x="1968" y="960"/>
                  <a:pt x="2064" y="960"/>
                </a:cubicBezTo>
                <a:cubicBezTo>
                  <a:pt x="2160" y="960"/>
                  <a:pt x="2256" y="0"/>
                  <a:pt x="2352" y="0"/>
                </a:cubicBezTo>
                <a:cubicBezTo>
                  <a:pt x="2448" y="0"/>
                  <a:pt x="2544" y="960"/>
                  <a:pt x="2640" y="960"/>
                </a:cubicBezTo>
                <a:cubicBezTo>
                  <a:pt x="2736" y="960"/>
                  <a:pt x="2832" y="0"/>
                  <a:pt x="2928" y="0"/>
                </a:cubicBezTo>
                <a:cubicBezTo>
                  <a:pt x="3024" y="0"/>
                  <a:pt x="3128" y="936"/>
                  <a:pt x="3216" y="960"/>
                </a:cubicBezTo>
                <a:cubicBezTo>
                  <a:pt x="3304" y="984"/>
                  <a:pt x="3380" y="564"/>
                  <a:pt x="3456" y="144"/>
                </a:cubicBezTo>
              </a:path>
            </a:pathLst>
          </a:custGeom>
          <a:noFill/>
          <a:ln w="284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1143000" y="3962520"/>
            <a:ext cx="5888160" cy="457200"/>
          </a:xfrm>
          <a:custGeom>
            <a:avLst/>
            <a:gdLst/>
            <a:ahLst/>
            <a:rect l="l" t="t" r="r" b="b"/>
            <a:pathLst>
              <a:path w="3456" h="984">
                <a:moveTo>
                  <a:pt x="0" y="0"/>
                </a:moveTo>
                <a:cubicBezTo>
                  <a:pt x="96" y="480"/>
                  <a:pt x="192" y="960"/>
                  <a:pt x="288" y="960"/>
                </a:cubicBezTo>
                <a:cubicBezTo>
                  <a:pt x="384" y="960"/>
                  <a:pt x="480" y="0"/>
                  <a:pt x="576" y="0"/>
                </a:cubicBezTo>
                <a:cubicBezTo>
                  <a:pt x="672" y="0"/>
                  <a:pt x="768" y="960"/>
                  <a:pt x="864" y="960"/>
                </a:cubicBezTo>
                <a:cubicBezTo>
                  <a:pt x="960" y="960"/>
                  <a:pt x="1048" y="0"/>
                  <a:pt x="1152" y="0"/>
                </a:cubicBezTo>
                <a:cubicBezTo>
                  <a:pt x="1256" y="0"/>
                  <a:pt x="1384" y="960"/>
                  <a:pt x="1488" y="960"/>
                </a:cubicBezTo>
                <a:cubicBezTo>
                  <a:pt x="1592" y="960"/>
                  <a:pt x="1680" y="0"/>
                  <a:pt x="1776" y="0"/>
                </a:cubicBezTo>
                <a:cubicBezTo>
                  <a:pt x="1872" y="0"/>
                  <a:pt x="1968" y="960"/>
                  <a:pt x="2064" y="960"/>
                </a:cubicBezTo>
                <a:cubicBezTo>
                  <a:pt x="2160" y="960"/>
                  <a:pt x="2256" y="0"/>
                  <a:pt x="2352" y="0"/>
                </a:cubicBezTo>
                <a:cubicBezTo>
                  <a:pt x="2448" y="0"/>
                  <a:pt x="2544" y="960"/>
                  <a:pt x="2640" y="960"/>
                </a:cubicBezTo>
                <a:cubicBezTo>
                  <a:pt x="2736" y="960"/>
                  <a:pt x="2832" y="0"/>
                  <a:pt x="2928" y="0"/>
                </a:cubicBezTo>
                <a:cubicBezTo>
                  <a:pt x="3024" y="0"/>
                  <a:pt x="3128" y="936"/>
                  <a:pt x="3216" y="960"/>
                </a:cubicBezTo>
                <a:cubicBezTo>
                  <a:pt x="3304" y="984"/>
                  <a:pt x="3380" y="564"/>
                  <a:pt x="3456" y="144"/>
                </a:cubicBezTo>
              </a:path>
            </a:pathLst>
          </a:custGeom>
          <a:noFill/>
          <a:ln w="284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1143000" y="3840120"/>
            <a:ext cx="5888160" cy="655560"/>
          </a:xfrm>
          <a:custGeom>
            <a:avLst/>
            <a:gdLst/>
            <a:ahLst/>
            <a:rect l="l" t="t" r="r" b="b"/>
            <a:pathLst>
              <a:path w="3456" h="984">
                <a:moveTo>
                  <a:pt x="0" y="0"/>
                </a:moveTo>
                <a:cubicBezTo>
                  <a:pt x="96" y="480"/>
                  <a:pt x="192" y="960"/>
                  <a:pt x="288" y="960"/>
                </a:cubicBezTo>
                <a:cubicBezTo>
                  <a:pt x="384" y="960"/>
                  <a:pt x="480" y="0"/>
                  <a:pt x="576" y="0"/>
                </a:cubicBezTo>
                <a:cubicBezTo>
                  <a:pt x="672" y="0"/>
                  <a:pt x="768" y="960"/>
                  <a:pt x="864" y="960"/>
                </a:cubicBezTo>
                <a:cubicBezTo>
                  <a:pt x="960" y="960"/>
                  <a:pt x="1048" y="0"/>
                  <a:pt x="1152" y="0"/>
                </a:cubicBezTo>
                <a:cubicBezTo>
                  <a:pt x="1256" y="0"/>
                  <a:pt x="1384" y="960"/>
                  <a:pt x="1488" y="960"/>
                </a:cubicBezTo>
                <a:cubicBezTo>
                  <a:pt x="1592" y="960"/>
                  <a:pt x="1680" y="0"/>
                  <a:pt x="1776" y="0"/>
                </a:cubicBezTo>
                <a:cubicBezTo>
                  <a:pt x="1872" y="0"/>
                  <a:pt x="1968" y="960"/>
                  <a:pt x="2064" y="960"/>
                </a:cubicBezTo>
                <a:cubicBezTo>
                  <a:pt x="2160" y="960"/>
                  <a:pt x="2256" y="0"/>
                  <a:pt x="2352" y="0"/>
                </a:cubicBezTo>
                <a:cubicBezTo>
                  <a:pt x="2448" y="0"/>
                  <a:pt x="2544" y="960"/>
                  <a:pt x="2640" y="960"/>
                </a:cubicBezTo>
                <a:cubicBezTo>
                  <a:pt x="2736" y="960"/>
                  <a:pt x="2832" y="0"/>
                  <a:pt x="2928" y="0"/>
                </a:cubicBezTo>
                <a:cubicBezTo>
                  <a:pt x="3024" y="0"/>
                  <a:pt x="3128" y="936"/>
                  <a:pt x="3216" y="960"/>
                </a:cubicBezTo>
                <a:cubicBezTo>
                  <a:pt x="3304" y="984"/>
                  <a:pt x="3380" y="564"/>
                  <a:pt x="3456" y="144"/>
                </a:cubicBezTo>
              </a:path>
            </a:pathLst>
          </a:custGeom>
          <a:noFill/>
          <a:ln w="284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1143000" y="3787920"/>
            <a:ext cx="5888160" cy="784080"/>
          </a:xfrm>
          <a:custGeom>
            <a:avLst/>
            <a:gdLst/>
            <a:ahLst/>
            <a:rect l="l" t="t" r="r" b="b"/>
            <a:pathLst>
              <a:path w="3456" h="984">
                <a:moveTo>
                  <a:pt x="0" y="0"/>
                </a:moveTo>
                <a:cubicBezTo>
                  <a:pt x="96" y="480"/>
                  <a:pt x="192" y="960"/>
                  <a:pt x="288" y="960"/>
                </a:cubicBezTo>
                <a:cubicBezTo>
                  <a:pt x="384" y="960"/>
                  <a:pt x="480" y="0"/>
                  <a:pt x="576" y="0"/>
                </a:cubicBezTo>
                <a:cubicBezTo>
                  <a:pt x="672" y="0"/>
                  <a:pt x="768" y="960"/>
                  <a:pt x="864" y="960"/>
                </a:cubicBezTo>
                <a:cubicBezTo>
                  <a:pt x="960" y="960"/>
                  <a:pt x="1048" y="0"/>
                  <a:pt x="1152" y="0"/>
                </a:cubicBezTo>
                <a:cubicBezTo>
                  <a:pt x="1256" y="0"/>
                  <a:pt x="1384" y="960"/>
                  <a:pt x="1488" y="960"/>
                </a:cubicBezTo>
                <a:cubicBezTo>
                  <a:pt x="1592" y="960"/>
                  <a:pt x="1680" y="0"/>
                  <a:pt x="1776" y="0"/>
                </a:cubicBezTo>
                <a:cubicBezTo>
                  <a:pt x="1872" y="0"/>
                  <a:pt x="1968" y="960"/>
                  <a:pt x="2064" y="960"/>
                </a:cubicBezTo>
                <a:cubicBezTo>
                  <a:pt x="2160" y="960"/>
                  <a:pt x="2256" y="0"/>
                  <a:pt x="2352" y="0"/>
                </a:cubicBezTo>
                <a:cubicBezTo>
                  <a:pt x="2448" y="0"/>
                  <a:pt x="2544" y="960"/>
                  <a:pt x="2640" y="960"/>
                </a:cubicBezTo>
                <a:cubicBezTo>
                  <a:pt x="2736" y="960"/>
                  <a:pt x="2832" y="0"/>
                  <a:pt x="2928" y="0"/>
                </a:cubicBezTo>
                <a:cubicBezTo>
                  <a:pt x="3024" y="0"/>
                  <a:pt x="3128" y="936"/>
                  <a:pt x="3216" y="960"/>
                </a:cubicBezTo>
                <a:cubicBezTo>
                  <a:pt x="3304" y="984"/>
                  <a:pt x="3380" y="564"/>
                  <a:pt x="3456" y="144"/>
                </a:cubicBezTo>
              </a:path>
            </a:pathLst>
          </a:custGeom>
          <a:noFill/>
          <a:ln w="284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1143000" y="3705120"/>
            <a:ext cx="5888160" cy="943200"/>
          </a:xfrm>
          <a:custGeom>
            <a:avLst/>
            <a:gdLst/>
            <a:ahLst/>
            <a:rect l="l" t="t" r="r" b="b"/>
            <a:pathLst>
              <a:path w="3456" h="984">
                <a:moveTo>
                  <a:pt x="0" y="0"/>
                </a:moveTo>
                <a:cubicBezTo>
                  <a:pt x="96" y="480"/>
                  <a:pt x="192" y="960"/>
                  <a:pt x="288" y="960"/>
                </a:cubicBezTo>
                <a:cubicBezTo>
                  <a:pt x="384" y="960"/>
                  <a:pt x="480" y="0"/>
                  <a:pt x="576" y="0"/>
                </a:cubicBezTo>
                <a:cubicBezTo>
                  <a:pt x="672" y="0"/>
                  <a:pt x="768" y="960"/>
                  <a:pt x="864" y="960"/>
                </a:cubicBezTo>
                <a:cubicBezTo>
                  <a:pt x="960" y="960"/>
                  <a:pt x="1048" y="0"/>
                  <a:pt x="1152" y="0"/>
                </a:cubicBezTo>
                <a:cubicBezTo>
                  <a:pt x="1256" y="0"/>
                  <a:pt x="1384" y="960"/>
                  <a:pt x="1488" y="960"/>
                </a:cubicBezTo>
                <a:cubicBezTo>
                  <a:pt x="1592" y="960"/>
                  <a:pt x="1680" y="0"/>
                  <a:pt x="1776" y="0"/>
                </a:cubicBezTo>
                <a:cubicBezTo>
                  <a:pt x="1872" y="0"/>
                  <a:pt x="1968" y="960"/>
                  <a:pt x="2064" y="960"/>
                </a:cubicBezTo>
                <a:cubicBezTo>
                  <a:pt x="2160" y="960"/>
                  <a:pt x="2256" y="0"/>
                  <a:pt x="2352" y="0"/>
                </a:cubicBezTo>
                <a:cubicBezTo>
                  <a:pt x="2448" y="0"/>
                  <a:pt x="2544" y="960"/>
                  <a:pt x="2640" y="960"/>
                </a:cubicBezTo>
                <a:cubicBezTo>
                  <a:pt x="2736" y="960"/>
                  <a:pt x="2832" y="0"/>
                  <a:pt x="2928" y="0"/>
                </a:cubicBezTo>
                <a:cubicBezTo>
                  <a:pt x="3024" y="0"/>
                  <a:pt x="3128" y="936"/>
                  <a:pt x="3216" y="960"/>
                </a:cubicBezTo>
                <a:cubicBezTo>
                  <a:pt x="3304" y="984"/>
                  <a:pt x="3380" y="564"/>
                  <a:pt x="3456" y="144"/>
                </a:cubicBezTo>
              </a:path>
            </a:pathLst>
          </a:custGeom>
          <a:noFill/>
          <a:ln w="284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0" y="150120"/>
            <a:ext cx="7678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Verdana"/>
              </a:rPr>
              <a:t>Загадка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602" name=""/>
          <p:cNvGraphicFramePr/>
          <p:nvPr/>
        </p:nvGraphicFramePr>
        <p:xfrm>
          <a:off x="3733920" y="5105520"/>
          <a:ext cx="4117680" cy="79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33920" y="5105520"/>
                    <a:ext cx="4117680" cy="7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4" name=""/>
          <p:cNvSpPr/>
          <p:nvPr/>
        </p:nvSpPr>
        <p:spPr>
          <a:xfrm>
            <a:off x="762120" y="1828800"/>
            <a:ext cx="48006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9a0000"/>
                </a:solidFill>
                <a:uFillTx/>
                <a:latin typeface="Times New Roman"/>
              </a:rPr>
              <a:t>Что общего между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990720" y="2590920"/>
            <a:ext cx="20574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3399"/>
                </a:solidFill>
                <a:latin typeface="Times New Roman"/>
              </a:rPr>
              <a:t>качеля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990720" y="3184560"/>
            <a:ext cx="20574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3399"/>
                </a:solidFill>
                <a:latin typeface="Times New Roman"/>
              </a:rPr>
              <a:t>музык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990720" y="3794040"/>
            <a:ext cx="20574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3399"/>
                </a:solidFill>
                <a:latin typeface="Times New Roman"/>
              </a:rPr>
              <a:t>и свет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505320" y="2590920"/>
            <a:ext cx="5333760" cy="21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a0000"/>
                </a:solidFill>
                <a:latin typeface="Times New Roman"/>
              </a:rPr>
              <a:t>это колебательные процессы, которые описываются с помощью гармонической функци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3048120" y="6324480"/>
            <a:ext cx="5562360" cy="76320"/>
          </a:xfrm>
          <a:prstGeom prst="rect">
            <a:avLst/>
          </a:prstGeom>
          <a:solidFill>
            <a:srgbClr val="9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0" y="150120"/>
            <a:ext cx="7678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Verdana"/>
              </a:rPr>
              <a:t>Загадка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611" name=""/>
          <p:cNvGraphicFramePr/>
          <p:nvPr/>
        </p:nvGraphicFramePr>
        <p:xfrm>
          <a:off x="3733920" y="5105520"/>
          <a:ext cx="4117680" cy="79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33920" y="5105520"/>
                    <a:ext cx="4117680" cy="7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3" name=""/>
          <p:cNvSpPr/>
          <p:nvPr/>
        </p:nvSpPr>
        <p:spPr>
          <a:xfrm>
            <a:off x="685800" y="2362320"/>
            <a:ext cx="815328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a0000"/>
                </a:solidFill>
                <a:latin typeface="Times New Roman"/>
              </a:rPr>
              <a:t>подними качели повыше – изменишь </a:t>
            </a:r>
            <a:r>
              <a:rPr b="1" i="1" lang="en-US" sz="3200" spc="-1" strike="noStrike">
                <a:solidFill>
                  <a:srgbClr val="003399"/>
                </a:solidFill>
                <a:latin typeface="Times New Roman"/>
              </a:rPr>
              <a:t>t</a:t>
            </a:r>
            <a:r>
              <a:rPr b="1" i="1" lang="ru-RU" sz="32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9a0000"/>
                </a:solidFill>
                <a:latin typeface="Times New Roman"/>
              </a:rPr>
              <a:t>(фазу) механических колеба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3048120" y="6324480"/>
            <a:ext cx="5562360" cy="76320"/>
          </a:xfrm>
          <a:prstGeom prst="rect">
            <a:avLst/>
          </a:prstGeom>
          <a:solidFill>
            <a:srgbClr val="9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685800" y="3276720"/>
            <a:ext cx="807732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a0000"/>
                </a:solidFill>
                <a:latin typeface="Times New Roman"/>
              </a:rPr>
              <a:t>включи полную громкость – увеличишь </a:t>
            </a:r>
            <a:r>
              <a:rPr b="1" i="1" lang="en-US" sz="3200" spc="-1" strike="noStrike">
                <a:solidFill>
                  <a:srgbClr val="003399"/>
                </a:solidFill>
                <a:latin typeface="Times New Roman"/>
              </a:rPr>
              <a:t>a</a:t>
            </a:r>
            <a:r>
              <a:rPr b="1" i="1" lang="ru-RU" sz="2400" spc="-1" strike="noStrike">
                <a:solidFill>
                  <a:srgbClr val="9a0000"/>
                </a:solidFill>
                <a:latin typeface="Times New Roman"/>
              </a:rPr>
              <a:t> (амплитуду) колебаний воздух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685800" y="4146480"/>
            <a:ext cx="807732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a0000"/>
                </a:solidFill>
                <a:latin typeface="Times New Roman"/>
              </a:rPr>
              <a:t>добавь красного цвета в палитру – уменьшишь </a:t>
            </a:r>
            <a:r>
              <a:rPr b="1" i="1" lang="en-US" sz="3200" spc="-1" strike="noStrike">
                <a:solidFill>
                  <a:srgbClr val="003399"/>
                </a:solidFill>
                <a:latin typeface="Times New Roman"/>
              </a:rPr>
              <a:t>k</a:t>
            </a:r>
            <a:r>
              <a:rPr b="1" i="1" lang="ru-RU" sz="2400" spc="-1" strike="noStrike">
                <a:solidFill>
                  <a:srgbClr val="9a0000"/>
                </a:solidFill>
                <a:latin typeface="Times New Roman"/>
              </a:rPr>
              <a:t> (частоту) электромагнитных колеба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0" y="150120"/>
            <a:ext cx="7678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Verdana"/>
              </a:rPr>
              <a:t>Задачи урока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3959280" y="2895480"/>
          <a:ext cx="2976480" cy="79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9280" y="2895480"/>
                    <a:ext cx="2976480" cy="7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3811680" y="3657600"/>
          <a:ext cx="3224160" cy="79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11680" y="3657600"/>
                    <a:ext cx="3224160" cy="7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6" name=""/>
          <p:cNvGraphicFramePr/>
          <p:nvPr/>
        </p:nvGraphicFramePr>
        <p:xfrm>
          <a:off x="3886200" y="4495680"/>
          <a:ext cx="2479680" cy="792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86200" y="4495680"/>
                    <a:ext cx="2479680" cy="7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8" name=""/>
          <p:cNvGraphicFramePr/>
          <p:nvPr/>
        </p:nvGraphicFramePr>
        <p:xfrm>
          <a:off x="3911760" y="5227560"/>
          <a:ext cx="2428560" cy="792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911760" y="5227560"/>
                    <a:ext cx="2428560" cy="7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"/>
          <p:cNvSpPr/>
          <p:nvPr/>
        </p:nvSpPr>
        <p:spPr>
          <a:xfrm>
            <a:off x="1066680" y="1676160"/>
            <a:ext cx="6019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66"/>
                </a:solidFill>
                <a:latin typeface="Times New Roman"/>
              </a:rPr>
              <a:t>Повторить правила преобразовани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048120" y="6324480"/>
            <a:ext cx="5562360" cy="76320"/>
          </a:xfrm>
          <a:prstGeom prst="rect">
            <a:avLst/>
          </a:prstGeom>
          <a:solidFill>
            <a:srgbClr val="9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0" y="150120"/>
            <a:ext cx="7678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Verdana"/>
              </a:rPr>
              <a:t>Задачи урока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4160880" y="2971800"/>
          <a:ext cx="2577960" cy="79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60880" y="2971800"/>
                    <a:ext cx="2577960" cy="7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5" name=""/>
          <p:cNvSpPr/>
          <p:nvPr/>
        </p:nvSpPr>
        <p:spPr>
          <a:xfrm>
            <a:off x="1066680" y="1676160"/>
            <a:ext cx="647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66"/>
                </a:solidFill>
                <a:latin typeface="Times New Roman"/>
              </a:rPr>
              <a:t>Построить преобразования тригонометрических функци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048120" y="6324480"/>
            <a:ext cx="5562360" cy="76320"/>
          </a:xfrm>
          <a:prstGeom prst="rect">
            <a:avLst/>
          </a:prstGeom>
          <a:solidFill>
            <a:srgbClr val="9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4135320" y="4008600"/>
          <a:ext cx="2629080" cy="79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35320" y="4008600"/>
                    <a:ext cx="2629080" cy="7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150120"/>
            <a:ext cx="7678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Verdana"/>
              </a:rPr>
              <a:t>Задачи урока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3392640" y="2971800"/>
          <a:ext cx="4114800" cy="79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92640" y="2971800"/>
                    <a:ext cx="4114800" cy="7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2" name=""/>
          <p:cNvSpPr/>
          <p:nvPr/>
        </p:nvSpPr>
        <p:spPr>
          <a:xfrm>
            <a:off x="1066680" y="1676160"/>
            <a:ext cx="624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66"/>
                </a:solidFill>
                <a:latin typeface="Times New Roman"/>
              </a:rPr>
              <a:t>Изучить гармоническую функцию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048120" y="6324480"/>
            <a:ext cx="5562360" cy="76320"/>
          </a:xfrm>
          <a:prstGeom prst="rect">
            <a:avLst/>
          </a:prstGeom>
          <a:solidFill>
            <a:srgbClr val="9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0" y="150120"/>
            <a:ext cx="7678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Verdana"/>
              </a:rPr>
              <a:t>Преобразование: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5864400" y="838080"/>
          <a:ext cx="2976480" cy="79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4400" y="838080"/>
                    <a:ext cx="2976480" cy="7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"/>
          <p:cNvSpPr/>
          <p:nvPr/>
        </p:nvSpPr>
        <p:spPr>
          <a:xfrm>
            <a:off x="3048120" y="6324480"/>
            <a:ext cx="5562360" cy="76320"/>
          </a:xfrm>
          <a:prstGeom prst="rect">
            <a:avLst/>
          </a:prstGeom>
          <a:solidFill>
            <a:srgbClr val="9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343400" y="1904760"/>
            <a:ext cx="0" cy="4267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362320" y="4191120"/>
            <a:ext cx="4267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010280" y="1828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124080" y="3429000"/>
            <a:ext cx="266724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048120" y="3429000"/>
            <a:ext cx="266688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2514240" y="4938840"/>
            <a:ext cx="609480" cy="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590920" y="3429000"/>
            <a:ext cx="266688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666880" y="4968720"/>
            <a:ext cx="30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4383000" y="3297240"/>
          <a:ext cx="1255680" cy="436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83000" y="3297240"/>
                    <a:ext cx="125568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1946160" y="3124080"/>
          <a:ext cx="1636920" cy="436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46160" y="3124080"/>
                    <a:ext cx="163692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0" name=""/>
          <p:cNvSpPr/>
          <p:nvPr/>
        </p:nvSpPr>
        <p:spPr>
          <a:xfrm>
            <a:off x="6400800" y="4114800"/>
            <a:ext cx="30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86200" y="1905120"/>
            <a:ext cx="30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562720" y="5791320"/>
            <a:ext cx="28191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a0000"/>
                </a:solidFill>
                <a:latin typeface="Times New Roman"/>
              </a:rPr>
              <a:t>сдвиг по оси </a:t>
            </a:r>
            <a:r>
              <a:rPr b="0" i="1" lang="en-US" sz="2400" spc="-1" strike="noStrike">
                <a:solidFill>
                  <a:srgbClr val="9a0000"/>
                </a:solidFill>
                <a:latin typeface="Times New Roman"/>
              </a:rPr>
              <a:t>x</a:t>
            </a:r>
            <a:r>
              <a:rPr b="0" i="1" lang="ru-RU" sz="2400" spc="-1" strike="noStrike">
                <a:solidFill>
                  <a:srgbClr val="9a0000"/>
                </a:solidFill>
                <a:latin typeface="Times New Roman"/>
              </a:rPr>
              <a:t> </a:t>
            </a:r>
            <a:r>
              <a:rPr b="1" i="1" lang="ru-RU" sz="2400" spc="-1" strike="noStrike" u="sng">
                <a:solidFill>
                  <a:srgbClr val="9a0000"/>
                </a:solidFill>
                <a:uFillTx/>
                <a:latin typeface="Times New Roman"/>
              </a:rPr>
              <a:t>вле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971800" y="3429000"/>
            <a:ext cx="266688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895480" y="3429000"/>
            <a:ext cx="266724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819520" y="3429000"/>
            <a:ext cx="266688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743200" y="3429000"/>
            <a:ext cx="266688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666880" y="3429000"/>
            <a:ext cx="266724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0" y="150120"/>
            <a:ext cx="7678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Verdana"/>
              </a:rPr>
              <a:t>Преобразование: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5864400" y="838080"/>
          <a:ext cx="2976480" cy="79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4400" y="838080"/>
                    <a:ext cx="2976480" cy="7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1" name=""/>
          <p:cNvSpPr/>
          <p:nvPr/>
        </p:nvSpPr>
        <p:spPr>
          <a:xfrm>
            <a:off x="3048120" y="6324480"/>
            <a:ext cx="5562360" cy="76320"/>
          </a:xfrm>
          <a:prstGeom prst="rect">
            <a:avLst/>
          </a:prstGeom>
          <a:solidFill>
            <a:srgbClr val="9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4343400" y="1904760"/>
            <a:ext cx="0" cy="4267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362320" y="4191120"/>
            <a:ext cx="4267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7010280" y="1828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124080" y="3429000"/>
            <a:ext cx="266724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200400" y="3429000"/>
            <a:ext cx="266688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124080" y="4938840"/>
            <a:ext cx="609840" cy="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733920" y="3429000"/>
            <a:ext cx="266688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124080" y="5029200"/>
            <a:ext cx="30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2743200" y="3124080"/>
          <a:ext cx="1255680" cy="436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43200" y="3124080"/>
                    <a:ext cx="125568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2" name=""/>
          <p:cNvGraphicFramePr/>
          <p:nvPr/>
        </p:nvGraphicFramePr>
        <p:xfrm>
          <a:off x="4992840" y="3124080"/>
          <a:ext cx="1638000" cy="436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992840" y="3124080"/>
                    <a:ext cx="163800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"/>
          <p:cNvSpPr/>
          <p:nvPr/>
        </p:nvSpPr>
        <p:spPr>
          <a:xfrm>
            <a:off x="3276720" y="3429000"/>
            <a:ext cx="266688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352680" y="3416400"/>
            <a:ext cx="266724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429000" y="3429000"/>
            <a:ext cx="266688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505320" y="3416400"/>
            <a:ext cx="266688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581280" y="3416400"/>
            <a:ext cx="266724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657600" y="3429000"/>
            <a:ext cx="266688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400800" y="4114800"/>
            <a:ext cx="30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886200" y="1905120"/>
            <a:ext cx="30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5791320"/>
            <a:ext cx="28191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a0000"/>
                </a:solidFill>
                <a:latin typeface="Times New Roman"/>
              </a:rPr>
              <a:t>сдвиг по оси </a:t>
            </a:r>
            <a:r>
              <a:rPr b="0" i="1" lang="en-US" sz="2400" spc="-1" strike="noStrike">
                <a:solidFill>
                  <a:srgbClr val="9a0000"/>
                </a:solidFill>
                <a:latin typeface="Times New Roman"/>
              </a:rPr>
              <a:t>x</a:t>
            </a:r>
            <a:r>
              <a:rPr b="0" i="1" lang="ru-RU" sz="2400" spc="-1" strike="noStrike">
                <a:solidFill>
                  <a:srgbClr val="9a0000"/>
                </a:solidFill>
                <a:latin typeface="Times New Roman"/>
              </a:rPr>
              <a:t> </a:t>
            </a:r>
            <a:r>
              <a:rPr b="1" i="1" lang="ru-RU" sz="2400" spc="-1" strike="noStrike" u="sng">
                <a:solidFill>
                  <a:srgbClr val="9a0000"/>
                </a:solidFill>
                <a:uFillTx/>
                <a:latin typeface="Times New Roman"/>
              </a:rPr>
              <a:t>впра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0" y="150120"/>
            <a:ext cx="7678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Verdana"/>
              </a:rPr>
              <a:t>Преобразование: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5740560" y="838080"/>
          <a:ext cx="3224160" cy="79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40560" y="838080"/>
                    <a:ext cx="3224160" cy="7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6" name=""/>
          <p:cNvSpPr/>
          <p:nvPr/>
        </p:nvSpPr>
        <p:spPr>
          <a:xfrm>
            <a:off x="3048120" y="6324480"/>
            <a:ext cx="5562360" cy="76320"/>
          </a:xfrm>
          <a:prstGeom prst="rect">
            <a:avLst/>
          </a:prstGeom>
          <a:solidFill>
            <a:srgbClr val="9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4343400" y="1904760"/>
            <a:ext cx="0" cy="4267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362320" y="4191120"/>
            <a:ext cx="4267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7010280" y="1828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124080" y="3429000"/>
            <a:ext cx="266724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124080" y="3352680"/>
            <a:ext cx="2667240" cy="138456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5867280" y="4114440"/>
            <a:ext cx="0" cy="60948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124080" y="2819520"/>
            <a:ext cx="266724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943600" y="4267080"/>
            <a:ext cx="30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5334120" y="4648320"/>
          <a:ext cx="1255680" cy="436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4120" y="4648320"/>
                    <a:ext cx="1255680" cy="43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7" name=""/>
          <p:cNvGraphicFramePr/>
          <p:nvPr/>
        </p:nvGraphicFramePr>
        <p:xfrm>
          <a:off x="4911840" y="2743200"/>
          <a:ext cx="1774800" cy="436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911840" y="2743200"/>
                    <a:ext cx="177480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" name=""/>
          <p:cNvSpPr/>
          <p:nvPr/>
        </p:nvSpPr>
        <p:spPr>
          <a:xfrm>
            <a:off x="6400800" y="4114800"/>
            <a:ext cx="30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86200" y="1905120"/>
            <a:ext cx="30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5791320"/>
            <a:ext cx="28191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a0000"/>
                </a:solidFill>
                <a:latin typeface="Times New Roman"/>
              </a:rPr>
              <a:t>сдвиг по оси </a:t>
            </a:r>
            <a:r>
              <a:rPr b="0" i="1" lang="en-US" sz="2400" spc="-1" strike="noStrike">
                <a:solidFill>
                  <a:srgbClr val="9a0000"/>
                </a:solidFill>
                <a:latin typeface="Times New Roman"/>
              </a:rPr>
              <a:t>y</a:t>
            </a:r>
            <a:r>
              <a:rPr b="0" i="1" lang="ru-RU" sz="2400" spc="-1" strike="noStrike">
                <a:solidFill>
                  <a:srgbClr val="9a0000"/>
                </a:solidFill>
                <a:latin typeface="Times New Roman"/>
              </a:rPr>
              <a:t> </a:t>
            </a:r>
            <a:r>
              <a:rPr b="1" i="1" lang="ru-RU" sz="2400" spc="-1" strike="noStrike" u="sng">
                <a:solidFill>
                  <a:srgbClr val="9a0000"/>
                </a:solidFill>
                <a:uFillTx/>
                <a:latin typeface="Times New Roman"/>
              </a:rPr>
              <a:t>ввер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124080" y="3276720"/>
            <a:ext cx="266724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124080" y="3200400"/>
            <a:ext cx="266724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124080" y="3124080"/>
            <a:ext cx="2667240" cy="138456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124080" y="3035160"/>
            <a:ext cx="2667240" cy="138456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124080" y="2959200"/>
            <a:ext cx="266724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0" y="150120"/>
            <a:ext cx="7678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Verdana"/>
              </a:rPr>
              <a:t>Преобразование: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5740560" y="838080"/>
          <a:ext cx="3224160" cy="79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40560" y="838080"/>
                    <a:ext cx="3224160" cy="7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0" name=""/>
          <p:cNvSpPr/>
          <p:nvPr/>
        </p:nvSpPr>
        <p:spPr>
          <a:xfrm>
            <a:off x="3048120" y="6324480"/>
            <a:ext cx="5562360" cy="76320"/>
          </a:xfrm>
          <a:prstGeom prst="rect">
            <a:avLst/>
          </a:prstGeom>
          <a:solidFill>
            <a:srgbClr val="9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V="1">
            <a:off x="4343400" y="1904760"/>
            <a:ext cx="0" cy="4267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362320" y="4191120"/>
            <a:ext cx="4267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7010280" y="1828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3429000"/>
            <a:ext cx="266724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124080" y="3568680"/>
            <a:ext cx="266724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048120" y="4829040"/>
            <a:ext cx="0" cy="60984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124080" y="4038480"/>
            <a:ext cx="2667240" cy="138456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666880" y="4876920"/>
            <a:ext cx="30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9" name=""/>
          <p:cNvGraphicFramePr/>
          <p:nvPr/>
        </p:nvGraphicFramePr>
        <p:xfrm>
          <a:off x="5830920" y="4440240"/>
          <a:ext cx="1255680" cy="436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30920" y="4440240"/>
                    <a:ext cx="125568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1" name=""/>
          <p:cNvGraphicFramePr/>
          <p:nvPr/>
        </p:nvGraphicFramePr>
        <p:xfrm>
          <a:off x="5810400" y="5049720"/>
          <a:ext cx="1774800" cy="436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2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10400" y="5049720"/>
                    <a:ext cx="177480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3" name=""/>
          <p:cNvSpPr/>
          <p:nvPr/>
        </p:nvSpPr>
        <p:spPr>
          <a:xfrm>
            <a:off x="6400800" y="4114800"/>
            <a:ext cx="30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86200" y="1905120"/>
            <a:ext cx="30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562720" y="5791320"/>
            <a:ext cx="28191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a0000"/>
                </a:solidFill>
                <a:latin typeface="Times New Roman"/>
              </a:rPr>
              <a:t>сдвиг по оси </a:t>
            </a:r>
            <a:r>
              <a:rPr b="0" i="1" lang="en-US" sz="2400" spc="-1" strike="noStrike">
                <a:solidFill>
                  <a:srgbClr val="9a0000"/>
                </a:solidFill>
                <a:latin typeface="Times New Roman"/>
              </a:rPr>
              <a:t>y</a:t>
            </a:r>
            <a:r>
              <a:rPr b="0" i="1" lang="ru-RU" sz="2400" spc="-1" strike="noStrike">
                <a:solidFill>
                  <a:srgbClr val="9a0000"/>
                </a:solidFill>
                <a:latin typeface="Times New Roman"/>
              </a:rPr>
              <a:t> </a:t>
            </a:r>
            <a:r>
              <a:rPr b="1" i="1" lang="ru-RU" sz="2400" spc="-1" strike="noStrike" u="sng">
                <a:solidFill>
                  <a:srgbClr val="9a0000"/>
                </a:solidFill>
                <a:uFillTx/>
                <a:latin typeface="Times New Roman"/>
              </a:rPr>
              <a:t>вни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24080" y="3645000"/>
            <a:ext cx="266724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124080" y="3720960"/>
            <a:ext cx="2667240" cy="138456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24080" y="3797280"/>
            <a:ext cx="266724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124080" y="3873600"/>
            <a:ext cx="266724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124080" y="3949560"/>
            <a:ext cx="2667240" cy="138456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0" y="150120"/>
            <a:ext cx="7678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Verdana"/>
              </a:rPr>
              <a:t>Преобразование: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6113520" y="838080"/>
          <a:ext cx="2479680" cy="79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3520" y="838080"/>
                    <a:ext cx="2479680" cy="7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4" name=""/>
          <p:cNvSpPr/>
          <p:nvPr/>
        </p:nvSpPr>
        <p:spPr>
          <a:xfrm>
            <a:off x="3048120" y="6324480"/>
            <a:ext cx="5562360" cy="76320"/>
          </a:xfrm>
          <a:prstGeom prst="rect">
            <a:avLst/>
          </a:prstGeom>
          <a:solidFill>
            <a:srgbClr val="9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4343400" y="1904760"/>
            <a:ext cx="0" cy="4267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362320" y="4191120"/>
            <a:ext cx="4267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010280" y="1828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124080" y="3429000"/>
            <a:ext cx="266724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238560" y="3429000"/>
            <a:ext cx="240012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flipH="1">
            <a:off x="5438520" y="4648320"/>
            <a:ext cx="306360" cy="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747960" y="3429000"/>
            <a:ext cx="133524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267080" y="4495680"/>
            <a:ext cx="30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4383000" y="3297240"/>
          <a:ext cx="1255680" cy="436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83000" y="3297240"/>
                    <a:ext cx="125568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4648320" y="4668840"/>
          <a:ext cx="1365120" cy="436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48320" y="4668840"/>
                    <a:ext cx="136512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6400800" y="4114800"/>
            <a:ext cx="30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886200" y="1905120"/>
            <a:ext cx="30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562720" y="5791320"/>
            <a:ext cx="28191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9a0000"/>
                </a:solidFill>
                <a:uFillTx/>
                <a:latin typeface="Times New Roman"/>
              </a:rPr>
              <a:t>сжатие</a:t>
            </a:r>
            <a:r>
              <a:rPr b="0" i="1" lang="ru-RU" sz="2400" spc="-1" strike="noStrike">
                <a:solidFill>
                  <a:srgbClr val="9a0000"/>
                </a:solidFill>
                <a:latin typeface="Times New Roman"/>
              </a:rPr>
              <a:t> по оси </a:t>
            </a:r>
            <a:r>
              <a:rPr b="0" i="1" lang="en-US" sz="2400" spc="-1" strike="noStrike">
                <a:solidFill>
                  <a:srgbClr val="9a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352680" y="3429000"/>
            <a:ext cx="213372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465360" y="3429000"/>
            <a:ext cx="186876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595680" y="3429000"/>
            <a:ext cx="160164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200400" y="4648320"/>
            <a:ext cx="306360" cy="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7T22:26:00Z</dcterms:created>
  <dc:creator>Vladimir</dc:creator>
  <dc:description/>
  <dc:language>en-US</dc:language>
  <cp:lastModifiedBy>Vladimir</cp:lastModifiedBy>
  <dcterms:modified xsi:type="dcterms:W3CDTF">2006-12-11T19:17:17Z</dcterms:modified>
  <cp:revision>46</cp:revision>
  <dc:subject/>
  <dc:title>Преобразование графиков</dc:title>
</cp:coreProperties>
</file>