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46.wmf" ContentType="image/x-wmf"/>
  <Override PartName="/ppt/media/image11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3AC6-9B14-47FB-BBFE-7CF0E9A7E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013D-1840-482D-958E-38AFC1B7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A75D-3738-4481-9A72-40272E44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B15E-C603-4550-BB3B-D1E06386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3091-3007-44A5-A801-B3E5B7711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19A4-048D-43D5-ACDD-96A45311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BFC8-7E60-42AA-AEB8-28770E14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088D-0064-4264-994B-70A4624D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FA0F-D72E-41DF-8C07-F54BD8AD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68A5-3C51-42C9-BA17-DD3A7336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2DDD-7F73-4240-9E3E-FE71A947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BC80-2213-46E4-9F3A-DC1C0E2A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9535-E8FD-4E30-AACA-5515650C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B7E4-8F76-4636-87BD-67CCE3D6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A637-ABCF-47D6-AB56-ACE87598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7094-B6AB-4E2D-99C4-59F8F938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AADB-E1EE-438D-8008-C732EF9B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69EF-7DBB-4A2B-8369-E21F62B4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1047-4A06-4848-AAD0-54D7ACAA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14FA-703E-4C62-9C48-79851657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C78C-E0EF-4C86-AA26-B762B794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646A-8451-48C9-A774-1868F8AB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EDDA-A29E-4586-8379-0D365230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DE1C-7C54-48CF-95A5-D5B2AFBA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B021-DD19-4F3B-B53E-7E8C80259700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9CD3-41EA-4A51-B2D7-4BEFDBCADC4E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9.wmf"/><Relationship Id="rId1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9.wmf"/><Relationship Id="rId1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8.wmf"/><Relationship Id="rId1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678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 графиков функций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6113520" y="838080"/>
          <a:ext cx="24796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3520" y="838080"/>
                    <a:ext cx="24796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40200" y="3429000"/>
            <a:ext cx="290340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791320" y="4648320"/>
            <a:ext cx="30636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550960" y="3430440"/>
            <a:ext cx="392616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743200" y="458784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4383000" y="32972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3000" y="32972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6324480" y="4724280"/>
          <a:ext cx="136548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4724280"/>
                    <a:ext cx="13654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34120" y="5791320"/>
            <a:ext cx="30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растяжение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819160" y="4648320"/>
            <a:ext cx="30636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895480" y="3429000"/>
            <a:ext cx="319572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732040" y="3443400"/>
            <a:ext cx="35164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138720" y="838080"/>
          <a:ext cx="243072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38720" y="838080"/>
                    <a:ext cx="243072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4080" y="3352680"/>
            <a:ext cx="2641680" cy="152568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960720" y="4265640"/>
            <a:ext cx="0" cy="611280"/>
          </a:xfrm>
          <a:prstGeom prst="line">
            <a:avLst/>
          </a:prstGeom>
          <a:ln w="2844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124080" y="2728800"/>
            <a:ext cx="2670120" cy="27720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505320" y="4419720"/>
            <a:ext cx="30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5450040" y="35258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50040" y="35258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5888160" y="4897440"/>
          <a:ext cx="133668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8160" y="4897440"/>
                    <a:ext cx="1336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334120" y="5791320"/>
            <a:ext cx="30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растяжение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124080" y="3276720"/>
            <a:ext cx="2641680" cy="166212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24080" y="3200400"/>
            <a:ext cx="2641680" cy="180324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3124080"/>
            <a:ext cx="2641680" cy="194004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124080" y="3048120"/>
            <a:ext cx="2641680" cy="20793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124080" y="2971800"/>
            <a:ext cx="2641680" cy="22161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124080" y="2895480"/>
            <a:ext cx="2641680" cy="235764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24080" y="2819520"/>
            <a:ext cx="2641680" cy="249372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124080" y="2771640"/>
            <a:ext cx="2641680" cy="26337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6138720" y="838080"/>
          <a:ext cx="243072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38720" y="838080"/>
                    <a:ext cx="243072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124080" y="3505320"/>
            <a:ext cx="2641680" cy="12207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295280" y="44956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5450040" y="35258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50040" y="35258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5867280" y="4495680"/>
          <a:ext cx="133668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495680"/>
                    <a:ext cx="1336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34120" y="5791320"/>
            <a:ext cx="30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сжатие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3581280"/>
            <a:ext cx="2641680" cy="109692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3659040"/>
            <a:ext cx="2641680" cy="98928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124080" y="3693960"/>
            <a:ext cx="2641680" cy="89244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124080" y="3754440"/>
            <a:ext cx="2641680" cy="8031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1752480" y="4419720"/>
            <a:ext cx="1800" cy="612360"/>
            <a:chOff x="1752480" y="4419720"/>
            <a:chExt cx="1800" cy="612360"/>
          </a:xfrm>
        </p:grpSpPr>
        <p:sp>
          <p:nvSpPr>
            <p:cNvPr id="425" name=""/>
            <p:cNvSpPr/>
            <p:nvPr/>
          </p:nvSpPr>
          <p:spPr>
            <a:xfrm>
              <a:off x="1754280" y="4419720"/>
              <a:ext cx="0" cy="3063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1752480" y="4725720"/>
              <a:ext cx="0" cy="3063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Свойства функции </a:t>
            </a:r>
            <a:r>
              <a:rPr b="0" i="1" lang="en-US" sz="4000" spc="-1" strike="noStrike">
                <a:solidFill>
                  <a:srgbClr val="003366"/>
                </a:solidFill>
                <a:latin typeface="Verdana"/>
              </a:rPr>
              <a:t>sin(x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3962520" y="198108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3772080"/>
            <a:ext cx="7924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381880" y="37720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505320" y="2057400"/>
            <a:ext cx="30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295280" y="316224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676520" y="377208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248520" y="377208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505320" y="2765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505320" y="43815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4838760"/>
            <a:ext cx="4572000" cy="0"/>
          </a:xfrm>
          <a:prstGeom prst="line">
            <a:avLst/>
          </a:prstGeom>
          <a:ln w="12600">
            <a:solidFill>
              <a:srgbClr val="0033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657600" y="4915080"/>
          <a:ext cx="72216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915080"/>
                    <a:ext cx="7221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"/>
          <p:cNvSpPr/>
          <p:nvPr/>
        </p:nvSpPr>
        <p:spPr>
          <a:xfrm>
            <a:off x="4343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295280" y="3162240"/>
            <a:ext cx="6096240" cy="1227240"/>
          </a:xfrm>
          <a:custGeom>
            <a:avLst/>
            <a:gdLst/>
            <a:ahLst/>
            <a:rect l="l" t="t" r="r" b="b"/>
            <a:pathLst>
              <a:path w="3840" h="773">
                <a:moveTo>
                  <a:pt x="0" y="192"/>
                </a:moveTo>
                <a:cubicBezTo>
                  <a:pt x="160" y="336"/>
                  <a:pt x="320" y="480"/>
                  <a:pt x="480" y="576"/>
                </a:cubicBezTo>
                <a:cubicBezTo>
                  <a:pt x="640" y="672"/>
                  <a:pt x="800" y="768"/>
                  <a:pt x="960" y="768"/>
                </a:cubicBezTo>
                <a:cubicBezTo>
                  <a:pt x="1120" y="768"/>
                  <a:pt x="1280" y="672"/>
                  <a:pt x="1440" y="576"/>
                </a:cubicBezTo>
                <a:cubicBezTo>
                  <a:pt x="1600" y="480"/>
                  <a:pt x="1760" y="288"/>
                  <a:pt x="1920" y="192"/>
                </a:cubicBezTo>
                <a:cubicBezTo>
                  <a:pt x="2080" y="96"/>
                  <a:pt x="2240" y="0"/>
                  <a:pt x="2400" y="0"/>
                </a:cubicBezTo>
                <a:cubicBezTo>
                  <a:pt x="2560" y="0"/>
                  <a:pt x="2720" y="96"/>
                  <a:pt x="2880" y="192"/>
                </a:cubicBezTo>
                <a:cubicBezTo>
                  <a:pt x="3040" y="288"/>
                  <a:pt x="3224" y="484"/>
                  <a:pt x="3360" y="576"/>
                </a:cubicBezTo>
                <a:cubicBezTo>
                  <a:pt x="3496" y="668"/>
                  <a:pt x="3616" y="709"/>
                  <a:pt x="3696" y="741"/>
                </a:cubicBezTo>
                <a:cubicBezTo>
                  <a:pt x="3776" y="773"/>
                  <a:pt x="3810" y="763"/>
                  <a:pt x="3840" y="768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105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248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24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486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867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010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81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00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057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76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295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391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295280" y="438156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95280" y="346716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95280" y="407664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7924680" y="4137120"/>
          <a:ext cx="100332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4680" y="4137120"/>
                    <a:ext cx="10033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4114800" y="2209680"/>
          <a:ext cx="1384200" cy="39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2209680"/>
                    <a:ext cx="138420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"/>
          <p:cNvGraphicFramePr/>
          <p:nvPr/>
        </p:nvGraphicFramePr>
        <p:xfrm>
          <a:off x="6095880" y="3809880"/>
          <a:ext cx="200160" cy="270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8">
                    <a:alphaModFix amt="50000"/>
                  </a:blip>
                  <a:stretch/>
                </p:blipFill>
                <p:spPr>
                  <a:xfrm>
                    <a:off x="6095880" y="3809880"/>
                    <a:ext cx="20016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3962520" y="3809880"/>
          <a:ext cx="199800" cy="34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10">
                    <a:alphaModFix amt="50000"/>
                  </a:blip>
                  <a:stretch/>
                </p:blipFill>
                <p:spPr>
                  <a:xfrm>
                    <a:off x="3962520" y="3809880"/>
                    <a:ext cx="1998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1447920" y="3809880"/>
          <a:ext cx="339480" cy="270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12">
                    <a:alphaModFix amt="50000"/>
                  </a:blip>
                  <a:stretch/>
                </p:blipFill>
                <p:spPr>
                  <a:xfrm>
                    <a:off x="1447920" y="3809880"/>
                    <a:ext cx="33948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5029200" y="3733920"/>
          <a:ext cx="228600" cy="60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14">
                    <a:alphaModFix amt="50000"/>
                  </a:blip>
                  <a:stretch/>
                </p:blipFill>
                <p:spPr>
                  <a:xfrm>
                    <a:off x="5029200" y="3733920"/>
                    <a:ext cx="228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2590920" y="3733920"/>
          <a:ext cx="380880" cy="533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16">
                    <a:alphaModFix amt="50000"/>
                  </a:blip>
                  <a:stretch/>
                </p:blipFill>
                <p:spPr>
                  <a:xfrm>
                    <a:off x="2590920" y="3733920"/>
                    <a:ext cx="3808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7238880" y="3733920"/>
          <a:ext cx="34308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18">
                    <a:alphaModFix amt="50000"/>
                  </a:blip>
                  <a:stretch/>
                </p:blipFill>
                <p:spPr>
                  <a:xfrm>
                    <a:off x="7238880" y="3733920"/>
                    <a:ext cx="3430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Свойства функции </a:t>
            </a:r>
            <a:r>
              <a:rPr b="0" i="1" lang="en-US" sz="4000" spc="-1" strike="noStrike">
                <a:solidFill>
                  <a:srgbClr val="003366"/>
                </a:solidFill>
                <a:latin typeface="Verdana"/>
              </a:rPr>
              <a:t>cos(x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3962520" y="198108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85800" y="3772080"/>
            <a:ext cx="7924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381880" y="37720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505320" y="2057400"/>
            <a:ext cx="30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295280" y="316224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676520" y="377208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248520" y="377208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505320" y="2765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05320" y="43815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676520" y="4838760"/>
            <a:ext cx="4572000" cy="0"/>
          </a:xfrm>
          <a:prstGeom prst="line">
            <a:avLst/>
          </a:prstGeom>
          <a:ln w="12600">
            <a:solidFill>
              <a:srgbClr val="0033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3657600" y="4915080"/>
          <a:ext cx="72216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915080"/>
                    <a:ext cx="7221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"/>
          <p:cNvSpPr/>
          <p:nvPr/>
        </p:nvSpPr>
        <p:spPr>
          <a:xfrm>
            <a:off x="4343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675800" y="3162240"/>
            <a:ext cx="6095880" cy="1227240"/>
          </a:xfrm>
          <a:custGeom>
            <a:avLst/>
            <a:gdLst/>
            <a:ahLst/>
            <a:rect l="l" t="t" r="r" b="b"/>
            <a:pathLst>
              <a:path w="3840" h="773">
                <a:moveTo>
                  <a:pt x="0" y="192"/>
                </a:moveTo>
                <a:cubicBezTo>
                  <a:pt x="160" y="336"/>
                  <a:pt x="320" y="480"/>
                  <a:pt x="480" y="576"/>
                </a:cubicBezTo>
                <a:cubicBezTo>
                  <a:pt x="640" y="672"/>
                  <a:pt x="800" y="768"/>
                  <a:pt x="960" y="768"/>
                </a:cubicBezTo>
                <a:cubicBezTo>
                  <a:pt x="1120" y="768"/>
                  <a:pt x="1280" y="672"/>
                  <a:pt x="1440" y="576"/>
                </a:cubicBezTo>
                <a:cubicBezTo>
                  <a:pt x="1600" y="480"/>
                  <a:pt x="1760" y="288"/>
                  <a:pt x="1920" y="192"/>
                </a:cubicBezTo>
                <a:cubicBezTo>
                  <a:pt x="2080" y="96"/>
                  <a:pt x="2240" y="0"/>
                  <a:pt x="2400" y="0"/>
                </a:cubicBezTo>
                <a:cubicBezTo>
                  <a:pt x="2560" y="0"/>
                  <a:pt x="2720" y="96"/>
                  <a:pt x="2880" y="192"/>
                </a:cubicBezTo>
                <a:cubicBezTo>
                  <a:pt x="3040" y="288"/>
                  <a:pt x="3224" y="484"/>
                  <a:pt x="3360" y="576"/>
                </a:cubicBezTo>
                <a:cubicBezTo>
                  <a:pt x="3496" y="668"/>
                  <a:pt x="3616" y="709"/>
                  <a:pt x="3696" y="741"/>
                </a:cubicBezTo>
                <a:cubicBezTo>
                  <a:pt x="3776" y="773"/>
                  <a:pt x="3810" y="763"/>
                  <a:pt x="3840" y="768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105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248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486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867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629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10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581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200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438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057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95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391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295280" y="438156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295280" y="346716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295280" y="407664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7924680" y="4137120"/>
          <a:ext cx="100332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4680" y="4137120"/>
                    <a:ext cx="10033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4114800" y="2209680"/>
          <a:ext cx="1384200" cy="39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2209680"/>
                    <a:ext cx="138420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6095880" y="3809880"/>
          <a:ext cx="200160" cy="270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8">
                    <a:alphaModFix amt="50000"/>
                  </a:blip>
                  <a:stretch/>
                </p:blipFill>
                <p:spPr>
                  <a:xfrm>
                    <a:off x="6095880" y="3809880"/>
                    <a:ext cx="20016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3962520" y="3809880"/>
          <a:ext cx="199800" cy="34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10">
                    <a:alphaModFix amt="50000"/>
                  </a:blip>
                  <a:stretch/>
                </p:blipFill>
                <p:spPr>
                  <a:xfrm>
                    <a:off x="3962520" y="3809880"/>
                    <a:ext cx="1998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1447920" y="3809880"/>
          <a:ext cx="339480" cy="270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12">
                    <a:alphaModFix amt="50000"/>
                  </a:blip>
                  <a:stretch/>
                </p:blipFill>
                <p:spPr>
                  <a:xfrm>
                    <a:off x="1447920" y="3809880"/>
                    <a:ext cx="33948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5029200" y="3733920"/>
          <a:ext cx="228600" cy="60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14">
                    <a:alphaModFix amt="50000"/>
                  </a:blip>
                  <a:stretch/>
                </p:blipFill>
                <p:spPr>
                  <a:xfrm>
                    <a:off x="5029200" y="3733920"/>
                    <a:ext cx="228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2590920" y="3733920"/>
          <a:ext cx="380880" cy="533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16">
                    <a:alphaModFix amt="50000"/>
                  </a:blip>
                  <a:stretch/>
                </p:blipFill>
                <p:spPr>
                  <a:xfrm>
                    <a:off x="2590920" y="3733920"/>
                    <a:ext cx="3808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7238880" y="3733920"/>
          <a:ext cx="34308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18">
                    <a:alphaModFix amt="50000"/>
                  </a:blip>
                  <a:stretch/>
                </p:blipFill>
                <p:spPr>
                  <a:xfrm>
                    <a:off x="7238880" y="3733920"/>
                    <a:ext cx="3430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300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Индивидуальный тренинг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990720" y="2438280"/>
          <a:ext cx="1633320" cy="5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438280"/>
                    <a:ext cx="163332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609480" y="121824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Постройте график функции и определите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D(f), E(f)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990720" y="19040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2 </a:t>
            </a:r>
            <a:r>
              <a:rPr b="0" i="1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486400" y="19040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r>
              <a:rPr b="0" i="1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1011240" y="2971800"/>
          <a:ext cx="1866960" cy="5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2971800"/>
                    <a:ext cx="186696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990720" y="3506760"/>
          <a:ext cx="163332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3506760"/>
                    <a:ext cx="163332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990720" y="3921120"/>
          <a:ext cx="2333520" cy="103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3921120"/>
                    <a:ext cx="23335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974880" y="4952880"/>
          <a:ext cx="2366640" cy="103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74880" y="4952880"/>
                    <a:ext cx="236664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5019840" y="2209680"/>
          <a:ext cx="2833560" cy="1032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19840" y="2209680"/>
                    <a:ext cx="283356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5005440" y="2952720"/>
          <a:ext cx="2233440" cy="1030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05440" y="2952720"/>
                    <a:ext cx="223344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5024520" y="3770280"/>
          <a:ext cx="1833480" cy="1030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24520" y="3770280"/>
                    <a:ext cx="183348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5062680" y="4705200"/>
          <a:ext cx="2100240" cy="532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62680" y="4705200"/>
                    <a:ext cx="210024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"/>
          <p:cNvSpPr/>
          <p:nvPr/>
        </p:nvSpPr>
        <p:spPr>
          <a:xfrm>
            <a:off x="4267080" y="5410080"/>
            <a:ext cx="4343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наберите максимальное количество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Гармоническая функция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4114800" y="838080"/>
          <a:ext cx="411804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838080"/>
                    <a:ext cx="41180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85800" y="4191120"/>
            <a:ext cx="7924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8381880" y="4191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05120" y="3429000"/>
            <a:ext cx="5486400" cy="156204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19320" y="342900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371600" y="495288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419112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24480" y="419112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733920" y="297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809880" y="4952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410080" y="5257800"/>
            <a:ext cx="914400" cy="0"/>
          </a:xfrm>
          <a:prstGeom prst="line">
            <a:avLst/>
          </a:prstGeom>
          <a:ln w="12600">
            <a:solidFill>
              <a:srgbClr val="0033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5477040" y="5313240"/>
          <a:ext cx="782640" cy="8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77040" y="5313240"/>
                    <a:ext cx="78264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9" name=""/>
          <p:cNvGraphicFramePr/>
          <p:nvPr/>
        </p:nvGraphicFramePr>
        <p:xfrm>
          <a:off x="7848720" y="4495680"/>
          <a:ext cx="1003320" cy="39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4495680"/>
                    <a:ext cx="10033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4405320" y="2639880"/>
          <a:ext cx="1846080" cy="392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05320" y="2639880"/>
                    <a:ext cx="184608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Гармоническая функция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4114800" y="838080"/>
          <a:ext cx="411804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838080"/>
                    <a:ext cx="41180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" y="4191120"/>
            <a:ext cx="7924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381880" y="4191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5791320" y="1905120"/>
          <a:ext cx="259056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905120"/>
                    <a:ext cx="25905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"/>
          <p:cNvSpPr/>
          <p:nvPr/>
        </p:nvSpPr>
        <p:spPr>
          <a:xfrm>
            <a:off x="533520" y="3948120"/>
            <a:ext cx="807696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533520" y="4800600"/>
          <a:ext cx="162216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800600"/>
                    <a:ext cx="16221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2286000" y="5029200"/>
          <a:ext cx="180504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5029200"/>
                    <a:ext cx="18050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"/>
          <p:cNvGraphicFramePr/>
          <p:nvPr/>
        </p:nvGraphicFramePr>
        <p:xfrm>
          <a:off x="4419720" y="5105520"/>
          <a:ext cx="2538360" cy="688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19720" y="5105520"/>
                    <a:ext cx="253836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"/>
          <p:cNvGraphicFramePr/>
          <p:nvPr/>
        </p:nvGraphicFramePr>
        <p:xfrm>
          <a:off x="6095880" y="5635800"/>
          <a:ext cx="2878200" cy="688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5635800"/>
                    <a:ext cx="287820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"/>
          <p:cNvSpPr/>
          <p:nvPr/>
        </p:nvSpPr>
        <p:spPr>
          <a:xfrm>
            <a:off x="914400" y="3962520"/>
            <a:ext cx="726912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230480" y="3962520"/>
            <a:ext cx="654192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523880" y="3962520"/>
            <a:ext cx="588816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447920" y="3962520"/>
            <a:ext cx="588780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295280" y="3962520"/>
            <a:ext cx="588816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143000" y="3962520"/>
            <a:ext cx="588816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143000" y="3840120"/>
            <a:ext cx="5888160" cy="65556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143000" y="3787920"/>
            <a:ext cx="5888160" cy="78408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143000" y="3705120"/>
            <a:ext cx="5888160" cy="943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гад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3733920" y="5105520"/>
          <a:ext cx="411768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5105520"/>
                    <a:ext cx="41176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4" name=""/>
          <p:cNvSpPr/>
          <p:nvPr/>
        </p:nvSpPr>
        <p:spPr>
          <a:xfrm>
            <a:off x="762120" y="1828800"/>
            <a:ext cx="4800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9a0000"/>
                </a:solidFill>
                <a:uFillTx/>
                <a:latin typeface="Times New Roman"/>
              </a:rPr>
              <a:t>Что общего межд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990720" y="2590920"/>
            <a:ext cx="2057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Times New Roman"/>
              </a:rPr>
              <a:t>качел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990720" y="3184560"/>
            <a:ext cx="2057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Times New Roman"/>
              </a:rPr>
              <a:t>музы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990720" y="3794040"/>
            <a:ext cx="2057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Times New Roman"/>
              </a:rPr>
              <a:t>и све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505320" y="2590920"/>
            <a:ext cx="533376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a0000"/>
                </a:solidFill>
                <a:latin typeface="Times New Roman"/>
              </a:rPr>
              <a:t>это колебательные процессы, которые описываются с помощью гармонической функ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гад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3733920" y="5105520"/>
          <a:ext cx="411768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5105520"/>
                    <a:ext cx="41176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685800" y="2362320"/>
            <a:ext cx="81532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подними качели повыше – изменишь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t</a:t>
            </a:r>
            <a:r>
              <a:rPr b="1" i="1" lang="ru-RU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(фазу) механических колеб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" y="3276720"/>
            <a:ext cx="80773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включи полную громкость – увеличишь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a</a:t>
            </a: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 (амплитуду) колебаний возд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4146480"/>
            <a:ext cx="80773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добавь красного цвета в палитру – уменьшишь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k</a:t>
            </a: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 (частоту) электромагнитных колеб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дачи уро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959280" y="2895480"/>
          <a:ext cx="29764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9280" y="2895480"/>
                    <a:ext cx="29764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3811680" y="3657600"/>
          <a:ext cx="322416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11680" y="3657600"/>
                    <a:ext cx="32241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3886200" y="4495680"/>
          <a:ext cx="2479680" cy="79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4495680"/>
                    <a:ext cx="24796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911760" y="5227560"/>
          <a:ext cx="2428560" cy="79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11760" y="5227560"/>
                    <a:ext cx="24285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1066680" y="167616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Повторить правила преобразова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дачи уро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160880" y="2971800"/>
          <a:ext cx="257796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60880" y="2971800"/>
                    <a:ext cx="25779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1066680" y="167616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Построить преобразования тригонометрических функц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135320" y="4008600"/>
          <a:ext cx="262908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35320" y="4008600"/>
                    <a:ext cx="26290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дачи уро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392640" y="2971800"/>
          <a:ext cx="411480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2640" y="2971800"/>
                    <a:ext cx="41148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1066680" y="167616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Изучить гармоническую функцию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864400" y="838080"/>
          <a:ext cx="29764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4400" y="838080"/>
                    <a:ext cx="29764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514240" y="4938840"/>
            <a:ext cx="60948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909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666880" y="49687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383000" y="32972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3000" y="32972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946160" y="3124080"/>
          <a:ext cx="163692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46160" y="3124080"/>
                    <a:ext cx="16369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сдвиг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718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954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195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432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5864400" y="838080"/>
          <a:ext cx="29764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4400" y="838080"/>
                    <a:ext cx="29764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004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4938840"/>
            <a:ext cx="60984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339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50292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743200" y="312408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312408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4992840" y="3124080"/>
          <a:ext cx="163800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92840" y="3124080"/>
                    <a:ext cx="16380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32767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34164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290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05320" y="34164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34164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сдвиг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5740560" y="838080"/>
          <a:ext cx="322416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0560" y="838080"/>
                    <a:ext cx="32241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335268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867280" y="4114440"/>
            <a:ext cx="0" cy="60948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24080" y="281952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943600" y="42670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5334120" y="4648320"/>
          <a:ext cx="1255680" cy="43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4648320"/>
                    <a:ext cx="125568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4911840" y="2743200"/>
          <a:ext cx="177480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11840" y="2743200"/>
                    <a:ext cx="17748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сдвиг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y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24080" y="327672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32004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12408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303516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124080" y="29592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740560" y="838080"/>
          <a:ext cx="322416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0560" y="838080"/>
                    <a:ext cx="32241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24080" y="356868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8120" y="4829040"/>
            <a:ext cx="0" cy="6098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403848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666880" y="48769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5830920" y="44402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30920" y="44402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5810400" y="5049720"/>
          <a:ext cx="177480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10400" y="5049720"/>
                    <a:ext cx="17748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сдвиг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y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3645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124080" y="372096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379728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38736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394956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113520" y="838080"/>
          <a:ext cx="24796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3520" y="838080"/>
                    <a:ext cx="24796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38560" y="3429000"/>
            <a:ext cx="240012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5438520" y="4648320"/>
            <a:ext cx="30636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747960" y="3429000"/>
            <a:ext cx="1335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67080" y="44956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383000" y="32972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3000" y="32972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4648320" y="4668840"/>
          <a:ext cx="136512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4668840"/>
                    <a:ext cx="13651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сжатие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352680" y="3429000"/>
            <a:ext cx="213372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65360" y="3429000"/>
            <a:ext cx="186876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95680" y="3429000"/>
            <a:ext cx="16016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200400" y="4648320"/>
            <a:ext cx="30636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22:26:00Z</dcterms:created>
  <dc:creator>Vladimir</dc:creator>
  <dc:description/>
  <dc:language>en-US</dc:language>
  <cp:lastModifiedBy>Vladimir</cp:lastModifiedBy>
  <dcterms:modified xsi:type="dcterms:W3CDTF">2006-12-11T19:17:17Z</dcterms:modified>
  <cp:revision>46</cp:revision>
  <dc:subject/>
  <dc:title>Преобразование графиков</dc:title>
</cp:coreProperties>
</file>