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D28-D584-4E2C-B57D-2E8FD2C3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8F9-31E7-47CC-9DFC-A215F29E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780-A3B2-4F15-BE88-F7CC988A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F41-F0A6-4552-93D5-B66278ED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32AD-ECFE-41F7-8CCC-AA0C5127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B8D8-4194-495B-80B3-41ACE764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469F-DD97-4DBF-B2AD-DAD43C56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AA55-EB12-4373-B428-075A6A13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30E0-2A58-4400-A2A6-DECB8DE6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EC91-D396-4378-8E1A-375FB70C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6C29-0042-48FF-BB45-7F60B71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F6F-072E-4116-8BB8-E5FA47F3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11D8-D961-4A78-83CD-BB490EA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FE87-FD7E-4620-ACA8-3205834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E82D-92D2-427B-839B-77A55151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C628-4F63-4C17-9B7B-BC59B6D1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59FA-5876-4695-9E7F-8A04E6A9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2B8-312C-422D-AC5F-384FACC6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A55-04F8-4977-8472-5BDFFBC0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266-6FD3-4E55-AA42-EC2D32CC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1DB-23E2-4307-9F8B-864E2F27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4FB-6061-40F9-8C09-6D50F820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C65-EC83-46F0-9166-B7A7F6AD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2F4-771E-410B-9340-B127088E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AFDE-EC11-491D-A2A4-41D027AB3B8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E36E-1792-4975-9BCE-20ED2977B6C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 графиков функци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0200" y="3429000"/>
            <a:ext cx="290340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0960" y="3430440"/>
            <a:ext cx="392616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58784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324480" y="4724280"/>
          <a:ext cx="13654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724280"/>
                    <a:ext cx="1365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81916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429000"/>
            <a:ext cx="3195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32040" y="3443400"/>
            <a:ext cx="35164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352680"/>
            <a:ext cx="2641680" cy="15256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960720" y="4265640"/>
            <a:ext cx="0" cy="6112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728800"/>
            <a:ext cx="2670120" cy="27720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41972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888160" y="489744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8160" y="489744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3276720"/>
            <a:ext cx="2641680" cy="16621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200400"/>
            <a:ext cx="2641680" cy="18032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3124080"/>
            <a:ext cx="2641680" cy="19400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3048120"/>
            <a:ext cx="2641680" cy="2079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971800"/>
            <a:ext cx="2641680" cy="2216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2895480"/>
            <a:ext cx="2641680" cy="23576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819520"/>
            <a:ext cx="2641680" cy="24937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771640"/>
            <a:ext cx="2641680" cy="2633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3505320"/>
            <a:ext cx="2641680" cy="1220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867280" y="449568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49568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581280"/>
            <a:ext cx="2641680" cy="10969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3659040"/>
            <a:ext cx="2641680" cy="9892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693960"/>
            <a:ext cx="2641680" cy="8924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754440"/>
            <a:ext cx="2641680" cy="803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4419720"/>
            <a:ext cx="1800" cy="612360"/>
            <a:chOff x="1752480" y="4419720"/>
            <a:chExt cx="1800" cy="612360"/>
          </a:xfrm>
        </p:grpSpPr>
        <p:sp>
          <p:nvSpPr>
            <p:cNvPr id="425" name=""/>
            <p:cNvSpPr/>
            <p:nvPr/>
          </p:nvSpPr>
          <p:spPr>
            <a:xfrm>
              <a:off x="1754280" y="4419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752480" y="4725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sin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3162240"/>
            <a:ext cx="609624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cos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675800" y="3162240"/>
            <a:ext cx="609588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ндивидуальный тренин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2438280"/>
          <a:ext cx="16333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333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609480" y="12182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стройте график функции и определите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(f), E(f)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2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011240" y="2971800"/>
          <a:ext cx="18669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971800"/>
                    <a:ext cx="18669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990720" y="3506760"/>
          <a:ext cx="16333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06760"/>
                    <a:ext cx="1633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990720" y="3921120"/>
          <a:ext cx="233352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921120"/>
                    <a:ext cx="23335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974880" y="4952880"/>
          <a:ext cx="2366640" cy="103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952880"/>
                    <a:ext cx="236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019840" y="2209680"/>
          <a:ext cx="2833560" cy="103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2209680"/>
                    <a:ext cx="28335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005440" y="2952720"/>
          <a:ext cx="2233440" cy="10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5440" y="2952720"/>
                    <a:ext cx="22334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024520" y="3770280"/>
          <a:ext cx="1833480" cy="103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4520" y="3770280"/>
                    <a:ext cx="1833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062680" y="4705200"/>
          <a:ext cx="210024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62680" y="4705200"/>
                    <a:ext cx="21002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267080" y="54100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наберите максимальное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05120" y="3429000"/>
            <a:ext cx="5486400" cy="156204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429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952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4952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77040" y="5313240"/>
          <a:ext cx="7826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7040" y="5313240"/>
                    <a:ext cx="782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7848720" y="4495680"/>
          <a:ext cx="100332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4495680"/>
                    <a:ext cx="1003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405320" y="2639880"/>
          <a:ext cx="18460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05320" y="2639880"/>
                    <a:ext cx="18460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791320" y="1905120"/>
          <a:ext cx="259056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05120"/>
                    <a:ext cx="2590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3520" y="3948120"/>
            <a:ext cx="80769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4800600"/>
          <a:ext cx="16221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622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5029200"/>
          <a:ext cx="180504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029200"/>
                    <a:ext cx="180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419720" y="5105520"/>
          <a:ext cx="253836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105520"/>
                    <a:ext cx="253836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5635800"/>
          <a:ext cx="2878200" cy="68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635800"/>
                    <a:ext cx="28782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914400" y="3962520"/>
            <a:ext cx="72691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30480" y="3962520"/>
            <a:ext cx="65419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7920" y="3962520"/>
            <a:ext cx="588780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3840120"/>
            <a:ext cx="5888160" cy="65556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787920"/>
            <a:ext cx="5888160" cy="78408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3705120"/>
            <a:ext cx="5888160" cy="943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762120" y="1828800"/>
            <a:ext cx="48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a0000"/>
                </a:solidFill>
                <a:uFillTx/>
                <a:latin typeface="Times New Roman"/>
              </a:rPr>
              <a:t>Что общего межд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259092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кач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318456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музы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0720" y="379404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 све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05320" y="2590920"/>
            <a:ext cx="53337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0000"/>
                </a:solidFill>
                <a:latin typeface="Times New Roman"/>
              </a:rPr>
              <a:t>это колебательные процессы, которые описываются с помощью гармоническ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685800" y="2362320"/>
            <a:ext cx="815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подними качели повыше – измен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(фазу) механически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27672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включи полную громкость – увелич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амплитуду) колебаний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414648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добавь красного цвета в палитру – уменьш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частоту)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9280" y="28954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28954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811680" y="3657600"/>
          <a:ext cx="322416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3657600"/>
                    <a:ext cx="3224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886200" y="4495680"/>
          <a:ext cx="2479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4956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911760" y="5227560"/>
          <a:ext cx="24285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1760" y="5227560"/>
                    <a:ext cx="2428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66680" y="167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вторить правила преобраз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160880" y="2971800"/>
          <a:ext cx="25779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0880" y="2971800"/>
                    <a:ext cx="25779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6680" y="167616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строить преобразования тригонометрических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135320" y="4008600"/>
          <a:ext cx="26290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5320" y="4008600"/>
                    <a:ext cx="262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92640" y="2971800"/>
          <a:ext cx="41148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971800"/>
                    <a:ext cx="4114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66680" y="16761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Изучить гармоническую функ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14240" y="49388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68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946160" y="3124080"/>
          <a:ext cx="16369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6160" y="3124080"/>
                    <a:ext cx="1636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49388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5029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743200" y="312408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992840" y="3124080"/>
          <a:ext cx="16380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2840" y="3124080"/>
                    <a:ext cx="1638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2767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4164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3526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67280" y="4114440"/>
            <a:ext cx="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8195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267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648320"/>
          <a:ext cx="125568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1255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11840" y="274320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1840" y="274320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32767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200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1240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0351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9592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35686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4829040"/>
            <a:ext cx="0" cy="6098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0384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48769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830920" y="4440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0920" y="4440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810400" y="504972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0" y="504972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3645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37209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7972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38736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39495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38560" y="3429000"/>
            <a:ext cx="24001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385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47960" y="3429000"/>
            <a:ext cx="1335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648320" y="4668840"/>
          <a:ext cx="13651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668840"/>
                    <a:ext cx="1365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429000"/>
            <a:ext cx="2133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5360" y="3429000"/>
            <a:ext cx="186876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95680" y="3429000"/>
            <a:ext cx="16016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26:00Z</dcterms:created>
  <dc:creator>Vladimir</dc:creator>
  <dc:description/>
  <dc:language>en-US</dc:language>
  <cp:lastModifiedBy>Vladimir</cp:lastModifiedBy>
  <dcterms:modified xsi:type="dcterms:W3CDTF">2006-12-11T19:17:17Z</dcterms:modified>
  <cp:revision>46</cp:revision>
  <dc:subject/>
  <dc:title>Преобразование графиков</dc:title>
</cp:coreProperties>
</file>