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32.gif" ContentType="image/gi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20.gif" ContentType="image/gif"/>
  <Override PartName="/ppt/media/image13.png" ContentType="image/png"/>
  <Override PartName="/ppt/media/image16.png" ContentType="image/png"/>
  <Override PartName="/ppt/media/image10.png" ContentType="image/png"/>
  <Override PartName="/ppt/media/image29.gif" ContentType="image/gif"/>
  <Override PartName="/ppt/media/image9.png" ContentType="image/png"/>
  <Override PartName="/ppt/media/image31.gif" ContentType="image/gif"/>
  <Override PartName="/ppt/media/image17.wmf" ContentType="image/x-wmf"/>
  <Override PartName="/ppt/media/image11.png" ContentType="image/png"/>
  <Override PartName="/ppt/media/image14.png" ContentType="image/png"/>
  <Override PartName="/ppt/media/image34.wmf" ContentType="image/x-wmf"/>
  <Override PartName="/ppt/media/image38.gif" ContentType="image/gif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9.gif" ContentType="image/gif"/>
  <Override PartName="/ppt/media/applause.wav" ContentType="audio/x-wav"/>
  <Override PartName="/ppt/media/image5.png" ContentType="image/png"/>
  <Override PartName="/ppt/media/image8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drumroll.wav" ContentType="audio/x-wav"/>
  <Override PartName="/ppt/media/image30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28.png" ContentType="image/png"/>
  <Override PartName="/ppt/media/image35.gif" ContentType="image/gif"/>
  <Override PartName="/ppt/media/image1.wmf" ContentType="image/x-wmf"/>
  <Override PartName="/ppt/media/image2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174E-B521-4DB5-844C-3DA424833E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редыдущих уроках  мы познакомились с обыкновенными дроб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524720" y="5445000"/>
            <a:ext cx="1619280" cy="1122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 txBox="1"/>
          <p:nvPr/>
        </p:nvSpPr>
        <p:spPr>
          <a:xfrm>
            <a:off x="8675640" y="6165720"/>
            <a:ext cx="28908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.С.Шмыр</a:t>
            </a:r>
            <a:endParaRPr b="0" lang="en-US" sz="1800" spc="1" strike="noStrike">
              <a:ln w="0">
                <a:noFill/>
              </a:ln>
              <a:solidFill>
                <a:srgbClr val="008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gif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3.wmf"/><Relationship Id="rId4" Type="http://schemas.openxmlformats.org/officeDocument/2006/relationships/image" Target="../media/image23.wmf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3.wmf"/><Relationship Id="rId8" Type="http://schemas.openxmlformats.org/officeDocument/2006/relationships/image" Target="../media/image23.wmf"/><Relationship Id="rId9" Type="http://schemas.openxmlformats.org/officeDocument/2006/relationships/image" Target="../media/image23.wmf"/><Relationship Id="rId10" Type="http://schemas.openxmlformats.org/officeDocument/2006/relationships/image" Target="../media/image23.wmf"/><Relationship Id="rId11" Type="http://schemas.openxmlformats.org/officeDocument/2006/relationships/image" Target="../media/image23.wmf"/><Relationship Id="rId12" Type="http://schemas.openxmlformats.org/officeDocument/2006/relationships/image" Target="../media/image3.jpeg"/><Relationship Id="rId13" Type="http://schemas.openxmlformats.org/officeDocument/2006/relationships/image" Target="../media/image23.wmf"/><Relationship Id="rId14" Type="http://schemas.openxmlformats.org/officeDocument/2006/relationships/image" Target="../media/image23.wmf"/><Relationship Id="rId15" Type="http://schemas.openxmlformats.org/officeDocument/2006/relationships/image" Target="../media/image23.wmf"/><Relationship Id="rId16" Type="http://schemas.openxmlformats.org/officeDocument/2006/relationships/image" Target="../media/image23.wmf"/><Relationship Id="rId17" Type="http://schemas.openxmlformats.org/officeDocument/2006/relationships/image" Target="../media/image23.wmf"/><Relationship Id="rId18" Type="http://schemas.openxmlformats.org/officeDocument/2006/relationships/image" Target="../media/image23.wmf"/><Relationship Id="rId19" Type="http://schemas.openxmlformats.org/officeDocument/2006/relationships/image" Target="../media/image23.wmf"/><Relationship Id="rId2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gi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image" Target="../media/image33.jpeg"/><Relationship Id="rId4" Type="http://schemas.openxmlformats.org/officeDocument/2006/relationships/image" Target="../media/image33.jpe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168720" cy="2732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539640" y="836640"/>
            <a:ext cx="77756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жение  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 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читание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робей с одинаковым знаменателем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0" t="0" r="0" b="3475"/>
          <a:stretch/>
        </p:blipFill>
        <p:spPr>
          <a:xfrm>
            <a:off x="6084720" y="1197000"/>
            <a:ext cx="2544840" cy="2160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5516640"/>
            <a:ext cx="54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Учитель Барышева О.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8560" cy="1898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303640" y="260280"/>
            <a:ext cx="684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Какие дроби называются правильными, а какие неправильны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Какие из данных  дробей  являются правильными? Какие неправильны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059280" y="1700280"/>
            <a:ext cx="4249080" cy="891360"/>
            <a:chOff x="3059280" y="1700280"/>
            <a:chExt cx="4249080" cy="891360"/>
          </a:xfrm>
        </p:grpSpPr>
        <p:grpSp>
          <p:nvGrpSpPr>
            <p:cNvPr id="106" name=""/>
            <p:cNvGrpSpPr/>
            <p:nvPr/>
          </p:nvGrpSpPr>
          <p:grpSpPr>
            <a:xfrm>
              <a:off x="3778200" y="1700280"/>
              <a:ext cx="1080720" cy="891360"/>
              <a:chOff x="3778200" y="1700280"/>
              <a:chExt cx="1080720" cy="891360"/>
            </a:xfrm>
          </p:grpSpPr>
          <p:sp>
            <p:nvSpPr>
              <p:cNvPr id="107" name=""/>
              <p:cNvSpPr/>
              <p:nvPr/>
            </p:nvSpPr>
            <p:spPr>
              <a:xfrm>
                <a:off x="392076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77820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06512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570200" y="1700280"/>
              <a:ext cx="1080720" cy="891360"/>
              <a:chOff x="4570200" y="1700280"/>
              <a:chExt cx="1080720" cy="891360"/>
            </a:xfrm>
          </p:grpSpPr>
          <p:sp>
            <p:nvSpPr>
              <p:cNvPr id="111" name=""/>
              <p:cNvSpPr/>
              <p:nvPr/>
            </p:nvSpPr>
            <p:spPr>
              <a:xfrm>
                <a:off x="471276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3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57020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14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85712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5435640" y="1700280"/>
              <a:ext cx="1080720" cy="891360"/>
              <a:chOff x="5435640" y="1700280"/>
              <a:chExt cx="1080720" cy="891360"/>
            </a:xfrm>
          </p:grpSpPr>
          <p:sp>
            <p:nvSpPr>
              <p:cNvPr id="115" name=""/>
              <p:cNvSpPr/>
              <p:nvPr/>
            </p:nvSpPr>
            <p:spPr>
              <a:xfrm>
                <a:off x="557820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43564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72256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3059280" y="1700280"/>
              <a:ext cx="1080720" cy="891360"/>
              <a:chOff x="3059280" y="1700280"/>
              <a:chExt cx="1080720" cy="891360"/>
            </a:xfrm>
          </p:grpSpPr>
          <p:sp>
            <p:nvSpPr>
              <p:cNvPr id="119" name=""/>
              <p:cNvSpPr/>
              <p:nvPr/>
            </p:nvSpPr>
            <p:spPr>
              <a:xfrm>
                <a:off x="320184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05928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34620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6227640" y="1700280"/>
              <a:ext cx="1080720" cy="891360"/>
              <a:chOff x="6227640" y="1700280"/>
              <a:chExt cx="1080720" cy="891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37020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22764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1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51456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6" name="" descr=""/>
          <p:cNvPicPr/>
          <p:nvPr/>
        </p:nvPicPr>
        <p:blipFill>
          <a:blip r:embed="rId2"/>
          <a:srcRect l="19923" t="45140" r="71959" b="49614"/>
          <a:stretch/>
        </p:blipFill>
        <p:spPr>
          <a:xfrm>
            <a:off x="2124000" y="3860640"/>
            <a:ext cx="1214640" cy="576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258920" y="270828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270828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 rot="10807800">
            <a:off x="2411280" y="2562480"/>
            <a:ext cx="569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mic Sans MS"/>
              </a:rPr>
              <a:t>Из чисел </a:t>
            </a:r>
            <a:r>
              <a:rPr b="1" lang="en-US" sz="1800" spc="-1" strike="noStrike">
                <a:solidFill>
                  <a:srgbClr val="3399ff"/>
                </a:solidFill>
                <a:latin typeface="Comic Sans MS"/>
              </a:rPr>
              <a:t>0,5,12,10,6,3,1</a:t>
            </a:r>
            <a:r>
              <a:rPr b="1" lang="en-US" sz="1800" spc="-1" strike="noStrike">
                <a:solidFill>
                  <a:srgbClr val="cc3300"/>
                </a:solidFill>
                <a:latin typeface="Comic Sans MS"/>
              </a:rPr>
              <a:t> выбери те, при которых дроби будут правильны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0000" y="335772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Х=5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19640" y="3933720"/>
            <a:ext cx="21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=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rcRect l="19728" t="39528" r="71405" b="54929"/>
          <a:stretch/>
        </p:blipFill>
        <p:spPr>
          <a:xfrm>
            <a:off x="2124000" y="5734080"/>
            <a:ext cx="1224000" cy="647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7331040" y="4292640"/>
            <a:ext cx="1812960" cy="2328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300720" y="508464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92360" y="58053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03840" y="3429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3357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88000" y="3357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96360" y="335772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5"/>
          <a:srcRect l="19923" t="38588" r="71959" b="54851"/>
          <a:stretch/>
        </p:blipFill>
        <p:spPr>
          <a:xfrm>
            <a:off x="2124000" y="3068640"/>
            <a:ext cx="1214640" cy="720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43640" y="39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48360" y="39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=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24720" y="39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6"/>
          <a:srcRect l="19728" t="33273" r="71405" b="60476"/>
          <a:stretch/>
        </p:blipFill>
        <p:spPr>
          <a:xfrm>
            <a:off x="2124000" y="4941720"/>
            <a:ext cx="1224000" cy="64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92720" y="508464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51280" y="5084640"/>
            <a:ext cx="12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64000" y="5805360"/>
            <a:ext cx="11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00720" y="580536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43657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mic Sans MS"/>
              </a:rPr>
              <a:t>Из чисел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99ff"/>
                </a:solidFill>
                <a:latin typeface="Comic Sans MS"/>
              </a:rPr>
              <a:t>5; 9; 3; 1; 2; 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Comic Sans MS"/>
              </a:rPr>
              <a:t>выберите те, при которых дроби будут неправильны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0" y="0"/>
          <a:ext cx="11126880" cy="68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126880" cy="68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124000" y="2060640"/>
            <a:ext cx="53276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Сложение и вычитание дроб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с равными знамена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02280" y="155736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Класс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00000" y="2637000"/>
            <a:ext cx="4753080" cy="2711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340000" y="3141720"/>
            <a:ext cx="1987560" cy="1923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rcRect l="0" t="0" r="64149" b="36845"/>
          <a:stretch/>
        </p:blipFill>
        <p:spPr>
          <a:xfrm rot="17623200">
            <a:off x="1207800" y="304812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rcRect l="0" t="0" r="64149" b="36845"/>
          <a:stretch/>
        </p:blipFill>
        <p:spPr>
          <a:xfrm rot="17884200">
            <a:off x="3008520" y="3623760"/>
            <a:ext cx="1109880" cy="1008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rcRect l="0" t="0" r="64149" b="36845"/>
          <a:stretch/>
        </p:blipFill>
        <p:spPr>
          <a:xfrm rot="12921000">
            <a:off x="1692360" y="378900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rcRect l="0" t="0" r="64149" b="36845"/>
          <a:stretch/>
        </p:blipFill>
        <p:spPr>
          <a:xfrm rot="16200000">
            <a:off x="2144880" y="275904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7"/>
          <a:srcRect l="0" t="0" r="64149" b="36845"/>
          <a:stretch/>
        </p:blipFill>
        <p:spPr>
          <a:xfrm rot="1617000">
            <a:off x="3708360" y="2781000"/>
            <a:ext cx="1201680" cy="1270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8"/>
          <a:srcRect l="0" t="0" r="64149" b="36845"/>
          <a:stretch/>
        </p:blipFill>
        <p:spPr>
          <a:xfrm rot="18096600">
            <a:off x="2865240" y="405612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9"/>
          <a:srcRect l="0" t="0" r="64149" b="36845"/>
          <a:stretch/>
        </p:blipFill>
        <p:spPr>
          <a:xfrm rot="20096400">
            <a:off x="2484000" y="2997360"/>
            <a:ext cx="1109880" cy="1008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0"/>
          <a:srcRect l="0" t="0" r="64149" b="36845"/>
          <a:stretch/>
        </p:blipFill>
        <p:spPr>
          <a:xfrm rot="3319200">
            <a:off x="3152520" y="297468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1"/>
          <a:srcRect l="0" t="0" r="64149" b="36845"/>
          <a:stretch/>
        </p:blipFill>
        <p:spPr>
          <a:xfrm>
            <a:off x="2556000" y="400536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2"/>
          <a:srcRect l="0" t="0" r="0" b="3475"/>
          <a:stretch/>
        </p:blipFill>
        <p:spPr>
          <a:xfrm rot="2296200">
            <a:off x="5796000" y="765000"/>
            <a:ext cx="2735280" cy="2324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3"/>
          <a:srcRect l="0" t="0" r="64149" b="36845"/>
          <a:stretch/>
        </p:blipFill>
        <p:spPr>
          <a:xfrm rot="18919200">
            <a:off x="2771280" y="2349000"/>
            <a:ext cx="1295640" cy="11764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4"/>
          <a:srcRect l="0" t="0" r="64149" b="36845"/>
          <a:stretch/>
        </p:blipFill>
        <p:spPr>
          <a:xfrm rot="280800">
            <a:off x="1834920" y="306864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5"/>
          <a:srcRect l="0" t="0" r="64149" b="36845"/>
          <a:stretch/>
        </p:blipFill>
        <p:spPr>
          <a:xfrm rot="14696400">
            <a:off x="991800" y="3623760"/>
            <a:ext cx="1109880" cy="1008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6"/>
          <a:srcRect l="0" t="0" r="64149" b="36845"/>
          <a:stretch/>
        </p:blipFill>
        <p:spPr>
          <a:xfrm rot="1341000">
            <a:off x="3924000" y="357300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7"/>
          <a:srcRect l="0" t="0" r="64149" b="36845"/>
          <a:stretch/>
        </p:blipFill>
        <p:spPr>
          <a:xfrm rot="20660400">
            <a:off x="1692000" y="4221000"/>
            <a:ext cx="1109520" cy="100836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396720" y="474840"/>
            <a:ext cx="1357200" cy="1016280"/>
            <a:chOff x="396720" y="474840"/>
            <a:chExt cx="1357200" cy="1016280"/>
          </a:xfrm>
        </p:grpSpPr>
        <p:sp>
          <p:nvSpPr>
            <p:cNvPr id="174" name=""/>
            <p:cNvSpPr/>
            <p:nvPr/>
          </p:nvSpPr>
          <p:spPr>
            <a:xfrm>
              <a:off x="576000" y="47484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6720" y="103140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7440" y="1031400"/>
              <a:ext cx="63360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405080" y="69228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763640" y="403200"/>
            <a:ext cx="1428480" cy="1100880"/>
            <a:chOff x="1763640" y="403200"/>
            <a:chExt cx="1428480" cy="1100880"/>
          </a:xfrm>
        </p:grpSpPr>
        <p:sp>
          <p:nvSpPr>
            <p:cNvPr id="179" name=""/>
            <p:cNvSpPr/>
            <p:nvPr/>
          </p:nvSpPr>
          <p:spPr>
            <a:xfrm>
              <a:off x="1952280" y="403200"/>
              <a:ext cx="100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63640" y="1044360"/>
              <a:ext cx="142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43080" y="1044360"/>
              <a:ext cx="66672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276720" y="404640"/>
            <a:ext cx="1799640" cy="1100880"/>
            <a:chOff x="3276720" y="404640"/>
            <a:chExt cx="1799640" cy="1100880"/>
          </a:xfrm>
        </p:grpSpPr>
        <p:sp>
          <p:nvSpPr>
            <p:cNvPr id="183" name=""/>
            <p:cNvSpPr/>
            <p:nvPr/>
          </p:nvSpPr>
          <p:spPr>
            <a:xfrm>
              <a:off x="3514320" y="404640"/>
              <a:ext cx="126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76720" y="1045800"/>
              <a:ext cx="179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54800" y="1045800"/>
              <a:ext cx="84024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916360" y="69228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8"/>
          <a:srcRect l="0" t="0" r="64149" b="36845"/>
          <a:stretch/>
        </p:blipFill>
        <p:spPr>
          <a:xfrm rot="1341000">
            <a:off x="3419280" y="400500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9"/>
          <a:srcRect l="0" t="0" r="64149" b="36845"/>
          <a:stretch/>
        </p:blipFill>
        <p:spPr>
          <a:xfrm rot="18569400">
            <a:off x="2360520" y="3911040"/>
            <a:ext cx="1109880" cy="100836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2700360" y="5587920"/>
            <a:ext cx="1356840" cy="1016280"/>
            <a:chOff x="2700360" y="5587920"/>
            <a:chExt cx="1356840" cy="1016280"/>
          </a:xfrm>
        </p:grpSpPr>
        <p:sp>
          <p:nvSpPr>
            <p:cNvPr id="190" name=""/>
            <p:cNvSpPr/>
            <p:nvPr/>
          </p:nvSpPr>
          <p:spPr>
            <a:xfrm>
              <a:off x="2879640" y="558792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00360" y="6144480"/>
              <a:ext cx="13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60720" y="6144480"/>
              <a:ext cx="63324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708360" y="5805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067280" y="5516640"/>
            <a:ext cx="1428120" cy="1100880"/>
            <a:chOff x="4067280" y="5516640"/>
            <a:chExt cx="1428120" cy="1100880"/>
          </a:xfrm>
        </p:grpSpPr>
        <p:sp>
          <p:nvSpPr>
            <p:cNvPr id="195" name=""/>
            <p:cNvSpPr/>
            <p:nvPr/>
          </p:nvSpPr>
          <p:spPr>
            <a:xfrm>
              <a:off x="4255920" y="5516640"/>
              <a:ext cx="100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67280" y="6157800"/>
              <a:ext cx="14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46720" y="6157800"/>
              <a:ext cx="66672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292720" y="5516640"/>
            <a:ext cx="1510920" cy="1100880"/>
            <a:chOff x="5292720" y="5516640"/>
            <a:chExt cx="1510920" cy="1100880"/>
          </a:xfrm>
        </p:grpSpPr>
        <p:sp>
          <p:nvSpPr>
            <p:cNvPr id="199" name=""/>
            <p:cNvSpPr/>
            <p:nvPr/>
          </p:nvSpPr>
          <p:spPr>
            <a:xfrm>
              <a:off x="5492160" y="5516640"/>
              <a:ext cx="106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92720" y="6157800"/>
              <a:ext cx="151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94120" y="6157800"/>
              <a:ext cx="70524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5003640" y="5805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572000" y="404640"/>
            <a:ext cx="1788840" cy="1100880"/>
            <a:chOff x="4572000" y="404640"/>
            <a:chExt cx="1788840" cy="1100880"/>
          </a:xfrm>
        </p:grpSpPr>
        <p:grpSp>
          <p:nvGrpSpPr>
            <p:cNvPr id="204" name=""/>
            <p:cNvGrpSpPr/>
            <p:nvPr/>
          </p:nvGrpSpPr>
          <p:grpSpPr>
            <a:xfrm>
              <a:off x="4932360" y="404640"/>
              <a:ext cx="1428480" cy="1100880"/>
              <a:chOff x="4932360" y="404640"/>
              <a:chExt cx="1428480" cy="1100880"/>
            </a:xfrm>
          </p:grpSpPr>
          <p:sp>
            <p:nvSpPr>
              <p:cNvPr id="205" name=""/>
              <p:cNvSpPr/>
              <p:nvPr/>
            </p:nvSpPr>
            <p:spPr>
              <a:xfrm>
                <a:off x="5121000" y="404640"/>
                <a:ext cx="1006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932360" y="1045800"/>
                <a:ext cx="1428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3300"/>
                    </a:solidFill>
                    <a:latin typeface="Comic Sans MS"/>
                  </a:rPr>
                  <a:t>1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311800" y="1045800"/>
                <a:ext cx="66672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4572000" y="692280"/>
              <a:ext cx="64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516720" y="5516640"/>
            <a:ext cx="1428480" cy="1100880"/>
            <a:chOff x="6516720" y="5516640"/>
            <a:chExt cx="1428480" cy="1100880"/>
          </a:xfrm>
        </p:grpSpPr>
        <p:sp>
          <p:nvSpPr>
            <p:cNvPr id="210" name=""/>
            <p:cNvSpPr/>
            <p:nvPr/>
          </p:nvSpPr>
          <p:spPr>
            <a:xfrm>
              <a:off x="6705360" y="5516640"/>
              <a:ext cx="100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516720" y="6157800"/>
              <a:ext cx="142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96160" y="6157800"/>
              <a:ext cx="66672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6300720" y="5805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708280"/>
            <a:ext cx="122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Comic Sans MS"/>
              </a:rPr>
              <a:t>конф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22 -0.06088 C -0.00417 -0.09329 0.03906 -0.12569 0.05937 -0.13194 C 0.07969 -0.13819 0.07187 -0.11111 0.0743 -0.09861 C 0.07673 -0.08611 0.07378 -0.06921 0.0743 -0.05625 C 0.07482 -0.04329 0.07309 -0.03449 0.07778 -0.02083 C 0.08246 -0.00718 0.09253 0.02107 0.10278 0.02593 C 0.11302 0.03079 0.12917 0.01667 0.13941 0.0081 C 0.14965 -0.00046 0.15226 -0.01852 0.16441 -0.02523 C 0.17656 -0.03194 0.20052 -0.03935 0.21267 -0.03194 C 0.22482 -0.02454 0.23177 0.00116 0.23767 0.01921 C 0.24357 0.03727 0.24028 0.05741 0.24774 0.07708 C 0.25521 0.09676 0.26701 0.12708 0.28264 0.13704 C 0.29826 0.14699 0.32951 0.13889 0.34097 0.13704 C 0.35243 0.13519 0.34132 0.13773 0.35104 0.12593 C 0.36076 0.11412 0.3901 0.07755 0.3993 0.06597 C 0.40851 0.0544 0.40069 0.06042 0.40607 0.05695 C 0.41146 0.05347 0.42413 0.03912 0.43107 0.04583 C 0.43802 0.05255 0.44305 0.09282 0.44774 0.09699 C 0.45243 0.10116 0.4559 0.08565 0.45937 0.07037 E">
                                      <p:cBhvr>
                                        <p:cTn id="222" dur="1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05 -0.08009 C 0.14011 -0.1125 0.18334 -0.1449 0.20365 -0.15115 C 0.22396 -0.1574 0.21615 -0.13032 0.21858 -0.11782 C 0.22101 -0.10532 0.21806 -0.08842 0.21858 -0.07546 C 0.2191 -0.0625 0.21737 -0.0537 0.22205 -0.04004 C 0.22674 -0.02639 0.23681 0.00186 0.24705 0.00672 C 0.2573 0.01158 0.27344 -0.00254 0.28369 -0.01111 C 0.29393 -0.01967 0.29653 -0.03773 0.30869 -0.04444 C 0.32084 -0.05115 0.3448 -0.05856 0.35695 -0.05115 C 0.3691 -0.04375 0.37605 -0.01805 0.38195 -3.33333E-006 C 0.38785 0.01806 0.38455 0.0382 0.39202 0.05787 C 0.39948 0.07755 0.41129 0.10787 0.42691 0.11783 C 0.44254 0.12778 0.47379 0.11968 0.48525 0.11783 C 0.49671 0.11598 0.4856 0.11852 0.49532 0.10672 C 0.50504 0.09491 0.53438 0.05834 0.54358 0.04676 C 0.55278 0.03519 0.54497 0.04121 0.55035 0.03773 C 0.55573 0.03426 0.56841 0.01991 0.57535 0.02662 C 0.5823 0.03334 0.58733 0.07361 0.59202 0.07778 C 0.59671 0.08195 0.60018 0.06644 0.60365 0.05116 E">
                                      <p:cBhvr>
                                        <p:cTn id="225" dur="1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44444E-006 C 0.00382 -0.01042 0.00729 -0.0213 0.01163 -0.03125 C 0.01336 -0.03542 0.01666 -0.0382 0.0184 -0.04236 C 0.01944 -0.04491 0.01909 -0.04838 0.01996 -0.05116 C 0.02291 -0.06158 0.02291 -0.05787 0.02673 -0.06667 C 0.03055 -0.07547 0.03229 -0.08496 0.03663 -0.09329 C 0.03889 -0.1132 0.04062 -0.11042 0.0467 -0.12662 C 0.05 -0.14607 0.06146 -0.16042 0.06996 -0.1757 C 0.07743 -0.18935 0.06909 -0.17986 0.07673 -0.19121 C 0.07986 -0.19584 0.08402 -0.19931 0.08663 -0.2044 C 0.09809 -0.22778 0.11163 -0.25185 0.12673 -0.27107 C 0.12951 -0.2831 0.12673 -0.27431 0.13507 -0.28889 C 0.1401 -0.29792 0.14461 -0.31158 0.15173 -0.31783 C 0.15399 -0.32523 0.15607 -0.33403 0.16007 -0.34005 C 0.1625 -0.34352 0.1658 -0.34584 0.1684 -0.34885 C 0.17014 -0.35093 0.1717 -0.35324 0.17326 -0.35556 C 0.18125 -0.36829 0.17465 -0.36135 0.18333 -0.36898 C 0.18941 -0.38125 0.19288 -0.38681 0.20173 -0.3956 C 0.21198 -0.41644 0.23107 -0.3956 0.2434 -0.38889 C 0.24722 -0.38681 0.25121 -0.38658 0.25503 -0.38449 C 0.25972 -0.38195 0.26389 -0.37871 0.2684 -0.3757 C 0.27604 -0.3706 0.30573 -0.36597 0.31336 -0.36459 C 0.32378 -0.36273 0.33316 -0.35625 0.3434 -0.35347 C 0.36371 -0.34815 0.36996 -0.34954 0.39826 -0.34676 C 0.40764 -0.34422 0.41527 -0.33773 0.425 -0.33773 E">
                                      <p:cBhvr>
                                        <p:cTn id="236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44444E-006 C 0.00608 -0.01643 0.01007 -0.03796 0.01997 -0.05115 C 0.03386 -0.06967 0.04966 -0.08564 0.06493 -0.10208 C 0.07657 -0.11435 0.09045 -0.12245 0.10157 -0.13541 C 0.11962 -0.15671 0.13594 -0.16643 0.15486 -0.18449 C 0.17396 -0.20277 0.15573 -0.18958 0.175 -0.20208 C 0.18073 -0.21018 0.18681 -0.2118 0.19323 -0.21782 C 0.19966 -0.22384 0.20486 -0.23217 0.21163 -0.23773 C 0.229 -0.25231 0.22066 -0.24467 0.23663 -0.25995 C 0.2533 -0.25532 0.25469 -0.2655 0.26823 -0.27546 C 0.27084 -0.27731 0.28334 -0.27963 0.2849 -0.27986 C 0.29236 -0.28333 0.29913 -0.28796 0.3066 -0.29097 C 0.30834 -0.29259 0.30973 -0.29444 0.31163 -0.2956 C 0.3132 -0.29675 0.31528 -0.29629 0.31667 -0.29768 C 0.31858 -0.2993 0.31962 -0.30254 0.32153 -0.30439 C 0.3257 -0.30856 0.33038 -0.3118 0.3349 -0.3155 C 0.34219 -0.32152 0.36077 -0.32476 0.36823 -0.32662 C 0.38038 -0.32963 0.3908 -0.33333 0.4033 -0.33333 E">
                                      <p:cBhvr>
                                        <p:cTn id="238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816 0.03889 C -0.25695 0.0345 -0.25591 0.02987 -0.25469 0.02547 C -0.25417 0.02315 -0.25764 0.0338 -0.25643 0.03218 C -0.23386 0.00209 -0.21025 -0.02662 -0.18802 -0.05671 C -0.179 -0.06875 -0.17118 -0.0831 -0.16146 -0.09444 C -0.1507 -0.10694 -0.13993 -0.11851 -0.12969 -0.13217 C -0.11667 -0.14953 -0.104 -0.16782 -0.08976 -0.18333 C -0.08663 -0.1868 -0.08282 -0.18865 -0.07969 -0.19213 C -0.07223 -0.20023 -0.06563 -0.21064 -0.05816 -0.21898 C -0.04393 -0.23449 -0.02917 -0.24629 -0.01476 -0.26111 C -0.01285 -0.26319 -0.01007 -0.26342 -0.00816 -0.2655 C 0.02205 -0.29791 -0.01684 -0.26273 0.01198 -0.28773 C 0.02569 -0.29953 0.03073 -0.31875 0.04687 -0.32546 C 0.08559 -0.36088 0.14392 -0.35115 0.18524 -0.35231 C 0.18073 -0.36921 0.1835 -0.35648 0.1835 -0.39213 E">
                                      <p:cBhvr>
                                        <p:cTn id="240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 rot="4365000">
            <a:off x="163440" y="853920"/>
            <a:ext cx="2119320" cy="15098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987640" y="549360"/>
            <a:ext cx="43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 надо знать наизу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03280" y="1844640"/>
            <a:ext cx="743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При сложении дробей с одинаков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знаменателями числители складыва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а знаменатель оставляют тот ж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-13141440" y="4148640"/>
            <a:ext cx="1826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При вычитании дробей с одина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32000" y="3716280"/>
            <a:ext cx="726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При вычитании дробей с одинаков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знаменателями из числителя уменьшаем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вычитают числитель вычитаем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732720" y="4869000"/>
            <a:ext cx="43308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356000" y="4869000"/>
            <a:ext cx="43344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19728" t="28341" r="16032" b="58857"/>
          <a:stretch/>
        </p:blipFill>
        <p:spPr>
          <a:xfrm>
            <a:off x="250920" y="765000"/>
            <a:ext cx="8642160" cy="1224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rcRect l="20477" t="40149" r="65813" b="26682"/>
          <a:stretch/>
        </p:blipFill>
        <p:spPr>
          <a:xfrm>
            <a:off x="250920" y="2205000"/>
            <a:ext cx="1944720" cy="35290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835280" y="1890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еши зада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rcRect l="21942" t="42122" r="72886" b="50002"/>
          <a:stretch/>
        </p:blipFill>
        <p:spPr>
          <a:xfrm>
            <a:off x="2340000" y="2205000"/>
            <a:ext cx="628560" cy="719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rcRect l="31005" t="43102" r="64569" b="49806"/>
          <a:stretch/>
        </p:blipFill>
        <p:spPr>
          <a:xfrm>
            <a:off x="2268360" y="2852640"/>
            <a:ext cx="649440" cy="6494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rcRect l="35970" t="43013" r="59607" b="50002"/>
          <a:stretch/>
        </p:blipFill>
        <p:spPr>
          <a:xfrm>
            <a:off x="2340000" y="3357720"/>
            <a:ext cx="485640" cy="5745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6"/>
          <a:srcRect l="41146" t="42122" r="55163" b="49830"/>
          <a:stretch/>
        </p:blipFill>
        <p:spPr>
          <a:xfrm>
            <a:off x="2340000" y="3933720"/>
            <a:ext cx="476280" cy="6476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7"/>
          <a:srcRect l="46517" t="42319" r="49791" b="50805"/>
          <a:stretch/>
        </p:blipFill>
        <p:spPr>
          <a:xfrm>
            <a:off x="2411280" y="4508640"/>
            <a:ext cx="433440" cy="576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8"/>
          <a:srcRect l="51305" t="42319" r="45753" b="49806"/>
          <a:stretch/>
        </p:blipFill>
        <p:spPr>
          <a:xfrm rot="201600">
            <a:off x="2340000" y="5084280"/>
            <a:ext cx="433440" cy="648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788000" y="4869000"/>
            <a:ext cx="50472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92720" y="4869000"/>
            <a:ext cx="50328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96000" y="4869000"/>
            <a:ext cx="50472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00720" y="4869000"/>
            <a:ext cx="43200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32360" y="4581360"/>
            <a:ext cx="287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429440" y="4869000"/>
            <a:ext cx="3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48120" y="486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50680" y="486900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861880" y="48690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299640" y="486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05800" y="4869000"/>
            <a:ext cx="3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284720" y="1916280"/>
            <a:ext cx="244800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4284720" y="3573000"/>
            <a:ext cx="345600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11640" y="3068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278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32360" y="256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64000" y="2276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24360" y="2060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84720" y="1773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500720" y="3716280"/>
                <a:ext cx="3981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076720" y="3716280"/>
                <a:ext cx="3747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5508720" y="3645000"/>
                <a:ext cx="42372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</m:t>
                    </m: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156360" y="3645000"/>
                <a:ext cx="3776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732720" y="3645000"/>
                <a:ext cx="3729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7308720" y="3573360"/>
                <a:ext cx="3733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 flipH="1" flipV="1">
            <a:off x="6372000" y="2204640"/>
            <a:ext cx="1152360" cy="13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5940360" y="2492280"/>
            <a:ext cx="936720" cy="115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5580000" y="2781000"/>
            <a:ext cx="72072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5219640" y="2997000"/>
            <a:ext cx="504720" cy="64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4932360" y="3213000"/>
            <a:ext cx="28728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0280"/>
            <a:ext cx="14436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9"/>
          <a:srcRect l="31707" t="25589" r="29901" b="24221"/>
          <a:stretch/>
        </p:blipFill>
        <p:spPr>
          <a:xfrm>
            <a:off x="3995640" y="1916280"/>
            <a:ext cx="3745080" cy="4032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0"/>
          <a:stretch/>
        </p:blipFill>
        <p:spPr>
          <a:xfrm>
            <a:off x="6300720" y="0"/>
            <a:ext cx="2657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rcRect l="21208" t="36221" r="43346" b="39174"/>
          <a:stretch/>
        </p:blipFill>
        <p:spPr>
          <a:xfrm>
            <a:off x="1332000" y="1268280"/>
            <a:ext cx="5904000" cy="2664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116000" y="620640"/>
            <a:ext cx="63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Реши уравнения и найди соответ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79160" y="4654440"/>
            <a:ext cx="2720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Проверь себ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cc33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- 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cc33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- 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cc33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-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cc33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- 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7138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211640" y="2781360"/>
            <a:ext cx="2219400" cy="22953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2124000" y="3860640"/>
            <a:ext cx="1335240" cy="19083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1042920" y="765000"/>
            <a:ext cx="64803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Физкультминутк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3701880" cy="4897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684360" y="189000"/>
            <a:ext cx="7777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дания из учебни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30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24000" y="2708280"/>
            <a:ext cx="1655640" cy="15127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509880" y="3718080"/>
            <a:ext cx="87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>
            <a:lum contrast="96000"/>
          </a:blip>
          <a:srcRect l="21942" t="29320" r="43361" b="61810"/>
          <a:stretch/>
        </p:blipFill>
        <p:spPr>
          <a:xfrm>
            <a:off x="1116000" y="885960"/>
            <a:ext cx="8028000" cy="9604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-585720" y="333360"/>
            <a:ext cx="87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Проверим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решение задачи № 99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rcRect l="21208" t="38195" r="22673" b="53930"/>
          <a:stretch/>
        </p:blipFill>
        <p:spPr>
          <a:xfrm>
            <a:off x="971640" y="1916280"/>
            <a:ext cx="11090160" cy="8650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rcRect l="12909" t="46272" r="13640" b="45858"/>
          <a:stretch/>
        </p:blipFill>
        <p:spPr>
          <a:xfrm>
            <a:off x="-324000" y="2852640"/>
            <a:ext cx="12169800" cy="10080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rcRect l="14567" t="53930" r="15283" b="40173"/>
          <a:stretch/>
        </p:blipFill>
        <p:spPr>
          <a:xfrm>
            <a:off x="1403280" y="4149720"/>
            <a:ext cx="1159344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29329" t="22439" r="31544" b="28341"/>
          <a:stretch/>
        </p:blipFill>
        <p:spPr>
          <a:xfrm>
            <a:off x="1763640" y="1700280"/>
            <a:ext cx="4896000" cy="4753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55640" y="62064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Психологический настрой на у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97164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Подведение итогов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5640" y="90792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Чему вы научились сегодня на уро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5640" y="162864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формулируйте правило сложения дроб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55640" y="342900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формулируйте правило вычитания дроб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5280" y="2060640"/>
            <a:ext cx="800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При сложении дробей с одинаков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знаменателями числители складыва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а знаменатель оставляют тот ж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5640" y="407664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При вычитании дробей с одинаков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знаменателями из числителя уменьшаем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вычитают числитель вычитаем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6823080" y="0"/>
            <a:ext cx="2089080" cy="22050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rcRect l="0" t="0" r="0" b="3475"/>
          <a:stretch/>
        </p:blipFill>
        <p:spPr>
          <a:xfrm>
            <a:off x="6948360" y="5157720"/>
            <a:ext cx="219564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47040" y="1264680"/>
            <a:ext cx="836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Домашнее задание:</a:t>
            </a:r>
            <a:r>
              <a:rPr b="1" i="1" lang="en-US" sz="24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0"/>
              </a:lnSpc>
              <a:buClr>
                <a:srgbClr val="006666"/>
              </a:buClr>
              <a:buFont typeface="Comic Sans MS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Выучить правила сложения и вычитания дроб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0"/>
              </a:lnSpc>
              <a:buClr>
                <a:srgbClr val="006666"/>
              </a:buClr>
              <a:buFont typeface="Comic Sans MS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№ </a:t>
            </a: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995; №9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074600" y="1052640"/>
            <a:ext cx="118764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 rot="520800">
            <a:off x="2195640" y="549360"/>
            <a:ext cx="439236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6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862440" y="3284640"/>
            <a:ext cx="24494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610" dur="2000" fill="hold"/>
                                        <p:tgtEl>
                                          <p:spTgt spid="2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6" dur="250" autoRev="1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17" dur="250" autoRev="1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8" dur="250" autoRev="1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640" y="83628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Какая часть квадрата закрашена на рисунках?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795636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12121" t="6117" r="9107" b="10214"/>
          <a:stretch/>
        </p:blipFill>
        <p:spPr>
          <a:xfrm>
            <a:off x="1403280" y="1844640"/>
            <a:ext cx="6553440" cy="295272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0" r="57932" b="0"/>
          <a:stretch/>
        </p:blipFill>
        <p:spPr>
          <a:xfrm>
            <a:off x="1908000" y="5229360"/>
            <a:ext cx="2878200" cy="130968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3132000" y="5300640"/>
            <a:ext cx="936360" cy="1150200"/>
            <a:chOff x="3132000" y="5300640"/>
            <a:chExt cx="936360" cy="1150200"/>
          </a:xfrm>
        </p:grpSpPr>
        <p:sp>
          <p:nvSpPr>
            <p:cNvPr id="58" name=""/>
            <p:cNvSpPr/>
            <p:nvPr/>
          </p:nvSpPr>
          <p:spPr>
            <a:xfrm>
              <a:off x="3302640" y="530064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32000" y="599112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36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0" y="260280"/>
            <a:ext cx="896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omic Sans MS"/>
              </a:rPr>
              <a:t>В году 365 дней. В феврале – 28 дней, а в июле 31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omic Sans MS"/>
              </a:rPr>
              <a:t>Какую часть года составляет февраль, а какую – ию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rcRect l="60031" t="0" r="16874" b="0"/>
          <a:stretch/>
        </p:blipFill>
        <p:spPr>
          <a:xfrm>
            <a:off x="4788000" y="5229360"/>
            <a:ext cx="1579320" cy="130968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4859280" y="5300640"/>
            <a:ext cx="936360" cy="1149120"/>
            <a:chOff x="4859280" y="5300640"/>
            <a:chExt cx="936360" cy="1149120"/>
          </a:xfrm>
        </p:grpSpPr>
        <p:sp>
          <p:nvSpPr>
            <p:cNvPr id="63" name=""/>
            <p:cNvSpPr/>
            <p:nvPr/>
          </p:nvSpPr>
          <p:spPr>
            <a:xfrm>
              <a:off x="5029920" y="530064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59280" y="599004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36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lum contrast="6000"/>
          </a:blip>
          <a:srcRect l="15543" t="12594" r="4630" b="7678"/>
          <a:stretch/>
        </p:blipFill>
        <p:spPr>
          <a:xfrm>
            <a:off x="826920" y="1773360"/>
            <a:ext cx="6840720" cy="273528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24000" y="5229360"/>
            <a:ext cx="6840360" cy="137304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1763640" y="537372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19280" y="5373720"/>
            <a:ext cx="792000" cy="1107360"/>
            <a:chOff x="1619280" y="5373720"/>
            <a:chExt cx="792000" cy="1107360"/>
          </a:xfrm>
        </p:grpSpPr>
        <p:sp>
          <p:nvSpPr>
            <p:cNvPr id="69" name=""/>
            <p:cNvSpPr/>
            <p:nvPr/>
          </p:nvSpPr>
          <p:spPr>
            <a:xfrm>
              <a:off x="1763640" y="5373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19280" y="602136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219640" y="5373720"/>
            <a:ext cx="792360" cy="1107360"/>
            <a:chOff x="5219640" y="5373720"/>
            <a:chExt cx="792360" cy="1107360"/>
          </a:xfrm>
        </p:grpSpPr>
        <p:sp>
          <p:nvSpPr>
            <p:cNvPr id="72" name=""/>
            <p:cNvSpPr/>
            <p:nvPr/>
          </p:nvSpPr>
          <p:spPr>
            <a:xfrm>
              <a:off x="5219640" y="602136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19640" y="537372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179280" y="333360"/>
            <a:ext cx="8785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Воронёнок спит </a:t>
            </a:r>
            <a:r>
              <a:rPr b="1" lang="en-US" sz="2800" spc="-1" strike="noStrike">
                <a:solidFill>
                  <a:srgbClr val="003300"/>
                </a:solidFill>
                <a:latin typeface="Comic Sans MS"/>
              </a:rPr>
              <a:t>9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часов в сутки, а учится </a:t>
            </a:r>
            <a:r>
              <a:rPr b="1" lang="en-US" sz="2800" spc="-1" strike="noStrike">
                <a:solidFill>
                  <a:srgbClr val="0033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ча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Какую часть суток он спит, а какую – учи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6668" t="7856" r="8338" b="4135"/>
          <a:stretch/>
        </p:blipFill>
        <p:spPr>
          <a:xfrm>
            <a:off x="611280" y="1557360"/>
            <a:ext cx="7345440" cy="324000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2"/>
          <a:srcRect l="2130" t="0" r="0" b="0"/>
          <a:stretch/>
        </p:blipFill>
        <p:spPr>
          <a:xfrm>
            <a:off x="324000" y="5157720"/>
            <a:ext cx="6841800" cy="133524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grpSp>
        <p:nvGrpSpPr>
          <p:cNvPr id="77" name=""/>
          <p:cNvGrpSpPr/>
          <p:nvPr/>
        </p:nvGrpSpPr>
        <p:grpSpPr>
          <a:xfrm>
            <a:off x="1547640" y="5300640"/>
            <a:ext cx="934920" cy="1066680"/>
            <a:chOff x="1547640" y="5300640"/>
            <a:chExt cx="934920" cy="1066680"/>
          </a:xfrm>
        </p:grpSpPr>
        <p:sp>
          <p:nvSpPr>
            <p:cNvPr id="78" name=""/>
            <p:cNvSpPr/>
            <p:nvPr/>
          </p:nvSpPr>
          <p:spPr>
            <a:xfrm>
              <a:off x="1717920" y="5300640"/>
              <a:ext cx="59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47640" y="590760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468360" y="26028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Длина пойманной воронятами змеи 60 см. 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Какую часть метра составляет длина зме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4169" t="5750" r="6689" b="4143"/>
          <a:stretch/>
        </p:blipFill>
        <p:spPr>
          <a:xfrm>
            <a:off x="539640" y="1557360"/>
            <a:ext cx="7704360" cy="338436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50920" y="5229360"/>
            <a:ext cx="6842160" cy="140004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grpSp>
        <p:nvGrpSpPr>
          <p:cNvPr id="83" name=""/>
          <p:cNvGrpSpPr/>
          <p:nvPr/>
        </p:nvGrpSpPr>
        <p:grpSpPr>
          <a:xfrm>
            <a:off x="1476360" y="5373720"/>
            <a:ext cx="1223640" cy="1107360"/>
            <a:chOff x="1476360" y="5373720"/>
            <a:chExt cx="1223640" cy="1107360"/>
          </a:xfrm>
        </p:grpSpPr>
        <p:sp>
          <p:nvSpPr>
            <p:cNvPr id="84" name=""/>
            <p:cNvSpPr/>
            <p:nvPr/>
          </p:nvSpPr>
          <p:spPr>
            <a:xfrm>
              <a:off x="1699200" y="5373720"/>
              <a:ext cx="77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76360" y="6021360"/>
              <a:ext cx="12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79280" y="260280"/>
            <a:ext cx="864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omic Sans MS"/>
              </a:rPr>
              <a:t>Вес одного яблока 200 грам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omic Sans MS"/>
              </a:rPr>
              <a:t>Какую часть килограмма весит  это яблок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488000" cy="316836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20" y="5300640"/>
            <a:ext cx="6842160" cy="129528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grpSp>
        <p:nvGrpSpPr>
          <p:cNvPr id="89" name=""/>
          <p:cNvGrpSpPr/>
          <p:nvPr/>
        </p:nvGrpSpPr>
        <p:grpSpPr>
          <a:xfrm>
            <a:off x="1476360" y="5373720"/>
            <a:ext cx="1080720" cy="1108800"/>
            <a:chOff x="1476360" y="5373720"/>
            <a:chExt cx="1080720" cy="1108800"/>
          </a:xfrm>
        </p:grpSpPr>
        <p:sp>
          <p:nvSpPr>
            <p:cNvPr id="90" name=""/>
            <p:cNvSpPr/>
            <p:nvPr/>
          </p:nvSpPr>
          <p:spPr>
            <a:xfrm>
              <a:off x="1673280" y="5373720"/>
              <a:ext cx="68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76360" y="6022800"/>
              <a:ext cx="108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076720" y="5373720"/>
            <a:ext cx="936360" cy="1107360"/>
            <a:chOff x="5076720" y="5373720"/>
            <a:chExt cx="936360" cy="1107360"/>
          </a:xfrm>
        </p:grpSpPr>
        <p:sp>
          <p:nvSpPr>
            <p:cNvPr id="93" name=""/>
            <p:cNvSpPr/>
            <p:nvPr/>
          </p:nvSpPr>
          <p:spPr>
            <a:xfrm>
              <a:off x="5247360" y="537372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076720" y="602136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79280" y="189000"/>
            <a:ext cx="896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Воронёнок гулял один ч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15 минут он ловил бабочек, а остальные 45 минут учился ле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Какую часть часа воронёнок ловил бабочек, а какую – учился лет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Каждый может за версту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Видеть дробную черту.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Над чертой – _________, знайте,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Под чертою – __________.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Дробь такую, непременно, 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Надо звать </a:t>
            </a:r>
            <a:r>
              <a:rPr b="0" lang="en-US" sz="2800" spc="-1" strike="noStrike" u="sng">
                <a:solidFill>
                  <a:srgbClr val="003300"/>
                </a:solidFill>
                <a:uFillTx/>
                <a:latin typeface="Comic Sans MS"/>
              </a:rPr>
              <a:t>____________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Число, которое показывает, на сколько равных частей разделили целое, называется ________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Число, которое показывает, сколько равных частей взято, называется _________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4356000" y="1341360"/>
            <a:ext cx="18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числ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177336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знамен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27640" y="263700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обыкнов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00360" y="4508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знамен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19640" y="5373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числ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0" b="3475"/>
          <a:stretch/>
        </p:blipFill>
        <p:spPr>
          <a:xfrm>
            <a:off x="250920" y="333360"/>
            <a:ext cx="19447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48:50Z</dcterms:created>
  <dc:creator>Anna</dc:creator>
  <dc:description/>
  <dc:language>en-US</dc:language>
  <cp:lastModifiedBy>LAN_OS</cp:lastModifiedBy>
  <dcterms:modified xsi:type="dcterms:W3CDTF">2012-08-03T18:09:29Z</dcterms:modified>
  <cp:revision>117</cp:revision>
  <dc:subject/>
  <dc:title>Слайд 1</dc:title>
</cp:coreProperties>
</file>