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32.gif" ContentType="image/gi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20.gif" ContentType="image/gif"/>
  <Override PartName="/ppt/media/image13.png" ContentType="image/png"/>
  <Override PartName="/ppt/media/image16.png" ContentType="image/png"/>
  <Override PartName="/ppt/media/image10.png" ContentType="image/png"/>
  <Override PartName="/ppt/media/image29.gif" ContentType="image/gif"/>
  <Override PartName="/ppt/media/image9.png" ContentType="image/png"/>
  <Override PartName="/ppt/media/image31.gif" ContentType="image/gif"/>
  <Override PartName="/ppt/media/image17.wmf" ContentType="image/x-wmf"/>
  <Override PartName="/ppt/media/image11.png" ContentType="image/png"/>
  <Override PartName="/ppt/media/image14.png" ContentType="image/png"/>
  <Override PartName="/ppt/media/image34.wmf" ContentType="image/x-wmf"/>
  <Override PartName="/ppt/media/image38.gif" ContentType="image/gi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9.gif" ContentType="image/gif"/>
  <Override PartName="/ppt/media/applause.wav" ContentType="audio/x-wav"/>
  <Override PartName="/ppt/media/image5.png" ContentType="image/png"/>
  <Override PartName="/ppt/media/image8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drumroll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8.png" ContentType="image/png"/>
  <Override PartName="/ppt/media/image35.gif" ContentType="image/gif"/>
  <Override PartName="/ppt/media/image1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2232-023E-4069-836B-488807D20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едыдущих уроках  мы познакомились с обыкновенными дроб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3.jpeg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image" Target="../media/image23.wmf"/><Relationship Id="rId16" Type="http://schemas.openxmlformats.org/officeDocument/2006/relationships/image" Target="../media/image23.wmf"/><Relationship Id="rId17" Type="http://schemas.openxmlformats.org/officeDocument/2006/relationships/image" Target="../media/image23.wmf"/><Relationship Id="rId18" Type="http://schemas.openxmlformats.org/officeDocument/2006/relationships/image" Target="../media/image23.wmf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9640" y="836640"/>
            <a:ext cx="7775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ение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ние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обей с одинаковым знаменателем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084720" y="1197000"/>
            <a:ext cx="254484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5516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Учитель Барышева О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8560" cy="189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03640" y="260280"/>
            <a:ext cx="68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дроби называются правильными, а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Какие из данных  дробей  являются правильными? Какие не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59280" y="1700280"/>
            <a:ext cx="4249080" cy="891360"/>
            <a:chOff x="3059280" y="1700280"/>
            <a:chExt cx="4249080" cy="891360"/>
          </a:xfrm>
        </p:grpSpPr>
        <p:grpSp>
          <p:nvGrpSpPr>
            <p:cNvPr id="106" name=""/>
            <p:cNvGrpSpPr/>
            <p:nvPr/>
          </p:nvGrpSpPr>
          <p:grpSpPr>
            <a:xfrm>
              <a:off x="3778200" y="1700280"/>
              <a:ext cx="1080720" cy="891360"/>
              <a:chOff x="3778200" y="1700280"/>
              <a:chExt cx="1080720" cy="891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920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78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5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70200" y="1700280"/>
              <a:ext cx="1080720" cy="891360"/>
              <a:chOff x="4570200" y="1700280"/>
              <a:chExt cx="1080720" cy="891360"/>
            </a:xfrm>
          </p:grpSpPr>
          <p:sp>
            <p:nvSpPr>
              <p:cNvPr id="111" name=""/>
              <p:cNvSpPr/>
              <p:nvPr/>
            </p:nvSpPr>
            <p:spPr>
              <a:xfrm>
                <a:off x="471276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020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5712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35640" y="1700280"/>
              <a:ext cx="1080720" cy="891360"/>
              <a:chOff x="5435640" y="1700280"/>
              <a:chExt cx="1080720" cy="891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578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35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22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059280" y="1700280"/>
              <a:ext cx="1080720" cy="891360"/>
              <a:chOff x="3059280" y="1700280"/>
              <a:chExt cx="1080720" cy="89136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184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5928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4620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27640" y="1700280"/>
              <a:ext cx="1080720" cy="891360"/>
              <a:chOff x="6227640" y="1700280"/>
              <a:chExt cx="1080720" cy="891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370200" y="1700280"/>
                <a:ext cx="76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27640" y="2131920"/>
                <a:ext cx="108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514560" y="2131920"/>
                <a:ext cx="50436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2"/>
          <a:srcRect l="19923" t="45140" r="71959" b="49614"/>
          <a:stretch/>
        </p:blipFill>
        <p:spPr>
          <a:xfrm>
            <a:off x="2124000" y="3860640"/>
            <a:ext cx="1214640" cy="5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70828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082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7800">
            <a:off x="2411280" y="2562480"/>
            <a:ext cx="56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0,5,12,10,6,3,1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 выбери те, при которых дроби будут 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3357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Х=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393372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19728" t="39528" r="71405" b="54929"/>
          <a:stretch/>
        </p:blipFill>
        <p:spPr>
          <a:xfrm>
            <a:off x="2124000" y="573408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31040" y="4292640"/>
            <a:ext cx="1812960" cy="23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00720" y="5084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5805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3429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88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33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rcRect l="19923" t="38588" r="71959" b="54851"/>
          <a:stretch/>
        </p:blipFill>
        <p:spPr>
          <a:xfrm>
            <a:off x="2124000" y="30686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4364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39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rcRect l="19728" t="33273" r="71405" b="60476"/>
          <a:stretch/>
        </p:blipFill>
        <p:spPr>
          <a:xfrm>
            <a:off x="2124000" y="4941720"/>
            <a:ext cx="1224000" cy="6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084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5084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580536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5805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3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Из чисе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99ff"/>
                </a:solidFill>
                <a:latin typeface="Comic Sans MS"/>
              </a:rPr>
              <a:t>5; 9; 3; 1; 2; 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выберите те, при которых дроби будут неправиль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11126880" cy="68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12688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124000" y="2060640"/>
            <a:ext cx="5327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ложение и вычитание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с рав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2280" y="15573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753080" cy="271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1987560" cy="1923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0" r="64149" b="36845"/>
          <a:stretch/>
        </p:blipFill>
        <p:spPr>
          <a:xfrm rot="17623200">
            <a:off x="1207800" y="3048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rcRect l="0" t="0" r="64149" b="36845"/>
          <a:stretch/>
        </p:blipFill>
        <p:spPr>
          <a:xfrm rot="17884200">
            <a:off x="300852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64149" b="36845"/>
          <a:stretch/>
        </p:blipFill>
        <p:spPr>
          <a:xfrm rot="12921000">
            <a:off x="1692360" y="3789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0" t="0" r="64149" b="36845"/>
          <a:stretch/>
        </p:blipFill>
        <p:spPr>
          <a:xfrm rot="16200000">
            <a:off x="2144880" y="27590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rcRect l="0" t="0" r="64149" b="36845"/>
          <a:stretch/>
        </p:blipFill>
        <p:spPr>
          <a:xfrm rot="1617000">
            <a:off x="3708360" y="2781000"/>
            <a:ext cx="1201680" cy="1270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64149" b="36845"/>
          <a:stretch/>
        </p:blipFill>
        <p:spPr>
          <a:xfrm rot="18096600">
            <a:off x="2865240" y="405612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0" t="0" r="64149" b="36845"/>
          <a:stretch/>
        </p:blipFill>
        <p:spPr>
          <a:xfrm rot="20096400">
            <a:off x="2484000" y="29973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64149" b="36845"/>
          <a:stretch/>
        </p:blipFill>
        <p:spPr>
          <a:xfrm rot="3319200">
            <a:off x="3152520" y="297468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64149" b="36845"/>
          <a:stretch/>
        </p:blipFill>
        <p:spPr>
          <a:xfrm>
            <a:off x="2556000" y="400536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rcRect l="0" t="0" r="0" b="3475"/>
          <a:stretch/>
        </p:blipFill>
        <p:spPr>
          <a:xfrm rot="2296200">
            <a:off x="5796000" y="765000"/>
            <a:ext cx="2735280" cy="232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rcRect l="0" t="0" r="64149" b="36845"/>
          <a:stretch/>
        </p:blipFill>
        <p:spPr>
          <a:xfrm rot="18919200">
            <a:off x="2771280" y="2349000"/>
            <a:ext cx="1295640" cy="117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rcRect l="0" t="0" r="64149" b="36845"/>
          <a:stretch/>
        </p:blipFill>
        <p:spPr>
          <a:xfrm rot="280800">
            <a:off x="1834920" y="306864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rcRect l="0" t="0" r="64149" b="36845"/>
          <a:stretch/>
        </p:blipFill>
        <p:spPr>
          <a:xfrm rot="14696400">
            <a:off x="991800" y="3623760"/>
            <a:ext cx="110988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rcRect l="0" t="0" r="64149" b="36845"/>
          <a:stretch/>
        </p:blipFill>
        <p:spPr>
          <a:xfrm rot="1341000">
            <a:off x="3924000" y="3573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rcRect l="0" t="0" r="64149" b="36845"/>
          <a:stretch/>
        </p:blipFill>
        <p:spPr>
          <a:xfrm rot="20660400">
            <a:off x="1692000" y="4221000"/>
            <a:ext cx="110952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96720" y="474840"/>
            <a:ext cx="1357200" cy="1016280"/>
            <a:chOff x="396720" y="474840"/>
            <a:chExt cx="1357200" cy="1016280"/>
          </a:xfrm>
        </p:grpSpPr>
        <p:sp>
          <p:nvSpPr>
            <p:cNvPr id="174" name=""/>
            <p:cNvSpPr/>
            <p:nvPr/>
          </p:nvSpPr>
          <p:spPr>
            <a:xfrm>
              <a:off x="576000" y="4748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720" y="10314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440" y="1031400"/>
              <a:ext cx="633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0508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3640" y="403200"/>
            <a:ext cx="1428480" cy="1100880"/>
            <a:chOff x="1763640" y="403200"/>
            <a:chExt cx="1428480" cy="1100880"/>
          </a:xfrm>
        </p:grpSpPr>
        <p:sp>
          <p:nvSpPr>
            <p:cNvPr id="179" name=""/>
            <p:cNvSpPr/>
            <p:nvPr/>
          </p:nvSpPr>
          <p:spPr>
            <a:xfrm>
              <a:off x="1952280" y="4032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3640" y="104436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43080" y="104436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76720" y="404640"/>
            <a:ext cx="1799640" cy="1100880"/>
            <a:chOff x="3276720" y="404640"/>
            <a:chExt cx="1799640" cy="1100880"/>
          </a:xfrm>
        </p:grpSpPr>
        <p:sp>
          <p:nvSpPr>
            <p:cNvPr id="183" name=""/>
            <p:cNvSpPr/>
            <p:nvPr/>
          </p:nvSpPr>
          <p:spPr>
            <a:xfrm>
              <a:off x="3514320" y="404640"/>
              <a:ext cx="12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1045800"/>
              <a:ext cx="179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54800" y="1045800"/>
              <a:ext cx="840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16360" y="6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rcRect l="0" t="0" r="64149" b="36845"/>
          <a:stretch/>
        </p:blipFill>
        <p:spPr>
          <a:xfrm rot="1341000">
            <a:off x="3419280" y="4005000"/>
            <a:ext cx="110952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rcRect l="0" t="0" r="64149" b="36845"/>
          <a:stretch/>
        </p:blipFill>
        <p:spPr>
          <a:xfrm rot="18569400">
            <a:off x="2360520" y="3911040"/>
            <a:ext cx="11098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2700360" y="5587920"/>
            <a:ext cx="1356840" cy="1016280"/>
            <a:chOff x="2700360" y="5587920"/>
            <a:chExt cx="1356840" cy="1016280"/>
          </a:xfrm>
        </p:grpSpPr>
        <p:sp>
          <p:nvSpPr>
            <p:cNvPr id="190" name=""/>
            <p:cNvSpPr/>
            <p:nvPr/>
          </p:nvSpPr>
          <p:spPr>
            <a:xfrm>
              <a:off x="2879640" y="55879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0360" y="61444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0720" y="6144480"/>
              <a:ext cx="633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836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7280" y="5516640"/>
            <a:ext cx="1428120" cy="1100880"/>
            <a:chOff x="4067280" y="5516640"/>
            <a:chExt cx="1428120" cy="1100880"/>
          </a:xfrm>
        </p:grpSpPr>
        <p:sp>
          <p:nvSpPr>
            <p:cNvPr id="195" name=""/>
            <p:cNvSpPr/>
            <p:nvPr/>
          </p:nvSpPr>
          <p:spPr>
            <a:xfrm>
              <a:off x="4255920" y="5516640"/>
              <a:ext cx="100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7280" y="6157800"/>
              <a:ext cx="14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4672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92720" y="5516640"/>
            <a:ext cx="1510920" cy="1100880"/>
            <a:chOff x="5292720" y="5516640"/>
            <a:chExt cx="1510920" cy="1100880"/>
          </a:xfrm>
        </p:grpSpPr>
        <p:sp>
          <p:nvSpPr>
            <p:cNvPr id="199" name=""/>
            <p:cNvSpPr/>
            <p:nvPr/>
          </p:nvSpPr>
          <p:spPr>
            <a:xfrm>
              <a:off x="5492160" y="5516640"/>
              <a:ext cx="10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6157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94120" y="6157800"/>
              <a:ext cx="7052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00364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0" y="404640"/>
            <a:ext cx="1788840" cy="1100880"/>
            <a:chOff x="4572000" y="404640"/>
            <a:chExt cx="1788840" cy="1100880"/>
          </a:xfrm>
        </p:grpSpPr>
        <p:grpSp>
          <p:nvGrpSpPr>
            <p:cNvPr id="204" name=""/>
            <p:cNvGrpSpPr/>
            <p:nvPr/>
          </p:nvGrpSpPr>
          <p:grpSpPr>
            <a:xfrm>
              <a:off x="4932360" y="404640"/>
              <a:ext cx="1428480" cy="1100880"/>
              <a:chOff x="4932360" y="404640"/>
              <a:chExt cx="1428480" cy="110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5121000" y="404640"/>
                <a:ext cx="100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32360" y="1045800"/>
                <a:ext cx="142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Comic Sans MS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11800" y="1045800"/>
                <a:ext cx="666720" cy="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572000" y="692280"/>
              <a:ext cx="6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516640"/>
            <a:ext cx="1428480" cy="1100880"/>
            <a:chOff x="6516720" y="5516640"/>
            <a:chExt cx="1428480" cy="1100880"/>
          </a:xfrm>
        </p:grpSpPr>
        <p:sp>
          <p:nvSpPr>
            <p:cNvPr id="210" name=""/>
            <p:cNvSpPr/>
            <p:nvPr/>
          </p:nvSpPr>
          <p:spPr>
            <a:xfrm>
              <a:off x="6705360" y="5516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6720" y="61578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6160" y="6157800"/>
              <a:ext cx="6667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300720" y="58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70828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конф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6088 C -0.00417 -0.09329 0.03906 -0.12569 0.05937 -0.13194 C 0.07969 -0.13819 0.07187 -0.11111 0.0743 -0.09861 C 0.07673 -0.08611 0.07378 -0.06921 0.0743 -0.05625 C 0.07482 -0.04329 0.07309 -0.03449 0.07778 -0.02083 C 0.08246 -0.00718 0.09253 0.02107 0.10278 0.02593 C 0.11302 0.03079 0.12917 0.01667 0.13941 0.0081 C 0.14965 -0.00046 0.15226 -0.01852 0.16441 -0.02523 C 0.17656 -0.03194 0.20052 -0.03935 0.21267 -0.03194 C 0.22482 -0.02454 0.23177 0.00116 0.23767 0.01921 C 0.24357 0.03727 0.24028 0.05741 0.24774 0.07708 C 0.25521 0.09676 0.26701 0.12708 0.28264 0.13704 C 0.29826 0.14699 0.32951 0.13889 0.34097 0.13704 C 0.35243 0.13519 0.34132 0.13773 0.35104 0.12593 C 0.36076 0.11412 0.3901 0.07755 0.3993 0.06597 C 0.40851 0.0544 0.40069 0.06042 0.40607 0.05695 C 0.41146 0.05347 0.42413 0.03912 0.43107 0.04583 C 0.43802 0.05255 0.44305 0.09282 0.44774 0.09699 C 0.45243 0.10116 0.4559 0.08565 0.45937 0.07037 E">
                                      <p:cBhvr>
                                        <p:cTn id="222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05 -0.08009 C 0.14011 -0.1125 0.18334 -0.1449 0.20365 -0.15115 C 0.22396 -0.1574 0.21615 -0.13032 0.21858 -0.11782 C 0.22101 -0.10532 0.21806 -0.08842 0.21858 -0.07546 C 0.2191 -0.0625 0.21737 -0.0537 0.22205 -0.04004 C 0.22674 -0.02639 0.23681 0.00186 0.24705 0.00672 C 0.2573 0.01158 0.27344 -0.00254 0.28369 -0.01111 C 0.29393 -0.01967 0.29653 -0.03773 0.30869 -0.04444 C 0.32084 -0.05115 0.3448 -0.05856 0.35695 -0.05115 C 0.3691 -0.04375 0.37605 -0.01805 0.38195 -3.33333E-006 C 0.38785 0.01806 0.38455 0.0382 0.39202 0.05787 C 0.39948 0.07755 0.41129 0.10787 0.42691 0.11783 C 0.44254 0.12778 0.47379 0.11968 0.48525 0.11783 C 0.49671 0.11598 0.4856 0.11852 0.49532 0.10672 C 0.50504 0.09491 0.53438 0.05834 0.54358 0.04676 C 0.55278 0.03519 0.54497 0.04121 0.55035 0.03773 C 0.55573 0.03426 0.56841 0.01991 0.57535 0.02662 C 0.5823 0.03334 0.58733 0.07361 0.59202 0.07778 C 0.59671 0.08195 0.60018 0.06644 0.60365 0.05116 E">
                                      <p:cBhvr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C 0.00382 -0.01042 0.00729 -0.0213 0.01163 -0.03125 C 0.01336 -0.03542 0.01666 -0.0382 0.0184 -0.04236 C 0.01944 -0.04491 0.01909 -0.04838 0.01996 -0.05116 C 0.02291 -0.06158 0.02291 -0.05787 0.02673 -0.06667 C 0.03055 -0.07547 0.03229 -0.08496 0.03663 -0.09329 C 0.03889 -0.1132 0.04062 -0.11042 0.0467 -0.12662 C 0.05 -0.14607 0.06146 -0.16042 0.06996 -0.1757 C 0.07743 -0.18935 0.06909 -0.17986 0.07673 -0.19121 C 0.07986 -0.19584 0.08402 -0.19931 0.08663 -0.2044 C 0.09809 -0.22778 0.11163 -0.25185 0.12673 -0.27107 C 0.12951 -0.2831 0.12673 -0.27431 0.13507 -0.28889 C 0.1401 -0.29792 0.14461 -0.31158 0.15173 -0.31783 C 0.15399 -0.32523 0.15607 -0.33403 0.16007 -0.34005 C 0.1625 -0.34352 0.1658 -0.34584 0.1684 -0.34885 C 0.17014 -0.35093 0.1717 -0.35324 0.17326 -0.35556 C 0.18125 -0.36829 0.17465 -0.36135 0.18333 -0.36898 C 0.18941 -0.38125 0.19288 -0.38681 0.20173 -0.3956 C 0.21198 -0.41644 0.23107 -0.3956 0.2434 -0.38889 C 0.24722 -0.38681 0.25121 -0.38658 0.25503 -0.38449 C 0.25972 -0.38195 0.26389 -0.37871 0.2684 -0.3757 C 0.27604 -0.3706 0.30573 -0.36597 0.31336 -0.36459 C 0.32378 -0.36273 0.33316 -0.35625 0.3434 -0.35347 C 0.36371 -0.34815 0.36996 -0.34954 0.39826 -0.34676 C 0.40764 -0.34422 0.41527 -0.33773 0.425 -0.33773 E">
                                      <p:cBhvr>
                                        <p:cTn id="2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C 0.00608 -0.01643 0.01007 -0.03796 0.01997 -0.05115 C 0.03386 -0.06967 0.04966 -0.08564 0.06493 -0.10208 C 0.07657 -0.11435 0.09045 -0.12245 0.10157 -0.13541 C 0.11962 -0.15671 0.13594 -0.16643 0.15486 -0.18449 C 0.17396 -0.20277 0.15573 -0.18958 0.175 -0.20208 C 0.18073 -0.21018 0.18681 -0.2118 0.19323 -0.21782 C 0.19966 -0.22384 0.20486 -0.23217 0.21163 -0.23773 C 0.229 -0.25231 0.22066 -0.24467 0.23663 -0.25995 C 0.2533 -0.25532 0.25469 -0.2655 0.26823 -0.27546 C 0.27084 -0.27731 0.28334 -0.27963 0.2849 -0.27986 C 0.29236 -0.28333 0.29913 -0.28796 0.3066 -0.29097 C 0.30834 -0.29259 0.30973 -0.29444 0.31163 -0.2956 C 0.3132 -0.29675 0.31528 -0.29629 0.31667 -0.29768 C 0.31858 -0.2993 0.31962 -0.30254 0.32153 -0.30439 C 0.3257 -0.30856 0.33038 -0.3118 0.3349 -0.3155 C 0.34219 -0.32152 0.36077 -0.32476 0.36823 -0.32662 C 0.38038 -0.32963 0.3908 -0.33333 0.4033 -0.33333 E">
                                      <p:cBhvr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0.03889 C -0.25695 0.0345 -0.25591 0.02987 -0.25469 0.02547 C -0.25417 0.02315 -0.25764 0.0338 -0.25643 0.03218 C -0.23386 0.00209 -0.21025 -0.02662 -0.18802 -0.05671 C -0.179 -0.06875 -0.17118 -0.0831 -0.16146 -0.09444 C -0.1507 -0.10694 -0.13993 -0.11851 -0.12969 -0.13217 C -0.11667 -0.14953 -0.104 -0.16782 -0.08976 -0.18333 C -0.08663 -0.1868 -0.08282 -0.18865 -0.07969 -0.19213 C -0.07223 -0.20023 -0.06563 -0.21064 -0.05816 -0.21898 C -0.04393 -0.23449 -0.02917 -0.24629 -0.01476 -0.26111 C -0.01285 -0.26319 -0.01007 -0.26342 -0.00816 -0.2655 C 0.02205 -0.29791 -0.01684 -0.26273 0.01198 -0.28773 C 0.02569 -0.29953 0.03073 -0.31875 0.04687 -0.32546 C 0.08559 -0.36088 0.14392 -0.35115 0.18524 -0.35231 C 0.18073 -0.36921 0.1835 -0.35648 0.1835 -0.39213 E">
                                      <p:cBhvr>
                                        <p:cTn id="24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rot="4365000">
            <a:off x="163440" y="853920"/>
            <a:ext cx="2119320" cy="1509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87640" y="549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надо знать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1844640"/>
            <a:ext cx="743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3141440" y="4148640"/>
            <a:ext cx="182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 вычитании дробей с оди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371628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732720" y="4869000"/>
            <a:ext cx="4330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4869000"/>
            <a:ext cx="43344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19728" t="28341" r="16032" b="58857"/>
          <a:stretch/>
        </p:blipFill>
        <p:spPr>
          <a:xfrm>
            <a:off x="250920" y="765000"/>
            <a:ext cx="864216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20477" t="40149" r="65813" b="26682"/>
          <a:stretch/>
        </p:blipFill>
        <p:spPr>
          <a:xfrm>
            <a:off x="250920" y="2205000"/>
            <a:ext cx="1944720" cy="3529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35280" y="189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21942" t="42122" r="72886" b="50002"/>
          <a:stretch/>
        </p:blipFill>
        <p:spPr>
          <a:xfrm>
            <a:off x="2340000" y="2205000"/>
            <a:ext cx="62856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31005" t="43102" r="64569" b="49806"/>
          <a:stretch/>
        </p:blipFill>
        <p:spPr>
          <a:xfrm>
            <a:off x="2268360" y="285264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rcRect l="35970" t="43013" r="59607" b="50002"/>
          <a:stretch/>
        </p:blipFill>
        <p:spPr>
          <a:xfrm>
            <a:off x="2340000" y="3357720"/>
            <a:ext cx="485640" cy="57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rcRect l="41146" t="42122" r="55163" b="49830"/>
          <a:stretch/>
        </p:blipFill>
        <p:spPr>
          <a:xfrm>
            <a:off x="2340000" y="3933720"/>
            <a:ext cx="476280" cy="64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rcRect l="46517" t="42319" r="49791" b="50805"/>
          <a:stretch/>
        </p:blipFill>
        <p:spPr>
          <a:xfrm>
            <a:off x="2411280" y="4508640"/>
            <a:ext cx="433440" cy="57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rcRect l="51305" t="42319" r="45753" b="49806"/>
          <a:stretch/>
        </p:blipFill>
        <p:spPr>
          <a:xfrm rot="201600">
            <a:off x="2340000" y="5084280"/>
            <a:ext cx="433440" cy="64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788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869000"/>
            <a:ext cx="50328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69000"/>
            <a:ext cx="50472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0720" y="4869000"/>
            <a:ext cx="432000" cy="43164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4581360"/>
            <a:ext cx="28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944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4812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50680" y="4869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1880" y="486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9964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5800" y="4869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4720" y="1916280"/>
            <a:ext cx="244800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284720" y="3573000"/>
            <a:ext cx="345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5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4000" y="227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20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00720" y="3716280"/>
                <a:ext cx="398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3716280"/>
                <a:ext cx="374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08720" y="3645000"/>
                <a:ext cx="4237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56360" y="3645000"/>
                <a:ext cx="37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732720" y="3645000"/>
                <a:ext cx="372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308720" y="3573360"/>
                <a:ext cx="373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 flipV="1">
            <a:off x="6372000" y="2204640"/>
            <a:ext cx="115236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940360" y="2492280"/>
            <a:ext cx="93672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580000" y="2781000"/>
            <a:ext cx="72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219640" y="2997000"/>
            <a:ext cx="5047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932360" y="3213000"/>
            <a:ext cx="28728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0280"/>
            <a:ext cx="144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9"/>
          <a:srcRect l="31707" t="25589" r="29901" b="24221"/>
          <a:stretch/>
        </p:blipFill>
        <p:spPr>
          <a:xfrm>
            <a:off x="3995640" y="1916280"/>
            <a:ext cx="3745080" cy="403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6300720" y="0"/>
            <a:ext cx="2657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21208" t="36221" r="43346" b="39174"/>
          <a:stretch/>
        </p:blipFill>
        <p:spPr>
          <a:xfrm>
            <a:off x="1332000" y="1268280"/>
            <a:ext cx="5904000" cy="2664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62064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и уравнения и найди соответ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9160" y="4654440"/>
            <a:ext cx="27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верь себ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cc3300"/>
              </a:buClr>
              <a:buFont typeface="Comic Sans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- 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211640" y="2781360"/>
            <a:ext cx="2219400" cy="2295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1335240" cy="1908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042920" y="765000"/>
            <a:ext cx="64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701880" cy="4897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ния из учебн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1655640" cy="1512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509880" y="3718080"/>
            <a:ext cx="8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>
            <a:lum contrast="96000"/>
          </a:blip>
          <a:srcRect l="21942" t="29320" r="43361" b="61810"/>
          <a:stretch/>
        </p:blipFill>
        <p:spPr>
          <a:xfrm>
            <a:off x="1116000" y="885960"/>
            <a:ext cx="8028000" cy="960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-585720" y="333360"/>
            <a:ext cx="87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овер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шение задачи № 9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rcRect l="21208" t="38195" r="22673" b="53930"/>
          <a:stretch/>
        </p:blipFill>
        <p:spPr>
          <a:xfrm>
            <a:off x="971640" y="1916280"/>
            <a:ext cx="11090160" cy="865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rcRect l="12909" t="46272" r="13640" b="45858"/>
          <a:stretch/>
        </p:blipFill>
        <p:spPr>
          <a:xfrm>
            <a:off x="-324000" y="2852640"/>
            <a:ext cx="12169800" cy="100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rcRect l="14567" t="53930" r="15283" b="40173"/>
          <a:stretch/>
        </p:blipFill>
        <p:spPr>
          <a:xfrm>
            <a:off x="1403280" y="4149720"/>
            <a:ext cx="115934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9329" t="22439" r="31544" b="28341"/>
          <a:stretch/>
        </p:blipFill>
        <p:spPr>
          <a:xfrm>
            <a:off x="1763640" y="1700280"/>
            <a:ext cx="489600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62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Психологический настрой на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9079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вы научились сегодня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628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сложе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3429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равило вычитания 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2060640"/>
            <a:ext cx="800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При сложении дробей с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знаменателями числители склад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а знаменатель оставляют тот 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4076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При вычитании дробей с одинак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знаменателями из числителя уменьш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вычитают числитель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23080" y="0"/>
            <a:ext cx="2089080" cy="2205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948360" y="5157720"/>
            <a:ext cx="21956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47040" y="1264680"/>
            <a:ext cx="836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Домашнее задание:</a:t>
            </a:r>
            <a:r>
              <a:rPr b="1" i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Выучить правила сложения и вычитания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buClr>
                <a:srgbClr val="006666"/>
              </a:buClr>
              <a:buFont typeface="Comic Sans MS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№ </a:t>
            </a: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995; №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74600" y="1052640"/>
            <a:ext cx="1187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 rot="520800">
            <a:off x="2195640" y="549360"/>
            <a:ext cx="439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62440" y="3284640"/>
            <a:ext cx="2449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Какая часть квадрата закрашена на рисунках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2121" t="6117" r="9107" b="10214"/>
          <a:stretch/>
        </p:blipFill>
        <p:spPr>
          <a:xfrm>
            <a:off x="1403280" y="1844640"/>
            <a:ext cx="6553440" cy="295272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57932" b="0"/>
          <a:stretch/>
        </p:blipFill>
        <p:spPr>
          <a:xfrm>
            <a:off x="1908000" y="5229360"/>
            <a:ext cx="2878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132000" y="5300640"/>
            <a:ext cx="936360" cy="1150200"/>
            <a:chOff x="3132000" y="5300640"/>
            <a:chExt cx="936360" cy="1150200"/>
          </a:xfrm>
        </p:grpSpPr>
        <p:sp>
          <p:nvSpPr>
            <p:cNvPr id="58" name=""/>
            <p:cNvSpPr/>
            <p:nvPr/>
          </p:nvSpPr>
          <p:spPr>
            <a:xfrm>
              <a:off x="330264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2000" y="599112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6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 году 365 дней. В феврале – 28 дней, а в июле 3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года составляет февраль, а какую – ию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0031" t="0" r="16874" b="0"/>
          <a:stretch/>
        </p:blipFill>
        <p:spPr>
          <a:xfrm>
            <a:off x="4788000" y="5229360"/>
            <a:ext cx="15793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4859280" y="5300640"/>
            <a:ext cx="936360" cy="1149120"/>
            <a:chOff x="4859280" y="5300640"/>
            <a:chExt cx="936360" cy="1149120"/>
          </a:xfrm>
        </p:grpSpPr>
        <p:sp>
          <p:nvSpPr>
            <p:cNvPr id="63" name=""/>
            <p:cNvSpPr/>
            <p:nvPr/>
          </p:nvSpPr>
          <p:spPr>
            <a:xfrm>
              <a:off x="5029920" y="53006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59280" y="59900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36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6000"/>
          </a:blip>
          <a:srcRect l="15543" t="12594" r="4630" b="7678"/>
          <a:stretch/>
        </p:blipFill>
        <p:spPr>
          <a:xfrm>
            <a:off x="826920" y="1773360"/>
            <a:ext cx="6840720" cy="273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6840360" cy="1373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763640" y="537372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19280" y="5373720"/>
            <a:ext cx="792000" cy="1107360"/>
            <a:chOff x="1619280" y="5373720"/>
            <a:chExt cx="792000" cy="1107360"/>
          </a:xfrm>
        </p:grpSpPr>
        <p:sp>
          <p:nvSpPr>
            <p:cNvPr id="69" name=""/>
            <p:cNvSpPr/>
            <p:nvPr/>
          </p:nvSpPr>
          <p:spPr>
            <a:xfrm>
              <a:off x="176364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6021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19640" y="5373720"/>
            <a:ext cx="792360" cy="1107360"/>
            <a:chOff x="5219640" y="5373720"/>
            <a:chExt cx="792360" cy="1107360"/>
          </a:xfrm>
        </p:grpSpPr>
        <p:sp>
          <p:nvSpPr>
            <p:cNvPr id="72" name=""/>
            <p:cNvSpPr/>
            <p:nvPr/>
          </p:nvSpPr>
          <p:spPr>
            <a:xfrm>
              <a:off x="5219640" y="602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9640" y="537372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9280" y="333360"/>
            <a:ext cx="878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оронёнок спит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 в сутки, а учится </a:t>
            </a:r>
            <a:r>
              <a:rPr b="1" lang="en-US" sz="2800" spc="-1" strike="noStrike">
                <a:solidFill>
                  <a:srgbClr val="0033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суток он спит, а какую – уч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6668" t="7856" r="8338" b="4135"/>
          <a:stretch/>
        </p:blipFill>
        <p:spPr>
          <a:xfrm>
            <a:off x="611280" y="1557360"/>
            <a:ext cx="7345440" cy="324000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rcRect l="2130" t="0" r="0" b="0"/>
          <a:stretch/>
        </p:blipFill>
        <p:spPr>
          <a:xfrm>
            <a:off x="324000" y="5157720"/>
            <a:ext cx="6841800" cy="13352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1547640" y="5300640"/>
            <a:ext cx="934920" cy="1066680"/>
            <a:chOff x="1547640" y="5300640"/>
            <a:chExt cx="934920" cy="1066680"/>
          </a:xfrm>
        </p:grpSpPr>
        <p:sp>
          <p:nvSpPr>
            <p:cNvPr id="78" name=""/>
            <p:cNvSpPr/>
            <p:nvPr/>
          </p:nvSpPr>
          <p:spPr>
            <a:xfrm>
              <a:off x="1717920" y="5300640"/>
              <a:ext cx="5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59076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68360" y="260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лина пойманной воронятами змеи 60 см.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кую часть метра составляет длина зме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169" t="5750" r="6689" b="4143"/>
          <a:stretch/>
        </p:blipFill>
        <p:spPr>
          <a:xfrm>
            <a:off x="539640" y="1557360"/>
            <a:ext cx="7704360" cy="3384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6842160" cy="140004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3" name=""/>
          <p:cNvGrpSpPr/>
          <p:nvPr/>
        </p:nvGrpSpPr>
        <p:grpSpPr>
          <a:xfrm>
            <a:off x="1476360" y="5373720"/>
            <a:ext cx="1223640" cy="1107360"/>
            <a:chOff x="1476360" y="5373720"/>
            <a:chExt cx="1223640" cy="1107360"/>
          </a:xfrm>
        </p:grpSpPr>
        <p:sp>
          <p:nvSpPr>
            <p:cNvPr id="84" name=""/>
            <p:cNvSpPr/>
            <p:nvPr/>
          </p:nvSpPr>
          <p:spPr>
            <a:xfrm>
              <a:off x="1699200" y="537372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60213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9280" y="2602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Вес одного яблока 200 грам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mic Sans MS"/>
              </a:rPr>
              <a:t>Какую часть килограмма весит  это ябло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88000" cy="316836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6842160" cy="1295280"/>
          </a:xfrm>
          <a:prstGeom prst="rect">
            <a:avLst/>
          </a:prstGeom>
          <a:ln w="12600">
            <a:solidFill>
              <a:srgbClr val="3399ff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1476360" y="5373720"/>
            <a:ext cx="1080720" cy="1108800"/>
            <a:chOff x="1476360" y="5373720"/>
            <a:chExt cx="1080720" cy="1108800"/>
          </a:xfrm>
        </p:grpSpPr>
        <p:sp>
          <p:nvSpPr>
            <p:cNvPr id="90" name=""/>
            <p:cNvSpPr/>
            <p:nvPr/>
          </p:nvSpPr>
          <p:spPr>
            <a:xfrm>
              <a:off x="1673280" y="537372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6360" y="602280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76720" y="5373720"/>
            <a:ext cx="936360" cy="1107360"/>
            <a:chOff x="5076720" y="5373720"/>
            <a:chExt cx="936360" cy="1107360"/>
          </a:xfrm>
        </p:grpSpPr>
        <p:sp>
          <p:nvSpPr>
            <p:cNvPr id="93" name=""/>
            <p:cNvSpPr/>
            <p:nvPr/>
          </p:nvSpPr>
          <p:spPr>
            <a:xfrm>
              <a:off x="5247360" y="53737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6720" y="60213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Comic Sans MS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9280" y="189000"/>
            <a:ext cx="896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Воронёнок гулял один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15 минут он ловил бабочек, а остальные 45 минут учился ле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Какую часть часа воронёнок ловил бабочек, а какую – учился лет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9ff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Каждый может за версту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Видеть дробную черту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 чертой – _________, знайте,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Под чертою – __________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Дробь такую, непременно, 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Надо звать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Comic Sans MS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на сколько равных частей разделили целое, называется ________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Число, которое показывает, сколько равных частей взято, называется _________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1341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1773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263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быкно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знамен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373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3475"/>
          <a:stretch/>
        </p:blipFill>
        <p:spPr>
          <a:xfrm>
            <a:off x="250920" y="333360"/>
            <a:ext cx="1944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Anna</dc:creator>
  <dc:description/>
  <dc:language>en-US</dc:language>
  <cp:lastModifiedBy>LAN_OS</cp:lastModifiedBy>
  <dcterms:modified xsi:type="dcterms:W3CDTF">2012-08-03T18:09:29Z</dcterms:modified>
  <cp:revision>117</cp:revision>
  <dc:subject/>
  <dc:title>Слайд 1</dc:title>
</cp:coreProperties>
</file>