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4.png" ContentType="image/png"/>
  <Override PartName="/ppt/media/image27.png" ContentType="image/png"/>
  <Override PartName="/ppt/media/image5.jpeg" ContentType="image/jpeg"/>
  <Override PartName="/ppt/media/image26.jpeg" ContentType="image/jpeg"/>
  <Override PartName="/ppt/media/image29.jpeg" ContentType="image/jpeg"/>
  <Override PartName="/ppt/media/image30.png" ContentType="image/png"/>
  <Override PartName="/ppt/media/image28.png" ContentType="image/png"/>
  <Override PartName="/ppt/media/image7.jpeg" ContentType="image/jpeg"/>
  <Override PartName="/ppt/media/image6.png" ContentType="image/png"/>
  <Override PartName="/ppt/media/image31.png" ContentType="image/png"/>
  <Override PartName="/ppt/media/image8.png" ContentType="image/png"/>
  <Override PartName="/ppt/media/image13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3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6D11-0C0B-41CB-94AD-8597523362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6931-49F5-4E62-A304-1CF125C3B1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C5D7-A21D-43F7-A40B-EA281E4F3D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331D-DBEA-4D68-A9C7-AA91A2609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A3DB-42B9-4C1B-AE36-302839A8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8AEB-C93E-4FE6-9EAF-7B555DB55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EDED-2AA4-4DD2-A500-BAF9DF185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14FD-0D40-466C-858E-655390436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DA27-85A2-463C-9FC5-57355F07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FAA0-53B8-4265-B386-0025FB27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21CF-9DE0-49EE-8473-B42FA4D8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677C-060A-4879-B67E-5513FFE4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3F95-0F3F-41F6-8A65-29A464CC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1ED7-D24E-44BA-9D7B-FEA44E5D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CDD9-803A-406B-BBAE-496ACC5B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83F1-8A26-45C0-BD09-D28B318D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C73E-95D4-4D89-99C1-74BF583F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225A-6C8D-49E4-B088-48440B40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BD66-D688-424C-871F-2C01476AC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F5FD-8D68-45A8-A2A2-5B0FFB879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D2C5-0243-4C0B-B242-477095D0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8912-DDBB-4C6F-8BF1-2DB4118A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58FF-3E07-4495-BF66-13E56DA5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6CAF-EF46-40F9-8476-C77F0104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9F24-FBB7-4623-8C72-5FE9C7FB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6F2A-DD7D-4CA3-B1A9-BB15DE47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B918-C725-405D-8A0B-718EED73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AC24-44DD-46FC-8D23-AF8EF4A3ED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EB2B-FAC4-4D2C-B167-5F0D32C227E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3920" y="2785680"/>
            <a:ext cx="6643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Урок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з укра</a:t>
            </a: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їнського читання</a:t>
            </a:r>
            <a:br>
              <a:rPr sz="4400"/>
            </a:b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В. Сухомлинський</a:t>
            </a:r>
            <a:br>
              <a:rPr sz="4400"/>
            </a:b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 “Сиві волосинки”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785760" y="3929040"/>
            <a:ext cx="4000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70c0"/>
                </a:solidFill>
                <a:latin typeface="Calibri"/>
              </a:rPr>
              <a:t>Підготувал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70c0"/>
                </a:solidFill>
                <a:latin typeface="Calibri"/>
              </a:rPr>
              <a:t>вчитель ДНВК №11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70c0"/>
                </a:solidFill>
                <a:latin typeface="Calibri"/>
              </a:rPr>
              <a:t>Байдецька Віра Миколаї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Прямоугольник 3" descr=""/>
          <p:cNvPicPr/>
          <p:nvPr/>
        </p:nvPicPr>
        <p:blipFill>
          <a:blip r:embed="rId1"/>
          <a:stretch/>
        </p:blipFill>
        <p:spPr>
          <a:xfrm>
            <a:off x="566640" y="579600"/>
            <a:ext cx="8223480" cy="2011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642960" y="2571480"/>
            <a:ext cx="657216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ЧИТАННЯ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ГРУП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ПЕРЕКАЗ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(II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ГРУП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ЗАПИТАНН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(III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ГРУП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ВІДПОВІДЬ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IV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ГРУП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право 6"/>
          <p:cNvSpPr/>
          <p:nvPr/>
        </p:nvSpPr>
        <p:spPr>
          <a:xfrm rot="5400000">
            <a:off x="4285800" y="321444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13"/>
          <p:cNvSpPr/>
          <p:nvPr/>
        </p:nvSpPr>
        <p:spPr>
          <a:xfrm rot="5400000">
            <a:off x="4285800" y="407196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трелка вправо 14"/>
          <p:cNvSpPr/>
          <p:nvPr/>
        </p:nvSpPr>
        <p:spPr>
          <a:xfrm rot="5400000">
            <a:off x="4357080" y="500040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071720" y="1571760"/>
            <a:ext cx="70005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Пташка радіє весні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uk-UA" sz="3200" spc="-1" strike="noStrike">
                <a:solidFill>
                  <a:srgbClr val="00b05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b050"/>
                </a:solidFill>
                <a:latin typeface="Calibri"/>
              </a:rPr>
              <a:t>                                          </a:t>
            </a:r>
            <a:r>
              <a:rPr b="1" lang="uk-UA" sz="2800" spc="-1" strike="noStrike">
                <a:solidFill>
                  <a:srgbClr val="00b050"/>
                </a:solidFill>
                <a:latin typeface="Calibri"/>
              </a:rPr>
              <a:t>а матері боляч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b050"/>
                </a:solidFill>
                <a:latin typeface="Calibri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Дитина плаче,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1" lang="uk-UA" sz="2800" spc="-1" strike="noStrike">
                <a:solidFill>
                  <a:srgbClr val="009900"/>
                </a:solidFill>
                <a:latin typeface="Calibri"/>
              </a:rPr>
              <a:t>як літнє сонц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Материне серце,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1" lang="uk-UA" sz="2800" spc="-1" strike="noStrike">
                <a:solidFill>
                  <a:srgbClr val="009900"/>
                </a:solidFill>
                <a:latin typeface="Calibri"/>
              </a:rPr>
              <a:t>а дитина матері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00"/>
                </a:solidFill>
                <a:latin typeface="Calibri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Прямоугольник 3" descr=""/>
          <p:cNvPicPr/>
          <p:nvPr/>
        </p:nvPicPr>
        <p:blipFill>
          <a:blip r:embed="rId1"/>
          <a:stretch/>
        </p:blipFill>
        <p:spPr>
          <a:xfrm>
            <a:off x="554040" y="517680"/>
            <a:ext cx="7808760" cy="1152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46 -0.00232 L -0.00017 -0.53797 E">
                                      <p:cBhvr>
                                        <p:cTn id="271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5 0.02037 L -0.08472 0.15671 E">
                                      <p:cBhvr>
                                        <p:cTn id="275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538 0.03264 L -0.04427 0.15857 E">
                                      <p:cBhvr>
                                        <p:cTn id="279" dur="2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Прямоугольник 3" descr=""/>
          <p:cNvPicPr/>
          <p:nvPr/>
        </p:nvPicPr>
        <p:blipFill>
          <a:blip r:embed="rId1"/>
          <a:stretch/>
        </p:blipFill>
        <p:spPr>
          <a:xfrm>
            <a:off x="993600" y="480960"/>
            <a:ext cx="6870960" cy="982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D:\ВЕРА\ЗАПОРОЖЦЫ.png"/>
          <p:cNvPicPr/>
          <p:nvPr/>
        </p:nvPicPr>
        <p:blipFill>
          <a:blip r:embed="rId2"/>
          <a:stretch/>
        </p:blipFill>
        <p:spPr>
          <a:xfrm>
            <a:off x="1071720" y="1357200"/>
            <a:ext cx="7000560" cy="4768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77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770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9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1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D:\ВЕРА\РАБОТА В ГРУППЕ.jpeg"/>
          <p:cNvPicPr/>
          <p:nvPr/>
        </p:nvPicPr>
        <p:blipFill>
          <a:blip r:embed="rId1"/>
          <a:stretch/>
        </p:blipFill>
        <p:spPr>
          <a:xfrm>
            <a:off x="1000080" y="1500120"/>
            <a:ext cx="7000920" cy="4572000"/>
          </a:xfrm>
          <a:prstGeom prst="rect">
            <a:avLst/>
          </a:prstGeom>
          <a:ln w="0">
            <a:noFill/>
          </a:ln>
        </p:spPr>
      </p:pic>
      <p:pic>
        <p:nvPicPr>
          <p:cNvPr id="119" name="Прямоугольник 4" descr=""/>
          <p:cNvPicPr/>
          <p:nvPr/>
        </p:nvPicPr>
        <p:blipFill>
          <a:blip r:embed="rId2"/>
          <a:stretch/>
        </p:blipFill>
        <p:spPr>
          <a:xfrm>
            <a:off x="712800" y="298440"/>
            <a:ext cx="7516800" cy="1189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0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2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D:\ВЕРА\ДЕВОЧКА.jpg"/>
          <p:cNvPicPr/>
          <p:nvPr/>
        </p:nvPicPr>
        <p:blipFill>
          <a:blip r:embed="rId1"/>
          <a:stretch/>
        </p:blipFill>
        <p:spPr>
          <a:xfrm>
            <a:off x="1214280" y="1428840"/>
            <a:ext cx="3214800" cy="2143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D:\ВЕРА\ТАРЕЛКА.jpeg"/>
          <p:cNvPicPr/>
          <p:nvPr/>
        </p:nvPicPr>
        <p:blipFill>
          <a:blip r:embed="rId2"/>
          <a:stretch/>
        </p:blipFill>
        <p:spPr>
          <a:xfrm>
            <a:off x="4500720" y="1428840"/>
            <a:ext cx="3571560" cy="2143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D:\ВЕРА\ВЕНИК.jpeg"/>
          <p:cNvPicPr/>
          <p:nvPr/>
        </p:nvPicPr>
        <p:blipFill>
          <a:blip r:embed="rId3"/>
          <a:stretch/>
        </p:blipFill>
        <p:spPr>
          <a:xfrm>
            <a:off x="1214280" y="3643200"/>
            <a:ext cx="3214800" cy="2428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D:\ВЕРА\ЦВЕТЫ В ГОРШКЕ.jpeg"/>
          <p:cNvPicPr/>
          <p:nvPr/>
        </p:nvPicPr>
        <p:blipFill>
          <a:blip r:embed="rId4"/>
          <a:stretch/>
        </p:blipFill>
        <p:spPr>
          <a:xfrm>
            <a:off x="4500720" y="3643200"/>
            <a:ext cx="3571560" cy="2428920"/>
          </a:xfrm>
          <a:prstGeom prst="rect">
            <a:avLst/>
          </a:prstGeom>
          <a:ln w="0">
            <a:noFill/>
          </a:ln>
        </p:spPr>
      </p:pic>
      <p:pic>
        <p:nvPicPr>
          <p:cNvPr id="124" name="Прямоугольник 7" descr=""/>
          <p:cNvPicPr/>
          <p:nvPr/>
        </p:nvPicPr>
        <p:blipFill>
          <a:blip r:embed="rId5"/>
          <a:stretch/>
        </p:blipFill>
        <p:spPr>
          <a:xfrm>
            <a:off x="1279440" y="438120"/>
            <a:ext cx="6499440" cy="1189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D:\ВЕРА\ПИРОЖОК .jpg"/>
          <p:cNvPicPr/>
          <p:nvPr/>
        </p:nvPicPr>
        <p:blipFill>
          <a:blip r:embed="rId1"/>
          <a:stretch/>
        </p:blipFill>
        <p:spPr>
          <a:xfrm>
            <a:off x="1000080" y="2071800"/>
            <a:ext cx="4714920" cy="3286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D:\ВЕРА\КУРИЦА .jpeg"/>
          <p:cNvPicPr/>
          <p:nvPr/>
        </p:nvPicPr>
        <p:blipFill>
          <a:blip r:embed="rId2"/>
          <a:stretch/>
        </p:blipFill>
        <p:spPr>
          <a:xfrm>
            <a:off x="4321080" y="3571920"/>
            <a:ext cx="3751200" cy="250020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5" descr=""/>
          <p:cNvPicPr/>
          <p:nvPr/>
        </p:nvPicPr>
        <p:blipFill>
          <a:blip r:embed="rId3"/>
          <a:stretch/>
        </p:blipFill>
        <p:spPr>
          <a:xfrm>
            <a:off x="1066680" y="298440"/>
            <a:ext cx="7656480" cy="2011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77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1" dur="770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3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5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Прямоугольник 3" descr=""/>
          <p:cNvPicPr/>
          <p:nvPr/>
        </p:nvPicPr>
        <p:blipFill>
          <a:blip r:embed="rId1"/>
          <a:stretch/>
        </p:blipFill>
        <p:spPr>
          <a:xfrm>
            <a:off x="781200" y="554040"/>
            <a:ext cx="7729560" cy="982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D:\ВЕРА\ВОПРОС И КАРКНДАШ.jpg"/>
          <p:cNvPicPr/>
          <p:nvPr/>
        </p:nvPicPr>
        <p:blipFill>
          <a:blip r:embed="rId2"/>
          <a:stretch/>
        </p:blipFill>
        <p:spPr>
          <a:xfrm rot="21234600">
            <a:off x="869760" y="2760840"/>
            <a:ext cx="2366640" cy="307008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7"/>
          <p:cNvSpPr/>
          <p:nvPr/>
        </p:nvSpPr>
        <p:spPr>
          <a:xfrm>
            <a:off x="2357280" y="1785960"/>
            <a:ext cx="6357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Я сьогодні зрозумів, що … 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Тепер я знатиму, що … 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071720" y="164304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ГРУПА –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ЧИТАТИ ТА ПЕРЕКАЗАВАТИ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ОПОВІДАННЯ “СИВІ ВОЛОСИНКИ”.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ГРУПА –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ЧИТАТИ ОПОВІДАННЯ “СИВІ ВО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ЛОСИНКИ”  В ОСОБАХ  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ГРУПА -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СКЛАСТИ ДІАЛОГ “ОЛЕСЯ В ХЛІБ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НОМУ МАГАЗИНІ “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ГРУПА -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СКЛАСТИ РОЗПОВІДЬ ЗА МАЛЮ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Прямоугольник 3" descr=""/>
          <p:cNvPicPr/>
          <p:nvPr/>
        </p:nvPicPr>
        <p:blipFill>
          <a:blip r:embed="rId1"/>
          <a:stretch/>
        </p:blipFill>
        <p:spPr>
          <a:xfrm>
            <a:off x="633240" y="549360"/>
            <a:ext cx="8017200" cy="1023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Прямоугольник 3" descr=""/>
          <p:cNvPicPr/>
          <p:nvPr/>
        </p:nvPicPr>
        <p:blipFill>
          <a:blip r:embed="rId1"/>
          <a:stretch/>
        </p:blipFill>
        <p:spPr>
          <a:xfrm>
            <a:off x="969840" y="444600"/>
            <a:ext cx="7912080" cy="2798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D:\ВЕРА\украинцы дети.jpg"/>
          <p:cNvPicPr/>
          <p:nvPr/>
        </p:nvPicPr>
        <p:blipFill>
          <a:blip r:embed="rId2"/>
          <a:stretch/>
        </p:blipFill>
        <p:spPr>
          <a:xfrm>
            <a:off x="1071720" y="3000240"/>
            <a:ext cx="6929280" cy="3214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77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0" dur="770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2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4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3920" y="785880"/>
            <a:ext cx="6643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28800" y="785520"/>
            <a:ext cx="69292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b050"/>
                </a:solidFill>
                <a:latin typeface="Calibri"/>
              </a:rPr>
              <a:t>В  небі завжди сонце світить ясно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b050"/>
                </a:solidFill>
                <a:latin typeface="Calibri"/>
              </a:rPr>
              <a:t>А в душі немає пусто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b050"/>
                </a:solidFill>
                <a:latin typeface="Calibri"/>
              </a:rPr>
              <a:t>Світ тобі всміхається прекрасни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b050"/>
                </a:solidFill>
                <a:latin typeface="Calibri"/>
              </a:rPr>
              <a:t>Якщо є багато добро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3920" y="785880"/>
            <a:ext cx="6643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c00000"/>
                </a:solidFill>
                <a:latin typeface="Calibri"/>
              </a:rPr>
              <a:t>Гра “Перекладач”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356920" y="1785600"/>
            <a:ext cx="62154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ОМОГАТЬ  СТАРШИ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БЕСПОКОИТЬ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МЫТЬ  ТАРЕЛ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ОЛИВАТЬ  ЦВЕТ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ДМЕТАТЬ  П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КУПАТЬ  ПРОДУК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ut thruBlk="true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7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7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7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77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77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7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77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2876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Прямоугольник 3" descr=""/>
          <p:cNvPicPr/>
          <p:nvPr/>
        </p:nvPicPr>
        <p:blipFill>
          <a:blip r:embed="rId1"/>
          <a:stretch/>
        </p:blipFill>
        <p:spPr>
          <a:xfrm>
            <a:off x="1066680" y="658800"/>
            <a:ext cx="6797880" cy="115092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8" descr=""/>
          <p:cNvPicPr/>
          <p:nvPr/>
        </p:nvPicPr>
        <p:blipFill>
          <a:blip r:embed="rId2"/>
          <a:stretch/>
        </p:blipFill>
        <p:spPr>
          <a:xfrm>
            <a:off x="1494000" y="2286000"/>
            <a:ext cx="3157200" cy="114624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10" descr=""/>
          <p:cNvPicPr/>
          <p:nvPr/>
        </p:nvPicPr>
        <p:blipFill>
          <a:blip r:embed="rId3"/>
          <a:stretch/>
        </p:blipFill>
        <p:spPr>
          <a:xfrm>
            <a:off x="3852720" y="3657600"/>
            <a:ext cx="3913200" cy="1152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D:\ВЕРА\курочка ряба1.jpg"/>
          <p:cNvPicPr/>
          <p:nvPr/>
        </p:nvPicPr>
        <p:blipFill>
          <a:blip r:embed="rId1"/>
          <a:stretch/>
        </p:blipFill>
        <p:spPr>
          <a:xfrm>
            <a:off x="1071720" y="1714680"/>
            <a:ext cx="7000560" cy="435744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5" descr=""/>
          <p:cNvPicPr/>
          <p:nvPr/>
        </p:nvPicPr>
        <p:blipFill>
          <a:blip r:embed="rId2"/>
          <a:stretch/>
        </p:blipFill>
        <p:spPr>
          <a:xfrm>
            <a:off x="2206800" y="682560"/>
            <a:ext cx="5516280" cy="1103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D:\ВЕРА\kurochka_ryaba.jpg"/>
          <p:cNvPicPr/>
          <p:nvPr/>
        </p:nvPicPr>
        <p:blipFill>
          <a:blip r:embed="rId1"/>
          <a:stretch/>
        </p:blipFill>
        <p:spPr>
          <a:xfrm>
            <a:off x="1071720" y="2143080"/>
            <a:ext cx="7000560" cy="400068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4" descr=""/>
          <p:cNvPicPr/>
          <p:nvPr/>
        </p:nvPicPr>
        <p:blipFill>
          <a:blip r:embed="rId2"/>
          <a:stretch/>
        </p:blipFill>
        <p:spPr>
          <a:xfrm>
            <a:off x="993600" y="1011240"/>
            <a:ext cx="7583760" cy="1189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D:\ВЕРА\ВОПРОС В КНИГЕ.jpeg"/>
          <p:cNvPicPr/>
          <p:nvPr/>
        </p:nvPicPr>
        <p:blipFill>
          <a:blip r:embed="rId1"/>
          <a:stretch/>
        </p:blipFill>
        <p:spPr>
          <a:xfrm rot="20988600">
            <a:off x="1695600" y="3873240"/>
            <a:ext cx="4194000" cy="2690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D:\ВЕРА\МАЛЬЧИК.jpg"/>
          <p:cNvPicPr/>
          <p:nvPr/>
        </p:nvPicPr>
        <p:blipFill>
          <a:blip r:embed="rId2"/>
          <a:stretch/>
        </p:blipFill>
        <p:spPr>
          <a:xfrm>
            <a:off x="6000840" y="3000240"/>
            <a:ext cx="2085840" cy="3438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D:\ВЕРА\узор укр 3.jpg"/>
          <p:cNvPicPr/>
          <p:nvPr/>
        </p:nvPicPr>
        <p:blipFill>
          <a:blip r:embed="rId3"/>
          <a:stretch/>
        </p:blipFill>
        <p:spPr>
          <a:xfrm>
            <a:off x="0" y="0"/>
            <a:ext cx="171468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6" descr=""/>
          <p:cNvPicPr/>
          <p:nvPr/>
        </p:nvPicPr>
        <p:blipFill>
          <a:blip r:embed="rId4"/>
          <a:stretch/>
        </p:blipFill>
        <p:spPr>
          <a:xfrm>
            <a:off x="1206360" y="225360"/>
            <a:ext cx="8656920" cy="2011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Прямоугольник 4" descr=""/>
          <p:cNvPicPr/>
          <p:nvPr/>
        </p:nvPicPr>
        <p:blipFill>
          <a:blip r:embed="rId1"/>
          <a:stretch/>
        </p:blipFill>
        <p:spPr>
          <a:xfrm>
            <a:off x="1420920" y="1798560"/>
            <a:ext cx="6156360" cy="2833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-21420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 – ЛЕНЬ – 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ІД – ХО – ДИ – 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НЕ – БЕЗ – ПЕ –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РО – КИ –НУ –ЛА –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ВО – ЛО –СИ – Н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О – СРІБ – ЛИ -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77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77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77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77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77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77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4" dur="77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6" dur="77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77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3" dur="77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5" dur="77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7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7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9:38:22Z</dcterms:created>
  <dc:creator>Liza</dc:creator>
  <dc:description/>
  <dc:language>en-US</dc:language>
  <cp:lastModifiedBy>Никита</cp:lastModifiedBy>
  <dcterms:modified xsi:type="dcterms:W3CDTF">2012-05-02T14:18:10Z</dcterms:modified>
  <cp:revision>44</cp:revision>
  <dc:subject/>
  <dc:title>Слайд 1</dc:title>
</cp:coreProperties>
</file>