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F809-5FB1-44F4-9EA6-0C6689F57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3500-E0CA-41BF-868E-7CA8B03DB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9A19-FC97-42EB-B6F2-E25F9538A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90A-5F2D-4095-B8E1-C6CADD0B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4B8-C5FF-44F4-9855-FF03496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376-73B6-4569-AA9F-04912B4E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7EF-AF6D-463C-8647-DC554F2F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1DD6-1E88-46BC-B99E-0FC8658B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E064-B770-41B4-9119-CF96980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8CB9-23D3-449B-8B57-9E853FD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5C24-79C1-42C3-A9EE-5468525D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9BB7-C7FD-4651-B263-532DFC0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B8E2-4C5A-4449-9152-90B4DDAA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9237-D78B-48A0-8813-6E95CC22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B10-4DFE-4FE3-83B8-68E62278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2798-7C39-49B6-8880-C3B0D5F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FCD1-787B-4F01-926D-31A7B0E7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B0AD-7FDA-4DBC-B664-188D67CB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0399-0F42-4FB6-BCA6-39C07ED1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85C4-FE24-4B2A-B27E-A9F15DAB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E1D-099D-4ACF-B383-F03FD0F9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899-3D38-4A2C-9448-E1B0DE86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C0C-29BC-4B2E-A88A-497DEAFE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2C8-8FC0-4B84-9E9C-A250EAE4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764-7990-4660-B29E-25DF945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D89-9F49-4698-9691-FE00E39C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127-4330-4AE7-B5C1-08D6B0F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F9B4-A069-4705-8221-FAB78163D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6C0-4D7A-4A59-906F-319522E2B5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3920" y="2785680"/>
            <a:ext cx="66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 укра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їнського читання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В. Сухомлинський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 “Сиві волосинки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85760" y="3929040"/>
            <a:ext cx="40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Підготув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вчитель ДНВК №1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Байдецька Віра Миколаї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579600"/>
            <a:ext cx="8223480" cy="201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2960" y="2571480"/>
            <a:ext cx="6572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ЧИТАННЯ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ЕРЕКА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ПИТАНН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ПОВІД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6"/>
          <p:cNvSpPr/>
          <p:nvPr/>
        </p:nvSpPr>
        <p:spPr>
          <a:xfrm rot="5400000">
            <a:off x="4285800" y="32144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5400000">
            <a:off x="428580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5400000">
            <a:off x="4357080" y="5000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71720" y="1571760"/>
            <a:ext cx="7000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ташка радіє весн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                                       </a:t>
            </a: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а матері боля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тина плаче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як літнє со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атерине серце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а дитина мате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1768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0232 L -0.00017 -0.53797 E">
                                      <p:cBhvr>
                                        <p:cTn id="271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02037 L -0.08472 0.15671 E">
                                      <p:cBhvr>
                                        <p:cTn id="27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8 0.03264 L -0.04427 0.15857 E">
                                      <p:cBhvr>
                                        <p:cTn id="27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480960"/>
            <a:ext cx="6870960" cy="98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ВЕРА\ЗАПОРОЖЦЫ.png"/>
          <p:cNvPicPr/>
          <p:nvPr/>
        </p:nvPicPr>
        <p:blipFill>
          <a:blip r:embed="rId2"/>
          <a:stretch/>
        </p:blipFill>
        <p:spPr>
          <a:xfrm>
            <a:off x="1071720" y="1357200"/>
            <a:ext cx="70005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ВЕРА\РАБОТА В ГРУППЕ.jpe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712800" y="298440"/>
            <a:ext cx="75168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ВЕРА\ДЕВОЧКА.jpg"/>
          <p:cNvPicPr/>
          <p:nvPr/>
        </p:nvPicPr>
        <p:blipFill>
          <a:blip r:embed="rId1"/>
          <a:stretch/>
        </p:blipFill>
        <p:spPr>
          <a:xfrm>
            <a:off x="1214280" y="14288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ВЕРА\ТАРЕЛКА.jpeg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ВЕРА\ВЕНИК.jpeg"/>
          <p:cNvPicPr/>
          <p:nvPr/>
        </p:nvPicPr>
        <p:blipFill>
          <a:blip r:embed="rId3"/>
          <a:stretch/>
        </p:blipFill>
        <p:spPr>
          <a:xfrm>
            <a:off x="1214280" y="3643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ВЕРА\ЦВЕТЫ В ГОРШКЕ.jpeg"/>
          <p:cNvPicPr/>
          <p:nvPr/>
        </p:nvPicPr>
        <p:blipFill>
          <a:blip r:embed="rId4"/>
          <a:stretch/>
        </p:blipFill>
        <p:spPr>
          <a:xfrm>
            <a:off x="4500720" y="364320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5"/>
          <a:stretch/>
        </p:blipFill>
        <p:spPr>
          <a:xfrm>
            <a:off x="1279440" y="438120"/>
            <a:ext cx="64994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ВЕРА\ПИРОЖОК .jpg"/>
          <p:cNvPicPr/>
          <p:nvPr/>
        </p:nvPicPr>
        <p:blipFill>
          <a:blip r:embed="rId1"/>
          <a:stretch/>
        </p:blipFill>
        <p:spPr>
          <a:xfrm>
            <a:off x="1000080" y="2071800"/>
            <a:ext cx="471492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ВЕРА\КУРИЦА .jpeg"/>
          <p:cNvPicPr/>
          <p:nvPr/>
        </p:nvPicPr>
        <p:blipFill>
          <a:blip r:embed="rId2"/>
          <a:stretch/>
        </p:blipFill>
        <p:spPr>
          <a:xfrm>
            <a:off x="4321080" y="3571920"/>
            <a:ext cx="375120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1066680" y="298440"/>
            <a:ext cx="7656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7729560" cy="9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ВЕРА\ВОПРОС И КАРКНДАШ.jpg"/>
          <p:cNvPicPr/>
          <p:nvPr/>
        </p:nvPicPr>
        <p:blipFill>
          <a:blip r:embed="rId2"/>
          <a:stretch/>
        </p:blipFill>
        <p:spPr>
          <a:xfrm rot="21234600">
            <a:off x="869760" y="2760840"/>
            <a:ext cx="2366640" cy="3070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35728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сьогодні зрозумів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знатиму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720" y="16430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ТА ПЕРЕКАЗАВАТ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ПОВІДАННЯ “СИВІ ВОЛОСИНКИ”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ОПОВІДАННЯ “СИВІ В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ОСИНКИ”  В ОСОБАХ  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ДІАЛОГ “ОЛЕСЯ В ХЛІБ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МУ МАГАЗИНІ 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РОЗПОВІДЬ ЗА МАЛЮ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549360"/>
            <a:ext cx="801720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912080" cy="27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ВЕРА\украинцы дети.jpg"/>
          <p:cNvPicPr/>
          <p:nvPr/>
        </p:nvPicPr>
        <p:blipFill>
          <a:blip r:embed="rId2"/>
          <a:stretch/>
        </p:blipFill>
        <p:spPr>
          <a:xfrm>
            <a:off x="1071720" y="3000240"/>
            <a:ext cx="69292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7855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В  небі завжди сонце світить яс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А в душі немає пуст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Світ тобі всміхається прекрас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Якщо є багато добр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Calibri"/>
              </a:rPr>
              <a:t>Гра “Перекладач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56920" y="1785600"/>
            <a:ext cx="6215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МОГАТЬ  СТАРШ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ЫТЬ  ТА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ЛИВАТЬ  ЦВ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МЕТАТЬ 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УПАТЬ  ПРОД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658800"/>
            <a:ext cx="679788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2286000"/>
            <a:ext cx="315720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3"/>
          <a:stretch/>
        </p:blipFill>
        <p:spPr>
          <a:xfrm>
            <a:off x="3852720" y="3657600"/>
            <a:ext cx="39132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ВЕРА\курочка ряба1.jpg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357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682560"/>
            <a:ext cx="55162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ВЕРА\kurochka_ryaba.jpg"/>
          <p:cNvPicPr/>
          <p:nvPr/>
        </p:nvPicPr>
        <p:blipFill>
          <a:blip r:embed="rId1"/>
          <a:stretch/>
        </p:blipFill>
        <p:spPr>
          <a:xfrm>
            <a:off x="1071720" y="2143080"/>
            <a:ext cx="70005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011240"/>
            <a:ext cx="75837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ВЕРА\ВОПРОС В КНИГЕ.jpeg"/>
          <p:cNvPicPr/>
          <p:nvPr/>
        </p:nvPicPr>
        <p:blipFill>
          <a:blip r:embed="rId1"/>
          <a:stretch/>
        </p:blipFill>
        <p:spPr>
          <a:xfrm rot="20988600">
            <a:off x="1695600" y="3873240"/>
            <a:ext cx="4194000" cy="26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ВЕРА\МАЛЬЧИК.jpg"/>
          <p:cNvPicPr/>
          <p:nvPr/>
        </p:nvPicPr>
        <p:blipFill>
          <a:blip r:embed="rId2"/>
          <a:stretch/>
        </p:blipFill>
        <p:spPr>
          <a:xfrm>
            <a:off x="6000840" y="3000240"/>
            <a:ext cx="2085840" cy="343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ВЕРА\узор укр 3.jpg"/>
          <p:cNvPicPr/>
          <p:nvPr/>
        </p:nvPicPr>
        <p:blipFill>
          <a:blip r:embed="rId3"/>
          <a:stretch/>
        </p:blipFill>
        <p:spPr>
          <a:xfrm>
            <a:off x="0" y="0"/>
            <a:ext cx="17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1206360" y="225360"/>
            <a:ext cx="865692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798560"/>
            <a:ext cx="615636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 – ЛЕНЬ – 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Д – ХО – ДИ – 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 – БЕЗ – ПЕ –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– КИ –НУ –ЛА –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 – ЛО –СИ – 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 – СРІБ – ЛИ -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38:22Z</dcterms:created>
  <dc:creator>Liza</dc:creator>
  <dc:description/>
  <dc:language>en-US</dc:language>
  <cp:lastModifiedBy>Никита</cp:lastModifiedBy>
  <dcterms:modified xsi:type="dcterms:W3CDTF">2012-05-02T14:18:10Z</dcterms:modified>
  <cp:revision>44</cp:revision>
  <dc:subject/>
  <dc:title>Слайд 1</dc:title>
</cp:coreProperties>
</file>