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5FBF-5DD6-45DF-AB47-918F55823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01B-740C-4599-BBA1-9F97C7774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64D5-EB6E-499A-89D8-E4495930C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C9B-56FA-4FC4-B8DA-8A6EEB7D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B0B-D838-46B2-94AA-1D587D22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8E9-C1BC-4B8B-9C49-1CE08315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EBA-68EB-4B1C-A303-066E952A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98B2-AD0F-40AE-8AB0-416ACF80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AF9F-5CB0-4A51-97FF-F7324132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5F77-E8AB-4CC9-A268-6CB833A3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4C8B-6713-4665-BBD8-9C5782FC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3E09-2688-495E-A58E-2220CB05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B7F1-9262-43E8-966B-83D3D218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0518-103A-4F84-8C40-7F0F2498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2F5-238C-4B56-B881-B7958605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6E9B-97C8-439E-B5EE-6B83C074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BB54-6357-449A-8BD3-F2318391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2882-4B3E-45EB-8522-5A0A92AF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3278-A75F-4BCF-AB1D-D75F66DF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BA06-B099-448C-8375-1DEBED51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F02-0E0D-498C-B23F-43E0FC70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3B0-455E-408D-A419-6FD5E880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15C-C4F5-431F-ACCF-B1521FD9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713-B2CF-4519-89AB-745F6287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F4C-F0CD-4D6B-96EB-BC5A5069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BF4-7596-446C-AE1F-C63B01B4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676-710F-4060-985F-00061D2D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2EC6-C602-4B76-9D85-F765FA50C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0CCE-50AF-47F1-AF46-A1266E2FE17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3920" y="2785680"/>
            <a:ext cx="66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рок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 укра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їнського читання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В. Сухомлинський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 “Сиві волосинки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85760" y="3929040"/>
            <a:ext cx="40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Підготува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вчитель ДНВК №1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Байдецька Віра Миколаї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579600"/>
            <a:ext cx="8223480" cy="201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42960" y="2571480"/>
            <a:ext cx="6572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ЧИТАННЯ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ЕРЕКА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ПИТАНН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ПОВІДЬ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право 6"/>
          <p:cNvSpPr/>
          <p:nvPr/>
        </p:nvSpPr>
        <p:spPr>
          <a:xfrm rot="5400000">
            <a:off x="4285800" y="32144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3"/>
          <p:cNvSpPr/>
          <p:nvPr/>
        </p:nvSpPr>
        <p:spPr>
          <a:xfrm rot="5400000">
            <a:off x="428580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4"/>
          <p:cNvSpPr/>
          <p:nvPr/>
        </p:nvSpPr>
        <p:spPr>
          <a:xfrm rot="5400000">
            <a:off x="4357080" y="50004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71720" y="1571760"/>
            <a:ext cx="70005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ташка радіє весні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                                        </a:t>
            </a: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а матері боля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итина плаче,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як літнє со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атерине серце,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а дитина мате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517680"/>
            <a:ext cx="78087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0232 L -0.00017 -0.53797 E">
                                      <p:cBhvr>
                                        <p:cTn id="271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02037 L -0.08472 0.15671 E">
                                      <p:cBhvr>
                                        <p:cTn id="27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38 0.03264 L -0.04427 0.15857 E">
                                      <p:cBhvr>
                                        <p:cTn id="27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480960"/>
            <a:ext cx="6870960" cy="98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ВЕРА\ЗАПОРОЖЦЫ.png"/>
          <p:cNvPicPr/>
          <p:nvPr/>
        </p:nvPicPr>
        <p:blipFill>
          <a:blip r:embed="rId2"/>
          <a:stretch/>
        </p:blipFill>
        <p:spPr>
          <a:xfrm>
            <a:off x="1071720" y="1357200"/>
            <a:ext cx="7000560" cy="476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ВЕРА\РАБОТА В ГРУППЕ.jpeg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712800" y="298440"/>
            <a:ext cx="75168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ВЕРА\ДЕВОЧКА.jpg"/>
          <p:cNvPicPr/>
          <p:nvPr/>
        </p:nvPicPr>
        <p:blipFill>
          <a:blip r:embed="rId1"/>
          <a:stretch/>
        </p:blipFill>
        <p:spPr>
          <a:xfrm>
            <a:off x="1214280" y="142884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ВЕРА\ТАРЕЛКА.jpeg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ВЕРА\ВЕНИК.jpeg"/>
          <p:cNvPicPr/>
          <p:nvPr/>
        </p:nvPicPr>
        <p:blipFill>
          <a:blip r:embed="rId3"/>
          <a:stretch/>
        </p:blipFill>
        <p:spPr>
          <a:xfrm>
            <a:off x="1214280" y="364320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ВЕРА\ЦВЕТЫ В ГОРШКЕ.jpeg"/>
          <p:cNvPicPr/>
          <p:nvPr/>
        </p:nvPicPr>
        <p:blipFill>
          <a:blip r:embed="rId4"/>
          <a:stretch/>
        </p:blipFill>
        <p:spPr>
          <a:xfrm>
            <a:off x="4500720" y="364320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7" descr=""/>
          <p:cNvPicPr/>
          <p:nvPr/>
        </p:nvPicPr>
        <p:blipFill>
          <a:blip r:embed="rId5"/>
          <a:stretch/>
        </p:blipFill>
        <p:spPr>
          <a:xfrm>
            <a:off x="1279440" y="438120"/>
            <a:ext cx="64994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ВЕРА\ПИРОЖОК .jpg"/>
          <p:cNvPicPr/>
          <p:nvPr/>
        </p:nvPicPr>
        <p:blipFill>
          <a:blip r:embed="rId1"/>
          <a:stretch/>
        </p:blipFill>
        <p:spPr>
          <a:xfrm>
            <a:off x="1000080" y="2071800"/>
            <a:ext cx="471492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ВЕРА\КУРИЦА .jpeg"/>
          <p:cNvPicPr/>
          <p:nvPr/>
        </p:nvPicPr>
        <p:blipFill>
          <a:blip r:embed="rId2"/>
          <a:stretch/>
        </p:blipFill>
        <p:spPr>
          <a:xfrm>
            <a:off x="4321080" y="3571920"/>
            <a:ext cx="3751200" cy="2500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" descr=""/>
          <p:cNvPicPr/>
          <p:nvPr/>
        </p:nvPicPr>
        <p:blipFill>
          <a:blip r:embed="rId3"/>
          <a:stretch/>
        </p:blipFill>
        <p:spPr>
          <a:xfrm>
            <a:off x="1066680" y="298440"/>
            <a:ext cx="7656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554040"/>
            <a:ext cx="7729560" cy="9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ВЕРА\ВОПРОС И КАРКНДАШ.jpg"/>
          <p:cNvPicPr/>
          <p:nvPr/>
        </p:nvPicPr>
        <p:blipFill>
          <a:blip r:embed="rId2"/>
          <a:stretch/>
        </p:blipFill>
        <p:spPr>
          <a:xfrm rot="21234600">
            <a:off x="869760" y="2760840"/>
            <a:ext cx="2366640" cy="30700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2357280" y="17859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сьогодні зрозумів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знатиму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720" y="16430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ТА ПЕРЕКАЗАВАТ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ПОВІДАННЯ “СИВІ ВОЛОСИНКИ”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ОПОВІДАННЯ “СИВІ В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ОСИНКИ”  В ОСОБАХ  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ДІАЛОГ “ОЛЕСЯ В ХЛІБ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ОМУ МАГАЗИНІ 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РОЗПОВІДЬ ЗА МАЛЮ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549360"/>
            <a:ext cx="801720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444600"/>
            <a:ext cx="7912080" cy="27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D:\ВЕРА\украинцы дети.jpg"/>
          <p:cNvPicPr/>
          <p:nvPr/>
        </p:nvPicPr>
        <p:blipFill>
          <a:blip r:embed="rId2"/>
          <a:stretch/>
        </p:blipFill>
        <p:spPr>
          <a:xfrm>
            <a:off x="1071720" y="3000240"/>
            <a:ext cx="692928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78552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В  небі завжди сонце світить яс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А в душі немає пуст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Світ тобі всміхається прекрас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Якщо є багато добр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Calibri"/>
              </a:rPr>
              <a:t>Гра “Перекладач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56920" y="1785600"/>
            <a:ext cx="6215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МОГАТЬ  СТАРШ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ЕСПОКО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ЫТЬ  ТАР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ЛИВАТЬ  ЦВЕ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МЕТАТЬ  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УПАТЬ  ПРОД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ut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658800"/>
            <a:ext cx="679788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2"/>
          <a:stretch/>
        </p:blipFill>
        <p:spPr>
          <a:xfrm>
            <a:off x="1494000" y="2286000"/>
            <a:ext cx="3157200" cy="1146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3"/>
          <a:stretch/>
        </p:blipFill>
        <p:spPr>
          <a:xfrm>
            <a:off x="3852720" y="3657600"/>
            <a:ext cx="39132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ВЕРА\курочка ряба1.jpg"/>
          <p:cNvPicPr/>
          <p:nvPr/>
        </p:nvPicPr>
        <p:blipFill>
          <a:blip r:embed="rId1"/>
          <a:stretch/>
        </p:blipFill>
        <p:spPr>
          <a:xfrm>
            <a:off x="1071720" y="1714680"/>
            <a:ext cx="7000560" cy="4357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206800" y="682560"/>
            <a:ext cx="55162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ВЕРА\kurochka_ryaba.jpg"/>
          <p:cNvPicPr/>
          <p:nvPr/>
        </p:nvPicPr>
        <p:blipFill>
          <a:blip r:embed="rId1"/>
          <a:stretch/>
        </p:blipFill>
        <p:spPr>
          <a:xfrm>
            <a:off x="1071720" y="2143080"/>
            <a:ext cx="7000560" cy="40006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011240"/>
            <a:ext cx="75837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ВЕРА\ВОПРОС В КНИГЕ.jpeg"/>
          <p:cNvPicPr/>
          <p:nvPr/>
        </p:nvPicPr>
        <p:blipFill>
          <a:blip r:embed="rId1"/>
          <a:stretch/>
        </p:blipFill>
        <p:spPr>
          <a:xfrm rot="20988600">
            <a:off x="1695600" y="3873240"/>
            <a:ext cx="4194000" cy="269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ВЕРА\МАЛЬЧИК.jpg"/>
          <p:cNvPicPr/>
          <p:nvPr/>
        </p:nvPicPr>
        <p:blipFill>
          <a:blip r:embed="rId2"/>
          <a:stretch/>
        </p:blipFill>
        <p:spPr>
          <a:xfrm>
            <a:off x="6000840" y="3000240"/>
            <a:ext cx="2085840" cy="343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:\ВЕРА\узор укр 3.jpg"/>
          <p:cNvPicPr/>
          <p:nvPr/>
        </p:nvPicPr>
        <p:blipFill>
          <a:blip r:embed="rId3"/>
          <a:stretch/>
        </p:blipFill>
        <p:spPr>
          <a:xfrm>
            <a:off x="0" y="0"/>
            <a:ext cx="17146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4"/>
          <a:stretch/>
        </p:blipFill>
        <p:spPr>
          <a:xfrm>
            <a:off x="1206360" y="225360"/>
            <a:ext cx="865692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1798560"/>
            <a:ext cx="615636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214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 – ЛЕНЬ – 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Д – ХО – ДИ – 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 – БЕЗ – ПЕ –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– КИ –НУ –ЛА –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 – ЛО –СИ – 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 – СРІБ – ЛИ -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38:22Z</dcterms:created>
  <dc:creator>Liza</dc:creator>
  <dc:description/>
  <dc:language>en-US</dc:language>
  <cp:lastModifiedBy>Никита</cp:lastModifiedBy>
  <dcterms:modified xsi:type="dcterms:W3CDTF">2012-05-02T14:18:10Z</dcterms:modified>
  <cp:revision>44</cp:revision>
  <dc:subject/>
  <dc:title>Слайд 1</dc:title>
</cp:coreProperties>
</file>