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6BF1-865D-441F-94D6-FBE54473C9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E02E-6667-4049-9B27-2AE4C26B9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97EE-A268-4323-A62D-5003C5F23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10A-80A6-4636-81EC-42DF33AD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7E8-45B7-4240-8B2F-0337A82D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8A1-9165-425D-891D-93618FD6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17C-1552-47A8-947B-FDB9CC02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7F67-1637-4B34-9A76-876DDB52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D8F6-FCBF-4B90-A561-0EF7FA46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4B53-7CF5-466D-8387-B2BE28BC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11BA-9701-42EE-9EED-5E0D3C1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9CAC-EF6F-4BCD-A35F-6F94DF91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93EC-7922-4DAA-A621-C5B5A22B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DE9C-6975-4338-B07B-7FA4DD14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5C7-0226-4172-973A-5935FECC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D028-1E36-4B28-9737-64ED4DD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E97F-BACF-4DC3-B055-6FE3298B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7EE8-39D2-41B8-8B74-4FABFABB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BFFA-80EB-4B09-9AD7-9883B607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4544-1A27-46EE-8656-F3ADE6DE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5DC-3454-4D2B-9821-F9DF9F71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A8D-9E71-44C7-8976-5603DCFF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FE2-C0FB-4652-A584-C912318C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2DB-421A-4107-AE18-3D0E9036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4A0-AF02-41FA-AFD5-27631491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278-00A0-4EBC-A1B5-54E10646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FC3-4BEE-4F51-BF2F-784D64CA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CAFE-9493-41AA-9E51-B63F647B7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3CA0-F1BE-4A62-A77E-6379258F40D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3920" y="2785680"/>
            <a:ext cx="66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рок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 укра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їнського читання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В. Сухомлинський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 “Сиві волосинки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85760" y="3929040"/>
            <a:ext cx="40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Підготува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вчитель ДНВК №1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Байдецька Віра Миколаї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579600"/>
            <a:ext cx="8223480" cy="201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42960" y="2571480"/>
            <a:ext cx="6572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ЧИТАННЯ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ЕРЕКА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ПИТАНН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ПОВІДЬ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право 6"/>
          <p:cNvSpPr/>
          <p:nvPr/>
        </p:nvSpPr>
        <p:spPr>
          <a:xfrm rot="5400000">
            <a:off x="4285800" y="32144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3"/>
          <p:cNvSpPr/>
          <p:nvPr/>
        </p:nvSpPr>
        <p:spPr>
          <a:xfrm rot="5400000">
            <a:off x="428580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4"/>
          <p:cNvSpPr/>
          <p:nvPr/>
        </p:nvSpPr>
        <p:spPr>
          <a:xfrm rot="5400000">
            <a:off x="4357080" y="50004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71720" y="1571760"/>
            <a:ext cx="70005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ташка радіє весні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                                        </a:t>
            </a: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а матері боля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итина плаче,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як літнє со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атерине серце,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а дитина мате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517680"/>
            <a:ext cx="78087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0232 L -0.00017 -0.53797 E">
                                      <p:cBhvr>
                                        <p:cTn id="271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02037 L -0.08472 0.15671 E">
                                      <p:cBhvr>
                                        <p:cTn id="27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38 0.03264 L -0.04427 0.15857 E">
                                      <p:cBhvr>
                                        <p:cTn id="27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480960"/>
            <a:ext cx="6870960" cy="98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ВЕРА\ЗАПОРОЖЦЫ.png"/>
          <p:cNvPicPr/>
          <p:nvPr/>
        </p:nvPicPr>
        <p:blipFill>
          <a:blip r:embed="rId2"/>
          <a:stretch/>
        </p:blipFill>
        <p:spPr>
          <a:xfrm>
            <a:off x="1071720" y="1357200"/>
            <a:ext cx="7000560" cy="476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ВЕРА\РАБОТА В ГРУППЕ.jpeg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712800" y="298440"/>
            <a:ext cx="75168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ВЕРА\ДЕВОЧКА.jpg"/>
          <p:cNvPicPr/>
          <p:nvPr/>
        </p:nvPicPr>
        <p:blipFill>
          <a:blip r:embed="rId1"/>
          <a:stretch/>
        </p:blipFill>
        <p:spPr>
          <a:xfrm>
            <a:off x="1214280" y="142884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ВЕРА\ТАРЕЛКА.jpeg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ВЕРА\ВЕНИК.jpeg"/>
          <p:cNvPicPr/>
          <p:nvPr/>
        </p:nvPicPr>
        <p:blipFill>
          <a:blip r:embed="rId3"/>
          <a:stretch/>
        </p:blipFill>
        <p:spPr>
          <a:xfrm>
            <a:off x="1214280" y="364320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ВЕРА\ЦВЕТЫ В ГОРШКЕ.jpeg"/>
          <p:cNvPicPr/>
          <p:nvPr/>
        </p:nvPicPr>
        <p:blipFill>
          <a:blip r:embed="rId4"/>
          <a:stretch/>
        </p:blipFill>
        <p:spPr>
          <a:xfrm>
            <a:off x="4500720" y="364320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7" descr=""/>
          <p:cNvPicPr/>
          <p:nvPr/>
        </p:nvPicPr>
        <p:blipFill>
          <a:blip r:embed="rId5"/>
          <a:stretch/>
        </p:blipFill>
        <p:spPr>
          <a:xfrm>
            <a:off x="1279440" y="438120"/>
            <a:ext cx="64994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ВЕРА\ПИРОЖОК .jpg"/>
          <p:cNvPicPr/>
          <p:nvPr/>
        </p:nvPicPr>
        <p:blipFill>
          <a:blip r:embed="rId1"/>
          <a:stretch/>
        </p:blipFill>
        <p:spPr>
          <a:xfrm>
            <a:off x="1000080" y="2071800"/>
            <a:ext cx="471492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ВЕРА\КУРИЦА .jpeg"/>
          <p:cNvPicPr/>
          <p:nvPr/>
        </p:nvPicPr>
        <p:blipFill>
          <a:blip r:embed="rId2"/>
          <a:stretch/>
        </p:blipFill>
        <p:spPr>
          <a:xfrm>
            <a:off x="4321080" y="3571920"/>
            <a:ext cx="3751200" cy="2500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" descr=""/>
          <p:cNvPicPr/>
          <p:nvPr/>
        </p:nvPicPr>
        <p:blipFill>
          <a:blip r:embed="rId3"/>
          <a:stretch/>
        </p:blipFill>
        <p:spPr>
          <a:xfrm>
            <a:off x="1066680" y="298440"/>
            <a:ext cx="7656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554040"/>
            <a:ext cx="7729560" cy="9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ВЕРА\ВОПРОС И КАРКНДАШ.jpg"/>
          <p:cNvPicPr/>
          <p:nvPr/>
        </p:nvPicPr>
        <p:blipFill>
          <a:blip r:embed="rId2"/>
          <a:stretch/>
        </p:blipFill>
        <p:spPr>
          <a:xfrm rot="21234600">
            <a:off x="869760" y="2760840"/>
            <a:ext cx="2366640" cy="30700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2357280" y="17859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сьогодні зрозумів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знатиму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720" y="16430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ТА ПЕРЕКАЗАВАТ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ПОВІДАННЯ “СИВІ ВОЛОСИНКИ”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ОПОВІДАННЯ “СИВІ В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ОСИНКИ”  В ОСОБАХ  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ДІАЛОГ “ОЛЕСЯ В ХЛІБ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ОМУ МАГАЗИНІ 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РОЗПОВІДЬ ЗА МАЛЮ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549360"/>
            <a:ext cx="801720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444600"/>
            <a:ext cx="7912080" cy="27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D:\ВЕРА\украинцы дети.jpg"/>
          <p:cNvPicPr/>
          <p:nvPr/>
        </p:nvPicPr>
        <p:blipFill>
          <a:blip r:embed="rId2"/>
          <a:stretch/>
        </p:blipFill>
        <p:spPr>
          <a:xfrm>
            <a:off x="1071720" y="3000240"/>
            <a:ext cx="692928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78552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В  небі завжди сонце світить яс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А в душі немає пуст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Світ тобі всміхається прекрас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Якщо є багато добр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Calibri"/>
              </a:rPr>
              <a:t>Гра “Перекладач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56920" y="1785600"/>
            <a:ext cx="6215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МОГАТЬ  СТАРШ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ЕСПОКО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ЫТЬ  ТАР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ЛИВАТЬ  ЦВЕ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МЕТАТЬ  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УПАТЬ  ПРОД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ut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658800"/>
            <a:ext cx="679788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2"/>
          <a:stretch/>
        </p:blipFill>
        <p:spPr>
          <a:xfrm>
            <a:off x="1494000" y="2286000"/>
            <a:ext cx="3157200" cy="1146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3"/>
          <a:stretch/>
        </p:blipFill>
        <p:spPr>
          <a:xfrm>
            <a:off x="3852720" y="3657600"/>
            <a:ext cx="39132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ВЕРА\курочка ряба1.jpg"/>
          <p:cNvPicPr/>
          <p:nvPr/>
        </p:nvPicPr>
        <p:blipFill>
          <a:blip r:embed="rId1"/>
          <a:stretch/>
        </p:blipFill>
        <p:spPr>
          <a:xfrm>
            <a:off x="1071720" y="1714680"/>
            <a:ext cx="7000560" cy="4357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206800" y="682560"/>
            <a:ext cx="55162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ВЕРА\kurochka_ryaba.jpg"/>
          <p:cNvPicPr/>
          <p:nvPr/>
        </p:nvPicPr>
        <p:blipFill>
          <a:blip r:embed="rId1"/>
          <a:stretch/>
        </p:blipFill>
        <p:spPr>
          <a:xfrm>
            <a:off x="1071720" y="2143080"/>
            <a:ext cx="7000560" cy="40006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011240"/>
            <a:ext cx="75837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ВЕРА\ВОПРОС В КНИГЕ.jpeg"/>
          <p:cNvPicPr/>
          <p:nvPr/>
        </p:nvPicPr>
        <p:blipFill>
          <a:blip r:embed="rId1"/>
          <a:stretch/>
        </p:blipFill>
        <p:spPr>
          <a:xfrm rot="20988600">
            <a:off x="1695600" y="3873240"/>
            <a:ext cx="4194000" cy="269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ВЕРА\МАЛЬЧИК.jpg"/>
          <p:cNvPicPr/>
          <p:nvPr/>
        </p:nvPicPr>
        <p:blipFill>
          <a:blip r:embed="rId2"/>
          <a:stretch/>
        </p:blipFill>
        <p:spPr>
          <a:xfrm>
            <a:off x="6000840" y="3000240"/>
            <a:ext cx="2085840" cy="343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:\ВЕРА\узор укр 3.jpg"/>
          <p:cNvPicPr/>
          <p:nvPr/>
        </p:nvPicPr>
        <p:blipFill>
          <a:blip r:embed="rId3"/>
          <a:stretch/>
        </p:blipFill>
        <p:spPr>
          <a:xfrm>
            <a:off x="0" y="0"/>
            <a:ext cx="17146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4"/>
          <a:stretch/>
        </p:blipFill>
        <p:spPr>
          <a:xfrm>
            <a:off x="1206360" y="225360"/>
            <a:ext cx="865692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1798560"/>
            <a:ext cx="615636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214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 – ЛЕНЬ – 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Д – ХО – ДИ – 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 – БЕЗ – ПЕ –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– КИ –НУ –ЛА –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 – ЛО –СИ – 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 – СРІБ – ЛИ -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38:22Z</dcterms:created>
  <dc:creator>Liza</dc:creator>
  <dc:description/>
  <dc:language>en-US</dc:language>
  <cp:lastModifiedBy>Никита</cp:lastModifiedBy>
  <dcterms:modified xsi:type="dcterms:W3CDTF">2012-05-02T14:18:10Z</dcterms:modified>
  <cp:revision>44</cp:revision>
  <dc:subject/>
  <dc:title>Слайд 1</dc:title>
</cp:coreProperties>
</file>