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26.jpeg" ContentType="image/jpeg"/>
  <Override PartName="/ppt/media/image29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CD40-0842-427F-AA1F-9C5C0D06E9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640A-B29D-4E5C-8918-1FA20BA52C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A46F-6B47-4D16-BEF3-6F79454CE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406-72CB-44C8-9A08-117E1272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61D-25CB-4F66-977F-A3E704C7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B55F-8D47-4818-B4E0-610FA8D1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32F-8C16-4BD7-AAD8-4A1AE6F1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C698-F554-4FF0-9FE9-7D0C0644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A3F7-7675-43D8-B597-9714368F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7B7F-8E45-4CA2-BFB5-B9D2249A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F6EF-3B62-4B2D-95EC-18913407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7D97-1933-4C10-889B-E1ACD542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E957-B1F9-4A65-9D24-2B3D7D79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5EED-6F6B-4CCC-A98E-CCA176A6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8E7-8614-4D10-8D09-7522C774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CB7C-68C8-42BB-A428-7FEE121C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ADF6-2CB1-4B5B-8DC1-F8124112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C7F2-2A34-4BED-98C7-716906E2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F199-C903-4282-8343-60C77B14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4E30-623D-4F5C-B798-8ABC26A2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D3E-C1C5-43A9-8075-91E731A0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D71-D9CC-400E-9134-0D6E2AF3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E8EA-4DD7-4D1A-9217-BED4E9A1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DC7-208D-4F29-A569-E7474B57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859-BFDC-4868-A887-71A0C84E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5AA-D73C-41FB-8701-EE050636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6AD-9D94-4F51-A3FE-C9FF3FC7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2DE6-6E0D-44F7-8448-1F8A17E49C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B76F-5AA1-4E4B-BDB0-E7015AD8FB0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3920" y="2785680"/>
            <a:ext cx="664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рок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 укра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їнського читання</a:t>
            </a: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В. Сухомлинський</a:t>
            </a: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 “Сиві волосинки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85760" y="3929040"/>
            <a:ext cx="4000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Підготувал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вчитель ДНВК №1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Байдецька Віра Миколаї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579600"/>
            <a:ext cx="8223480" cy="2011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42960" y="2571480"/>
            <a:ext cx="657216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ЧИТАННЯ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ЕРЕКАЗ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I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ЗАПИТАНН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II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ІДПОВІДЬ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V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право 6"/>
          <p:cNvSpPr/>
          <p:nvPr/>
        </p:nvSpPr>
        <p:spPr>
          <a:xfrm rot="5400000">
            <a:off x="4285800" y="32144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13"/>
          <p:cNvSpPr/>
          <p:nvPr/>
        </p:nvSpPr>
        <p:spPr>
          <a:xfrm rot="5400000">
            <a:off x="4285800" y="4071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право 14"/>
          <p:cNvSpPr/>
          <p:nvPr/>
        </p:nvSpPr>
        <p:spPr>
          <a:xfrm rot="5400000">
            <a:off x="4357080" y="500040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71720" y="1571760"/>
            <a:ext cx="70005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ташка радіє весні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                                        </a:t>
            </a: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а матері боляч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итина плаче,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як літнє сонц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атерине серце,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а дитина матер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Прямоугольник 3" descr=""/>
          <p:cNvPicPr/>
          <p:nvPr/>
        </p:nvPicPr>
        <p:blipFill>
          <a:blip r:embed="rId1"/>
          <a:stretch/>
        </p:blipFill>
        <p:spPr>
          <a:xfrm>
            <a:off x="554040" y="517680"/>
            <a:ext cx="780876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46 -0.00232 L -0.00017 -0.53797 E">
                                      <p:cBhvr>
                                        <p:cTn id="271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02037 L -0.08472 0.15671 E">
                                      <p:cBhvr>
                                        <p:cTn id="275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38 0.03264 L -0.04427 0.15857 E">
                                      <p:cBhvr>
                                        <p:cTn id="279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3" descr=""/>
          <p:cNvPicPr/>
          <p:nvPr/>
        </p:nvPicPr>
        <p:blipFill>
          <a:blip r:embed="rId1"/>
          <a:stretch/>
        </p:blipFill>
        <p:spPr>
          <a:xfrm>
            <a:off x="993600" y="480960"/>
            <a:ext cx="6870960" cy="982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D:\ВЕРА\ЗАПОРОЖЦЫ.png"/>
          <p:cNvPicPr/>
          <p:nvPr/>
        </p:nvPicPr>
        <p:blipFill>
          <a:blip r:embed="rId2"/>
          <a:stretch/>
        </p:blipFill>
        <p:spPr>
          <a:xfrm>
            <a:off x="1071720" y="1357200"/>
            <a:ext cx="7000560" cy="4768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ВЕРА\РАБОТА В ГРУППЕ.jpeg"/>
          <p:cNvPicPr/>
          <p:nvPr/>
        </p:nvPicPr>
        <p:blipFill>
          <a:blip r:embed="rId1"/>
          <a:stretch/>
        </p:blipFill>
        <p:spPr>
          <a:xfrm>
            <a:off x="1000080" y="1500120"/>
            <a:ext cx="7000920" cy="45720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712800" y="298440"/>
            <a:ext cx="751680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ВЕРА\ДЕВОЧКА.jpg"/>
          <p:cNvPicPr/>
          <p:nvPr/>
        </p:nvPicPr>
        <p:blipFill>
          <a:blip r:embed="rId1"/>
          <a:stretch/>
        </p:blipFill>
        <p:spPr>
          <a:xfrm>
            <a:off x="1214280" y="1428840"/>
            <a:ext cx="321480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D:\ВЕРА\ТАРЕЛКА.jpeg"/>
          <p:cNvPicPr/>
          <p:nvPr/>
        </p:nvPicPr>
        <p:blipFill>
          <a:blip r:embed="rId2"/>
          <a:stretch/>
        </p:blipFill>
        <p:spPr>
          <a:xfrm>
            <a:off x="4500720" y="1428840"/>
            <a:ext cx="357156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ВЕРА\ВЕНИК.jpeg"/>
          <p:cNvPicPr/>
          <p:nvPr/>
        </p:nvPicPr>
        <p:blipFill>
          <a:blip r:embed="rId3"/>
          <a:stretch/>
        </p:blipFill>
        <p:spPr>
          <a:xfrm>
            <a:off x="1214280" y="364320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:\ВЕРА\ЦВЕТЫ В ГОРШКЕ.jpeg"/>
          <p:cNvPicPr/>
          <p:nvPr/>
        </p:nvPicPr>
        <p:blipFill>
          <a:blip r:embed="rId4"/>
          <a:stretch/>
        </p:blipFill>
        <p:spPr>
          <a:xfrm>
            <a:off x="4500720" y="3643200"/>
            <a:ext cx="3571560" cy="242892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7" descr=""/>
          <p:cNvPicPr/>
          <p:nvPr/>
        </p:nvPicPr>
        <p:blipFill>
          <a:blip r:embed="rId5"/>
          <a:stretch/>
        </p:blipFill>
        <p:spPr>
          <a:xfrm>
            <a:off x="1279440" y="438120"/>
            <a:ext cx="649944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:\ВЕРА\ПИРОЖОК .jpg"/>
          <p:cNvPicPr/>
          <p:nvPr/>
        </p:nvPicPr>
        <p:blipFill>
          <a:blip r:embed="rId1"/>
          <a:stretch/>
        </p:blipFill>
        <p:spPr>
          <a:xfrm>
            <a:off x="1000080" y="2071800"/>
            <a:ext cx="4714920" cy="328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D:\ВЕРА\КУРИЦА .jpeg"/>
          <p:cNvPicPr/>
          <p:nvPr/>
        </p:nvPicPr>
        <p:blipFill>
          <a:blip r:embed="rId2"/>
          <a:stretch/>
        </p:blipFill>
        <p:spPr>
          <a:xfrm>
            <a:off x="4321080" y="3571920"/>
            <a:ext cx="3751200" cy="25002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5" descr=""/>
          <p:cNvPicPr/>
          <p:nvPr/>
        </p:nvPicPr>
        <p:blipFill>
          <a:blip r:embed="rId3"/>
          <a:stretch/>
        </p:blipFill>
        <p:spPr>
          <a:xfrm>
            <a:off x="1066680" y="298440"/>
            <a:ext cx="765648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3" descr=""/>
          <p:cNvPicPr/>
          <p:nvPr/>
        </p:nvPicPr>
        <p:blipFill>
          <a:blip r:embed="rId1"/>
          <a:stretch/>
        </p:blipFill>
        <p:spPr>
          <a:xfrm>
            <a:off x="781200" y="554040"/>
            <a:ext cx="7729560" cy="98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D:\ВЕРА\ВОПРОС И КАРКНДАШ.jpg"/>
          <p:cNvPicPr/>
          <p:nvPr/>
        </p:nvPicPr>
        <p:blipFill>
          <a:blip r:embed="rId2"/>
          <a:stretch/>
        </p:blipFill>
        <p:spPr>
          <a:xfrm rot="21234600">
            <a:off x="869760" y="2760840"/>
            <a:ext cx="2366640" cy="30700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7"/>
          <p:cNvSpPr/>
          <p:nvPr/>
        </p:nvSpPr>
        <p:spPr>
          <a:xfrm>
            <a:off x="2357280" y="17859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 сьогодні зрозумів, що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пер я знатиму, що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71720" y="164304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ГРУПА –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ЧИТАТИ ТА ПЕРЕКАЗАВАТИ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ПОВІДАННЯ “СИВІ ВОЛОСИНКИ”.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ГРУПА –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ЧИТАТИ ОПОВІДАННЯ “СИВІ В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ЛОСИНКИ”  В ОСОБАХ  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ГРУПА -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КЛАСТИ ДІАЛОГ “ОЛЕСЯ В ХЛІБ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НОМУ МАГАЗИНІ “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ГРУПА -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КЛАСТИ РОЗПОВІДЬ ЗА МАЛЮ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549360"/>
            <a:ext cx="8017200" cy="1023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Прямоугольник 3" descr=""/>
          <p:cNvPicPr/>
          <p:nvPr/>
        </p:nvPicPr>
        <p:blipFill>
          <a:blip r:embed="rId1"/>
          <a:stretch/>
        </p:blipFill>
        <p:spPr>
          <a:xfrm>
            <a:off x="969840" y="444600"/>
            <a:ext cx="7912080" cy="2798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D:\ВЕРА\украинцы дети.jpg"/>
          <p:cNvPicPr/>
          <p:nvPr/>
        </p:nvPicPr>
        <p:blipFill>
          <a:blip r:embed="rId2"/>
          <a:stretch/>
        </p:blipFill>
        <p:spPr>
          <a:xfrm>
            <a:off x="1071720" y="3000240"/>
            <a:ext cx="692928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66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28800" y="785520"/>
            <a:ext cx="6929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В  небі завжди сонце світить яс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А в душі немає пусто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Світ тобі всміхається прекрасн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Якщо є багато добро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66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00000"/>
                </a:solidFill>
                <a:latin typeface="Calibri"/>
              </a:rPr>
              <a:t>Гра “Перекладач”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56920" y="1785600"/>
            <a:ext cx="62154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МОГАТЬ  СТАРШ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ЕСПОКОИ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ЫТЬ  ТАРЕ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ЛИВАТЬ  ЦВЕ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МЕТАТЬ  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КУПАТЬ  ПРОДУ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ut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658800"/>
            <a:ext cx="6797880" cy="11509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8" descr=""/>
          <p:cNvPicPr/>
          <p:nvPr/>
        </p:nvPicPr>
        <p:blipFill>
          <a:blip r:embed="rId2"/>
          <a:stretch/>
        </p:blipFill>
        <p:spPr>
          <a:xfrm>
            <a:off x="1494000" y="2286000"/>
            <a:ext cx="3157200" cy="11462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0" descr=""/>
          <p:cNvPicPr/>
          <p:nvPr/>
        </p:nvPicPr>
        <p:blipFill>
          <a:blip r:embed="rId3"/>
          <a:stretch/>
        </p:blipFill>
        <p:spPr>
          <a:xfrm>
            <a:off x="3852720" y="3657600"/>
            <a:ext cx="391320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D:\ВЕРА\курочка ряба1.jpg"/>
          <p:cNvPicPr/>
          <p:nvPr/>
        </p:nvPicPr>
        <p:blipFill>
          <a:blip r:embed="rId1"/>
          <a:stretch/>
        </p:blipFill>
        <p:spPr>
          <a:xfrm>
            <a:off x="1071720" y="1714680"/>
            <a:ext cx="7000560" cy="43574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5" descr=""/>
          <p:cNvPicPr/>
          <p:nvPr/>
        </p:nvPicPr>
        <p:blipFill>
          <a:blip r:embed="rId2"/>
          <a:stretch/>
        </p:blipFill>
        <p:spPr>
          <a:xfrm>
            <a:off x="2206800" y="682560"/>
            <a:ext cx="551628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:\ВЕРА\kurochka_ryaba.jpg"/>
          <p:cNvPicPr/>
          <p:nvPr/>
        </p:nvPicPr>
        <p:blipFill>
          <a:blip r:embed="rId1"/>
          <a:stretch/>
        </p:blipFill>
        <p:spPr>
          <a:xfrm>
            <a:off x="1071720" y="2143080"/>
            <a:ext cx="7000560" cy="40006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4" descr=""/>
          <p:cNvPicPr/>
          <p:nvPr/>
        </p:nvPicPr>
        <p:blipFill>
          <a:blip r:embed="rId2"/>
          <a:stretch/>
        </p:blipFill>
        <p:spPr>
          <a:xfrm>
            <a:off x="993600" y="1011240"/>
            <a:ext cx="758376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:\ВЕРА\ВОПРОС В КНИГЕ.jpeg"/>
          <p:cNvPicPr/>
          <p:nvPr/>
        </p:nvPicPr>
        <p:blipFill>
          <a:blip r:embed="rId1"/>
          <a:stretch/>
        </p:blipFill>
        <p:spPr>
          <a:xfrm rot="20988600">
            <a:off x="1695600" y="3873240"/>
            <a:ext cx="4194000" cy="2690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ВЕРА\МАЛЬЧИК.jpg"/>
          <p:cNvPicPr/>
          <p:nvPr/>
        </p:nvPicPr>
        <p:blipFill>
          <a:blip r:embed="rId2"/>
          <a:stretch/>
        </p:blipFill>
        <p:spPr>
          <a:xfrm>
            <a:off x="6000840" y="3000240"/>
            <a:ext cx="2085840" cy="343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D:\ВЕРА\узор укр 3.jpg"/>
          <p:cNvPicPr/>
          <p:nvPr/>
        </p:nvPicPr>
        <p:blipFill>
          <a:blip r:embed="rId3"/>
          <a:stretch/>
        </p:blipFill>
        <p:spPr>
          <a:xfrm>
            <a:off x="0" y="0"/>
            <a:ext cx="17146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6" descr=""/>
          <p:cNvPicPr/>
          <p:nvPr/>
        </p:nvPicPr>
        <p:blipFill>
          <a:blip r:embed="rId4"/>
          <a:stretch/>
        </p:blipFill>
        <p:spPr>
          <a:xfrm>
            <a:off x="1206360" y="225360"/>
            <a:ext cx="865692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1"/>
          <a:stretch/>
        </p:blipFill>
        <p:spPr>
          <a:xfrm>
            <a:off x="1420920" y="1798560"/>
            <a:ext cx="6156360" cy="2833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-214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 – ЛЕНЬ – 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ІД – ХО – ДИ – 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Е – БЕЗ – ПЕ –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РО – КИ –НУ –ЛА –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О – ЛО –СИ – 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 – СРІБ – ЛИ -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9:38:22Z</dcterms:created>
  <dc:creator>Liza</dc:creator>
  <dc:description/>
  <dc:language>en-US</dc:language>
  <cp:lastModifiedBy>Никита</cp:lastModifiedBy>
  <dcterms:modified xsi:type="dcterms:W3CDTF">2012-05-02T14:18:10Z</dcterms:modified>
  <cp:revision>44</cp:revision>
  <dc:subject/>
  <dc:title>Слайд 1</dc:title>
</cp:coreProperties>
</file>