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2067-ACE5-4264-882F-E0C30FCCE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13D6-4B27-4CF4-B222-D908C4B29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5DC6-C21E-4612-B3E8-8CD986AB6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41B2-373C-4B3F-9090-4B230721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955-549D-4897-9CF4-0EFAF5E0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4F4A-EEAF-41C5-882C-0FD30020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693-0726-49BA-9295-65D7A7FB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E22A-801B-4CE6-A0A1-479C5FFE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F165-663C-4039-A77D-F5CBD639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1B2-4C7E-4AFF-BC27-2C5DF50C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3A64-D68D-446C-BD7A-9A7CCA9E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C99D-F2AD-4BA6-8982-A36222E8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4CB6-F857-46EA-B455-54C05A5D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0F19-9808-412A-B78C-DA1B455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F530-83C3-4DA7-B206-61F4FDA8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23AE-C1A0-4B2B-8FFF-6076FD3F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8B01-1132-4F03-9DD3-F8EFB127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CCB6-B062-465F-BDD0-63CA4BD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A2F6-CDA3-4482-9B71-3DFC6B5C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D8D0-838B-4001-ADE8-6C16C080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E74F-B615-4EA2-80BD-0169DA52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BDE-B813-42FE-9EB0-8EEBEF5F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13FA-82CD-44CA-91A1-B23D833F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630-F422-44A1-9D90-94D7C691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BAC-0CFF-4C23-95E7-AE21F32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C51-CF18-4270-B869-88E4EAA7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3E2B-C26E-4B54-BA58-2455F376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96A6-C1EF-49D1-9962-666821BA1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9D8D-C8C3-4D59-B0B9-3D84E76C66F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3920" y="2785680"/>
            <a:ext cx="66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 укра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їнського читання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В. Сухомлинський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 “Сиві волосинки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85760" y="3929040"/>
            <a:ext cx="40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Підготув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вчитель ДНВК №1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Байдецька Віра Миколаї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579600"/>
            <a:ext cx="8223480" cy="201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2960" y="2571480"/>
            <a:ext cx="6572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ЧИТАННЯ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ЕРЕКА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ПИТАНН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ПОВІД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6"/>
          <p:cNvSpPr/>
          <p:nvPr/>
        </p:nvSpPr>
        <p:spPr>
          <a:xfrm rot="5400000">
            <a:off x="4285800" y="32144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5400000">
            <a:off x="428580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5400000">
            <a:off x="4357080" y="5000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71720" y="1571760"/>
            <a:ext cx="7000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ташка радіє весн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                                       </a:t>
            </a: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а матері боля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тина плаче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як літнє со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атерине серце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а дитина мате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1768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0232 L -0.00017 -0.53797 E">
                                      <p:cBhvr>
                                        <p:cTn id="271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02037 L -0.08472 0.15671 E">
                                      <p:cBhvr>
                                        <p:cTn id="27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8 0.03264 L -0.04427 0.15857 E">
                                      <p:cBhvr>
                                        <p:cTn id="27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480960"/>
            <a:ext cx="6870960" cy="98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ВЕРА\ЗАПОРОЖЦЫ.png"/>
          <p:cNvPicPr/>
          <p:nvPr/>
        </p:nvPicPr>
        <p:blipFill>
          <a:blip r:embed="rId2"/>
          <a:stretch/>
        </p:blipFill>
        <p:spPr>
          <a:xfrm>
            <a:off x="1071720" y="1357200"/>
            <a:ext cx="70005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ВЕРА\РАБОТА В ГРУППЕ.jpe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712800" y="298440"/>
            <a:ext cx="75168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ВЕРА\ДЕВОЧКА.jpg"/>
          <p:cNvPicPr/>
          <p:nvPr/>
        </p:nvPicPr>
        <p:blipFill>
          <a:blip r:embed="rId1"/>
          <a:stretch/>
        </p:blipFill>
        <p:spPr>
          <a:xfrm>
            <a:off x="1214280" y="14288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ВЕРА\ТАРЕЛКА.jpeg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ВЕРА\ВЕНИК.jpeg"/>
          <p:cNvPicPr/>
          <p:nvPr/>
        </p:nvPicPr>
        <p:blipFill>
          <a:blip r:embed="rId3"/>
          <a:stretch/>
        </p:blipFill>
        <p:spPr>
          <a:xfrm>
            <a:off x="1214280" y="3643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ВЕРА\ЦВЕТЫ В ГОРШКЕ.jpeg"/>
          <p:cNvPicPr/>
          <p:nvPr/>
        </p:nvPicPr>
        <p:blipFill>
          <a:blip r:embed="rId4"/>
          <a:stretch/>
        </p:blipFill>
        <p:spPr>
          <a:xfrm>
            <a:off x="4500720" y="364320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5"/>
          <a:stretch/>
        </p:blipFill>
        <p:spPr>
          <a:xfrm>
            <a:off x="1279440" y="438120"/>
            <a:ext cx="64994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ВЕРА\ПИРОЖОК .jpg"/>
          <p:cNvPicPr/>
          <p:nvPr/>
        </p:nvPicPr>
        <p:blipFill>
          <a:blip r:embed="rId1"/>
          <a:stretch/>
        </p:blipFill>
        <p:spPr>
          <a:xfrm>
            <a:off x="1000080" y="2071800"/>
            <a:ext cx="471492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ВЕРА\КУРИЦА .jpeg"/>
          <p:cNvPicPr/>
          <p:nvPr/>
        </p:nvPicPr>
        <p:blipFill>
          <a:blip r:embed="rId2"/>
          <a:stretch/>
        </p:blipFill>
        <p:spPr>
          <a:xfrm>
            <a:off x="4321080" y="3571920"/>
            <a:ext cx="375120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1066680" y="298440"/>
            <a:ext cx="7656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7729560" cy="9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ВЕРА\ВОПРОС И КАРКНДАШ.jpg"/>
          <p:cNvPicPr/>
          <p:nvPr/>
        </p:nvPicPr>
        <p:blipFill>
          <a:blip r:embed="rId2"/>
          <a:stretch/>
        </p:blipFill>
        <p:spPr>
          <a:xfrm rot="21234600">
            <a:off x="869760" y="2760840"/>
            <a:ext cx="2366640" cy="3070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35728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сьогодні зрозумів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знатиму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720" y="16430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ТА ПЕРЕКАЗАВАТ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ПОВІДАННЯ “СИВІ ВОЛОСИНКИ”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ОПОВІДАННЯ “СИВІ В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ОСИНКИ”  В ОСОБАХ  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ДІАЛОГ “ОЛЕСЯ В ХЛІБ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МУ МАГАЗИНІ 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РОЗПОВІДЬ ЗА МАЛЮ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549360"/>
            <a:ext cx="801720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912080" cy="27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ВЕРА\украинцы дети.jpg"/>
          <p:cNvPicPr/>
          <p:nvPr/>
        </p:nvPicPr>
        <p:blipFill>
          <a:blip r:embed="rId2"/>
          <a:stretch/>
        </p:blipFill>
        <p:spPr>
          <a:xfrm>
            <a:off x="1071720" y="3000240"/>
            <a:ext cx="69292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7855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В  небі завжди сонце світить яс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А в душі немає пуст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Світ тобі всміхається прекрас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Якщо є багато добр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Calibri"/>
              </a:rPr>
              <a:t>Гра “Перекладач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56920" y="1785600"/>
            <a:ext cx="6215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МОГАТЬ  СТАРШ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ЫТЬ  ТА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ЛИВАТЬ  ЦВ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МЕТАТЬ 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УПАТЬ  ПРОД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658800"/>
            <a:ext cx="679788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2286000"/>
            <a:ext cx="315720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3"/>
          <a:stretch/>
        </p:blipFill>
        <p:spPr>
          <a:xfrm>
            <a:off x="3852720" y="3657600"/>
            <a:ext cx="39132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ВЕРА\курочка ряба1.jpg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357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682560"/>
            <a:ext cx="55162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ВЕРА\kurochka_ryaba.jpg"/>
          <p:cNvPicPr/>
          <p:nvPr/>
        </p:nvPicPr>
        <p:blipFill>
          <a:blip r:embed="rId1"/>
          <a:stretch/>
        </p:blipFill>
        <p:spPr>
          <a:xfrm>
            <a:off x="1071720" y="2143080"/>
            <a:ext cx="70005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011240"/>
            <a:ext cx="75837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ВЕРА\ВОПРОС В КНИГЕ.jpeg"/>
          <p:cNvPicPr/>
          <p:nvPr/>
        </p:nvPicPr>
        <p:blipFill>
          <a:blip r:embed="rId1"/>
          <a:stretch/>
        </p:blipFill>
        <p:spPr>
          <a:xfrm rot="20988600">
            <a:off x="1695600" y="3873240"/>
            <a:ext cx="4194000" cy="26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ВЕРА\МАЛЬЧИК.jpg"/>
          <p:cNvPicPr/>
          <p:nvPr/>
        </p:nvPicPr>
        <p:blipFill>
          <a:blip r:embed="rId2"/>
          <a:stretch/>
        </p:blipFill>
        <p:spPr>
          <a:xfrm>
            <a:off x="6000840" y="3000240"/>
            <a:ext cx="2085840" cy="343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ВЕРА\узор укр 3.jpg"/>
          <p:cNvPicPr/>
          <p:nvPr/>
        </p:nvPicPr>
        <p:blipFill>
          <a:blip r:embed="rId3"/>
          <a:stretch/>
        </p:blipFill>
        <p:spPr>
          <a:xfrm>
            <a:off x="0" y="0"/>
            <a:ext cx="17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1206360" y="225360"/>
            <a:ext cx="865692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798560"/>
            <a:ext cx="615636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 – ЛЕНЬ – 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Д – ХО – ДИ – 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 – БЕЗ – ПЕ –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– КИ –НУ –ЛА –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 – ЛО –СИ – 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 – СРІБ – ЛИ -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38:22Z</dcterms:created>
  <dc:creator>Liza</dc:creator>
  <dc:description/>
  <dc:language>en-US</dc:language>
  <cp:lastModifiedBy>Никита</cp:lastModifiedBy>
  <dcterms:modified xsi:type="dcterms:W3CDTF">2012-05-02T14:18:10Z</dcterms:modified>
  <cp:revision>44</cp:revision>
  <dc:subject/>
  <dc:title>Слайд 1</dc:title>
</cp:coreProperties>
</file>