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7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gif" ContentType="image/gif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487-C96C-45D5-BB8B-633B4E58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8CA-83C8-4E03-8CCD-471F7991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F49-B48D-475D-8436-990F915A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85A-C3FE-4713-9613-91A2452E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C27F-4CBB-4478-A644-A106E948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1B44-23A4-4E7A-83A6-3A999B61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9EDF-9C28-4AC5-99A3-890B9DEA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41CA-9954-4B67-A721-555C1BE1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F293-AF12-41DD-983E-6130FA88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9406-AD33-439C-8E1C-4D4CFAA0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BD73-0223-48D2-A953-9163B0D9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153-1151-4060-98F8-06DC3B53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C0A5-E501-4D6C-96F6-6B83841A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55F2-17B3-4FC1-A82F-5CC51CBB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527D-D705-42A5-B226-1951D2FB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B4A2-C414-4813-BB5E-D1960ACE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98E1-163A-451E-A4A5-F7FFBE97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21E-E94F-426A-BEB8-D2410BF5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70C-7E1C-40CE-8FF3-A02F3B7E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A91-8773-4CC2-A486-C6E4E957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0D0-FB21-49CA-B458-E0ACF014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C28-DF3C-4E7B-AAF4-34C57610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43F-CCA0-4D8F-AC40-9E7E9864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341-2120-478C-B405-FAEC0CC4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60D5-EF8C-43C4-8FF4-3D6E032A06C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94C1-21BC-431F-A7E1-316C46D64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B96E-5F6D-42DC-8D32-E0EE6E2F73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0A37-9DD5-4ECD-AE11-1F61C74EB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21304"/>
                </a:solidFill>
                <a:latin typeface="Times New Roman"/>
              </a:rPr>
              <a:t>Адресация в Интернет</a:t>
            </a:r>
            <a:br>
              <a:rPr sz="7200"/>
            </a:b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FF86-5DC0-452C-B1E2-2D41908D32DD}" type="datetime3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342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Доменная система имен ставит в соответствие числовому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-адресу каждого компьютера уникальное доменное имя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3808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ы могут легко найти друг друга по числовом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у, однако запомнить числовой адрес человеку трудно, и для удобства была введе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менная Система Им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638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Дом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зона, учас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5BE-64F3-4194-AC7E-BF9CA82EDF2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3F0F0-B7BD-4F81-B782-93BD9509AF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Система доменных имен построена по иерархическому принцип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ервый справа домен (его еще называют суффиксом) – домен верхнего уровня, за ним домен – второго уровня и т.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оследний (первый слева) – имя компьюте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8380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alup.mtu.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5029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9FC-9941-4C8D-BA00-32C830C6DA7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7A465-B3F9-42FB-BB6D-4BC752B7B7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437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Домены верхнего уровня бывают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географически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двухбуквенными) или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административны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трехбуквенными)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53080" y="4952880"/>
            <a:ext cx="1387440" cy="126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53F-F17F-4BE0-900C-01DD64449B5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82CBD-8EC0-43A4-B439-423AD332B8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Некоторые имена доменов верхнего уровн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219320"/>
          <a:ext cx="7772040" cy="4929120"/>
        </p:xfrm>
        <a:graphic>
          <a:graphicData uri="http://schemas.openxmlformats.org/drawingml/2006/table">
            <a:tbl>
              <a:tblPr/>
              <a:tblGrid>
                <a:gridCol w="1321200"/>
                <a:gridCol w="2875680"/>
                <a:gridCol w="1243440"/>
                <a:gridCol w="2331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министр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орган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ограф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тельств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вший СС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с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лия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ла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D8A-CD35-4944-BBE5-D127786D502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8C3B7-2648-467F-9AF0-1BE8040E08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Доменные имена второго уровня географического типа распределяют национальные центр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05520" y="4614840"/>
            <a:ext cx="3001680" cy="14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D66-3F17-44C4-9C3A-97651E1FD1B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F33C8-39DA-4396-80D6-F63293E284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90920" y="1371600"/>
            <a:ext cx="4267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6324480" cy="291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F3F-4292-49AC-82DA-2719B01D88A1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B6624-47D5-42DB-B21D-69A8CF4354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Каркас» Интернет составляет более сорока миллионов серверов, постоянно подключенных к сети, из них в России около двухсот тысяч (на январь 1999 г.). К ним в свою очередь могут подключаться с помощью локальных сетей или коммутируемых телефонных линий сотни миллионов пользователей Интернет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CC0-1F06-4BD8-9B2F-8D31B8366F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B72DA-69D6-4250-92D1-B3A6927407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Каждый компьютер, подключенный к Интернет, имеет свой уникальный </a:t>
            </a:r>
            <a:br>
              <a:rPr sz="4400"/>
            </a:b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32-битный (в двоичной системе) 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-адре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го чтобы в процессе обмена информацией компьютеры могли найти друг друга, в Интернет существует единая система адресации, основанная на использова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0120" y="609480"/>
            <a:ext cx="12189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Легко подсчитать, что общее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количество различных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адресо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ляет более 4 миллиардов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41911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N=2</a:t>
            </a:r>
            <a:r>
              <a:rPr b="1" lang="en-US" sz="4800" spc="-1" strike="noStrike" baseline="50000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=4 294 967 29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91520" y="4876920"/>
            <a:ext cx="14446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87F-041D-44CE-8924-1413E8CCC9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8E26A-FDE3-4AD7-811F-F807CE0A54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533520"/>
            <a:ext cx="655344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ции учитывает структуру Интернет, т.е. то, что Интернет является сетью сетей, а не объединением отдельных компьютеров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состоит из двух частей, одна из которых является адресом сети, а другая адресом компьютера в се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еспечения максимальной гибкости в процессе распредел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ов, в зависимости от количества компьютеров в сети, адреса разделяются на три клас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е биты адреса отводятся для идентификации класса, а остальные разделяются на адрес сети и адрес компьют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62E-35E8-4489-AEB0-B7B597F5F2EF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480C1-32D7-499F-B1D3-285A6DEAD8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-адресация в сетях различных класс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71600" y="1828800"/>
          <a:ext cx="7238880" cy="4114800"/>
        </p:xfrm>
        <a:graphic>
          <a:graphicData uri="http://schemas.openxmlformats.org/drawingml/2006/table">
            <a:tbl>
              <a:tblPr/>
              <a:tblGrid>
                <a:gridCol w="1292040"/>
                <a:gridCol w="406440"/>
                <a:gridCol w="182520"/>
                <a:gridCol w="182520"/>
                <a:gridCol w="358920"/>
                <a:gridCol w="2095200"/>
                <a:gridCol w="27212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7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2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1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16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21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8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CCE-AE33-4876-96B0-5C2CA43AC06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857DE-7973-4E72-A8A0-F6847E17F8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дрес сети класса А имеет только 7 бит для адреса сети и 24 бита для адреса компьютера, т.е. может существовать лиш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28 сетей этого клас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зато в каждой сети может содержатьс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6 777 216 компьютер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4572000" y="5334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A4B-0D29-4CF8-9CE6-320054D37A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81BA4-000A-412E-BB6E-F3EDBCB418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В десятичной записи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-адрес состоит из 4 чисел, разделенных точками, каждое из которых лежит в диапазоне от 0 до 255.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Например,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дрес сервера МТУ-ИНФОРМ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записывается как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Достаточно определить по первому числу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адреса компьютера, его принадлежность к сети того или иного класса: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0384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А – число от 0 до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В – число от 128 до 1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С – число от 192 до 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81680" y="4230720"/>
            <a:ext cx="1158840" cy="103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30B-048B-483C-9D01-C42E53C7BE9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B5B2E-BF24-48A1-A221-31B9CA9492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533520"/>
            <a:ext cx="6858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пример, адрес компании МТУ-ИНФОР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50532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рвер компании находится к сети класса С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дрес которой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95.34.3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 адрес компьютера в сети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467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374-14F2-4E4E-B6DE-A57200F6E69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F6941-A45C-42CE-8AD3-08E2945390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5:33:28Z</dcterms:created>
  <dc:creator>Усольцева Э.</dc:creator>
  <dc:description/>
  <dc:language>en-US</dc:language>
  <cp:lastModifiedBy>Компьютер</cp:lastModifiedBy>
  <dcterms:modified xsi:type="dcterms:W3CDTF">2008-04-19T05:02:20Z</dcterms:modified>
  <cp:revision>28</cp:revision>
  <dc:subject/>
  <dc:title>Глобальная компьютерная сеть Internet</dc:title>
</cp:coreProperties>
</file>