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7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laser.wav" ContentType="audio/x-wav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9.gif" ContentType="image/gif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C36-81EA-4628-B6DC-4DCD1008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76E-F716-4F6B-8CD8-D7D0B457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5F26-C31B-4FC3-81E3-6A778F1E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49AE-FAFC-4A5D-98AF-B2F9585E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EEF5-EF38-41F1-BB1A-37C8D80F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DB51-945B-4787-8AE2-56CD01FC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E173-AE4A-4566-B97C-AF26B90B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C142-E8A1-4E1A-AA20-E1D7ABEA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1661-D228-437B-B515-F45111A6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C932-9226-4847-A6D6-3FFCAEEF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F36C-27EB-4E14-9606-ED9ECD3E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107-9DE1-4C62-AE66-472D9575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2921-8008-4319-B518-7C702D50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2561-A0CD-4D7D-827C-945DAF4E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05F2-E0AE-4D11-9495-AF8664CD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B0E6-F8A1-4408-A889-FDE4BC9F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F598-FF7F-4698-9CF9-CBD258D1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F7A-8B80-4030-B1E7-DB9FADAB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4F7-8EAA-405A-8572-0FE50EDC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EE56-F528-4F03-A594-B4D3DD1A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4A2-6A5C-4D3B-97A4-FA66B786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06D6-A733-4BB4-A8A6-0F4D4E93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0BEA-BE77-44A0-842B-16AE506D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C4C-AF54-4E81-9B2C-8EDD5540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B2D9-167F-44D4-8AA4-57A4A42E0B7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4621-F86C-4BAD-B51E-B44EDD5CA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4D37-937B-44DB-ADC1-6785EF6F25E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836B-1DFB-4830-899A-BADAFF86C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057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21304"/>
                </a:solidFill>
                <a:latin typeface="Times New Roman"/>
              </a:rPr>
              <a:t>Адресация в Интернет</a:t>
            </a:r>
            <a:br>
              <a:rPr sz="7200"/>
            </a:b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0E76-9D33-4E35-9F68-1FB9ABC7D5AF}" type="datetime3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924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342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Доменная система имен ставит в соответствие числовому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-адресу каждого компьютера уникальное доменное имя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3808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ьютеры могут легко найти друг друга по числовом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у, однако запомнить числовой адрес человеку трудно, и для удобства была введе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менная Система Им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638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Дом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зона, учас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939-0878-4680-B738-CB9598EE36B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F2113-C1D5-4775-B3F2-E4CB1B2FFE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Система доменных имен построена по иерархическому принцип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Первый справа домен (его еще называют суффиксом) – домен верхнего уровня, за ним домен – второго уровня и т.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Последний (первый слева) – имя компьюте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8380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alup.mtu.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2920" y="5029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279-8670-485F-A030-8966254F39F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6EE8F-FADC-43CD-BD2A-1BCD17A7F2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437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Домены верхнего уровня бывают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географическими</a:t>
            </a: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 (двухбуквенными) или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административными</a:t>
            </a: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 (трехбуквенными)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53080" y="4952880"/>
            <a:ext cx="1387440" cy="126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597-AB15-4DAC-B276-461A6CFA812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1C975-933B-435D-9AE4-2F19E94B8E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Некоторые имена доменов верхнего уровн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90720" y="1219320"/>
          <a:ext cx="7772040" cy="4929120"/>
        </p:xfrm>
        <a:graphic>
          <a:graphicData uri="http://schemas.openxmlformats.org/drawingml/2006/table">
            <a:tbl>
              <a:tblPr/>
              <a:tblGrid>
                <a:gridCol w="1321200"/>
                <a:gridCol w="2875680"/>
                <a:gridCol w="1243440"/>
                <a:gridCol w="23317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министра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орган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ограф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ер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тельственная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вший ССС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с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лия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ланд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коммер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03B2-0E3A-4E79-B567-5F524BA0B79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23F9A-D3BC-423D-B1D2-A53AA77552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Доменные имена второго уровня географического типа распределяют национальные центр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05520" y="4614840"/>
            <a:ext cx="3001680" cy="14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338-22DB-4E58-BFDD-E2B3B637E46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815AA-557D-4F6D-882E-D64BAFAE75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90920" y="1371600"/>
            <a:ext cx="4267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6324480" cy="291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291-BC89-4A0D-984A-FF7D631A0901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B26BE-F1DA-4EA7-82C0-8C27FD4D62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Каркас» Интернет составляет более сорока миллионов серверов, постоянно подключенных к сети, из них в России около двухсот тысяч (на январь 1999 г.). К ним в свою очередь могут подключаться с помощью локальных сетей или коммутируемых телефонных линий сотни миллионов пользователей Интернет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4763-D1CE-4BDF-B75D-4C6EB987BF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7E68F-CE05-4EE0-BF3E-48E90A220B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Каждый компьютер, подключенный к Интернет, имеет свой уникальный </a:t>
            </a:r>
            <a:br>
              <a:rPr sz="4400"/>
            </a:b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32-битный (в двоичной системе) 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-адре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того чтобы в процессе обмена информацией компьютеры могли найти друг друга, в Интернет существует единая система адресации, основанная на использова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0120" y="609480"/>
            <a:ext cx="12189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21896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Легко подсчитать, что общее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количество различных</a:t>
            </a: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P-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адресов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тавляет более 4 миллиардов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41911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N=2</a:t>
            </a:r>
            <a:r>
              <a:rPr b="1" lang="en-US" sz="4800" spc="-1" strike="noStrike" baseline="50000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=4 294 967 29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91520" y="4876920"/>
            <a:ext cx="14446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6FAA-7943-40DB-A541-8208D4F6EB1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64F2B-93DF-4B21-B732-1210E2E9C8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3880" y="533520"/>
            <a:ext cx="655344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ации учитывает структуру Интернет, т.е. то, что Интернет является сетью сетей, а не объединением отдельных компьютеров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 состоит из двух частей, одна из которых является адресом сети, а другая адресом компьютера в се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беспечения максимальной гибкости в процессе распредел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ов, в зависимости от количества компьютеров в сети, адреса разделяются на три класс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е биты адреса отводятся для идентификации класса, а остальные разделяются на адрес сети и адрес компьют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5B42-7519-452D-89A9-2F5BD04C155B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DF5D8-CAA0-42A8-9E0D-FA7BB23F9A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-адресация в сетях различных класс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71600" y="1828800"/>
          <a:ext cx="7238880" cy="4114800"/>
        </p:xfrm>
        <a:graphic>
          <a:graphicData uri="http://schemas.openxmlformats.org/drawingml/2006/table">
            <a:tbl>
              <a:tblPr/>
              <a:tblGrid>
                <a:gridCol w="1292040"/>
                <a:gridCol w="406440"/>
                <a:gridCol w="182520"/>
                <a:gridCol w="182520"/>
                <a:gridCol w="358920"/>
                <a:gridCol w="2095200"/>
                <a:gridCol w="27212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7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24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14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16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21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8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7621-3F44-4DEB-B46D-B0389F8FDFE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A4C95-CBC2-4920-8069-C95832DBC7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дрес сети класса А имеет только 7 бит для адреса сети и 24 бита для адреса компьютера, т.е. может существовать лиш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28 сетей этого клас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зато в каждой сети может содержатьс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6 777 216 компьютер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4572000" y="5334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A15-A1B8-4436-B0A3-ACBB9F6C2EA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501F1-5124-4F6E-ACBC-930B89DE9D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В десятичной записи 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-адрес состоит из 4 чисел, разделенных точками, каждое из которых лежит в диапазоне от 0 до 255.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Например,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адрес сервера МТУ-ИНФОРМ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записывается как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195.34.32.11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Достаточно определить по первому числу 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адреса компьютера, его принадлежность к сети того или иного класса: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0384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А – число от 0 до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В – число от 128 до 1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С – число от 192 до 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81680" y="4230720"/>
            <a:ext cx="1158840" cy="103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AAC-B70A-490F-BDB8-170582DE60F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E90B6-A2E4-4B5F-9669-5FDAA3FE95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533520"/>
            <a:ext cx="6858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пример, адрес компании МТУ-ИНФОР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660066"/>
                </a:solidFill>
                <a:latin typeface="Times New Roman"/>
              </a:rPr>
              <a:t>195.34.32.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50532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рвер компании находится к сети класса С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дрес которой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195.34.3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 адрес компьютера в сети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1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2666880"/>
            <a:ext cx="1467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700-3E12-48E9-8291-6C821DD74351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E3F0C-F330-4DA6-A491-CF113B9445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5:33:28Z</dcterms:created>
  <dc:creator>Усольцева Э.</dc:creator>
  <dc:description/>
  <dc:language>en-US</dc:language>
  <cp:lastModifiedBy>Компьютер</cp:lastModifiedBy>
  <dcterms:modified xsi:type="dcterms:W3CDTF">2008-04-19T05:02:20Z</dcterms:modified>
  <cp:revision>28</cp:revision>
  <dc:subject/>
  <dc:title>Глобальная компьютерная сеть Internet</dc:title>
</cp:coreProperties>
</file>