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7.gif" ContentType="image/gif"/>
  <Override PartName="/ppt/media/image1.png" ContentType="image/png"/>
  <Override PartName="/ppt/media/image2.jpeg" ContentType="image/jpeg"/>
  <Override PartName="/ppt/media/image3.png" ContentType="image/png"/>
  <Override PartName="/ppt/media/image4.gif" ContentType="image/gif"/>
  <Override PartName="/ppt/media/laser.wav" ContentType="audio/x-wav"/>
  <Override PartName="/ppt/media/image8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11.gif" ContentType="image/gif"/>
  <Override PartName="/ppt/media/image9.gif" ContentType="image/gif"/>
  <Override PartName="/ppt/media/explode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5C81-DF20-4284-B899-B2C587E7F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5FD8-06D1-4472-A239-FAD21A543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BA2B-D3A2-4D1A-A088-22DBFAB06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4EBE-5754-4D8B-ACEF-C2FB98548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7A9F1-68F8-4BB1-9862-A6B6F0EEE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50E6A-2245-411F-81AC-36F50F500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2F954-B04E-43D4-9FF0-82D315377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9A9FE-0DED-4245-B020-558C7BB65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D1262-9FC3-47B9-9B4A-2A969581B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E2D54-1A0E-4324-AD67-22F5C63D1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51BF6-ABA7-482C-AF6D-0F3C54164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5810-21D6-4CFA-A7D3-AB4C57D11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AE274-B2EE-4FCE-97A3-8E799C695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D4984-0FB1-482F-B658-004C98C28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F96E6-B41F-456B-B2BD-AB3844D20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5700A-A1E8-4C42-919A-DF2DEA5F5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8BC93-64F8-494A-A290-61C760A37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4229-0A33-491B-9EA3-EC43A7336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1B75-B200-44C2-A5A9-057F85782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38B5-73B1-42CD-A9AA-8D7B50501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A273-B528-4D8B-9A32-AA28901F9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731B-D724-4E98-B0B1-26CF6E1E9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C073-F745-43ED-A558-D7EEA8E49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8D83-3431-4352-961F-EFD486AB5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C8906-ABCA-4ADF-91C3-684D6DA33295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FC0B8-C090-49F7-BEDD-7F4C8AF8F7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80378-8188-4A0C-93A8-A91203881162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1DC24-09FA-42F7-92CE-0D6B822551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05740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221304"/>
                </a:solidFill>
                <a:latin typeface="Times New Roman"/>
              </a:rPr>
              <a:t>Адресация в Интернет</a:t>
            </a:r>
            <a:br>
              <a:rPr sz="7200"/>
            </a:br>
            <a:endParaRPr b="0" lang="en-US" sz="7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486400" y="38088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AFD1E-EF48-4A09-915B-9A3E19F51C2F}" type="datetime3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ly 29, 20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724280" y="2438280"/>
            <a:ext cx="3924360" cy="39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2640" y="3428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imes New Roman"/>
              </a:rPr>
              <a:t>Доменная система имен ставит в соответствие числовому </a:t>
            </a: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IP</a:t>
            </a:r>
            <a:r>
              <a:rPr b="0" lang="ru-RU" sz="4400" spc="-1" strike="noStrike">
                <a:solidFill>
                  <a:srgbClr val="660066"/>
                </a:solidFill>
                <a:latin typeface="Times New Roman"/>
              </a:rPr>
              <a:t>-адресу каждого компьютера уникальное доменное имя.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90720" y="380880"/>
            <a:ext cx="76197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мпьютеры могут легко найти друг друга по числовому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адресу, однако запомнить числовой адрес человеку трудно, и для удобства была введена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Доменная Система Име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514600" y="563868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Доме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зона, участо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8308-6AE5-4170-8AD8-2650FD96DB55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5DF8CC-CA27-4501-A4C0-D0E435349DD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Система доменных имен построена по иерархическому принципу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Первый справа домен (его еще называют суффиксом) – домен верхнего уровня, за ним домен – второго уровня и т.д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Последний (первый слева) – имя компьютер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905120" y="838080"/>
            <a:ext cx="594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dialup.mtu.r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7162920" y="5029200"/>
            <a:ext cx="1523880" cy="1523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0C67-4B46-4076-9B00-93420B2C522D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3A2344-E8FB-4C82-A932-8EF74D28374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2640" y="24379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21304"/>
                </a:solidFill>
                <a:latin typeface="Times New Roman"/>
              </a:rPr>
              <a:t>Домены верхнего уровня бывают </a:t>
            </a:r>
            <a:r>
              <a:rPr b="0" lang="en-US" sz="4800" spc="-1" strike="noStrike">
                <a:solidFill>
                  <a:srgbClr val="003366"/>
                </a:solidFill>
                <a:latin typeface="Times New Roman"/>
              </a:rPr>
              <a:t>географическими</a:t>
            </a:r>
            <a:r>
              <a:rPr b="0" lang="en-US" sz="4800" spc="-1" strike="noStrike">
                <a:solidFill>
                  <a:srgbClr val="221304"/>
                </a:solidFill>
                <a:latin typeface="Times New Roman"/>
              </a:rPr>
              <a:t> (двухбуквенными) или </a:t>
            </a:r>
            <a:r>
              <a:rPr b="0" lang="en-US" sz="4800" spc="-1" strike="noStrike">
                <a:solidFill>
                  <a:srgbClr val="003366"/>
                </a:solidFill>
                <a:latin typeface="Times New Roman"/>
              </a:rPr>
              <a:t>административными</a:t>
            </a:r>
            <a:r>
              <a:rPr b="0" lang="en-US" sz="4800" spc="-1" strike="noStrike">
                <a:solidFill>
                  <a:srgbClr val="221304"/>
                </a:solidFill>
                <a:latin typeface="Times New Roman"/>
              </a:rPr>
              <a:t> (трехбуквенными)</a:t>
            </a:r>
            <a:endParaRPr b="0" lang="en-US" sz="48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553080" y="4952880"/>
            <a:ext cx="1387440" cy="126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9366-0BC5-4694-AAA8-518EC60E4628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2E307E-BAC3-4B2B-820B-7B1F0F5AE13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1304"/>
                </a:solidFill>
                <a:latin typeface="Times New Roman"/>
              </a:rPr>
              <a:t>Некоторые имена доменов верхнего уровня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990720" y="1219320"/>
          <a:ext cx="7772040" cy="4929120"/>
        </p:xfrm>
        <a:graphic>
          <a:graphicData uri="http://schemas.openxmlformats.org/drawingml/2006/table">
            <a:tbl>
              <a:tblPr/>
              <a:tblGrid>
                <a:gridCol w="1321200"/>
                <a:gridCol w="2875680"/>
                <a:gridCol w="1243440"/>
                <a:gridCol w="2331720"/>
              </a:tblGrid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дминистратив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a1bd6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ип организа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a1bd6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еографическ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a1bd6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ран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a1bd6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ммерческа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над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d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разовательн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ерма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o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авительственная СШ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Япони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ждународна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осси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енная СШ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ывший ССС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мпьютерная се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нглия/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рланд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коммерческа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Ш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0CCF-113B-4EBC-BD1B-FCD6EF47743C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E4CB0F-219E-440B-BF09-FEF2436E00E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2666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Доменные имена второго уровня географического типа распределяют национальные центры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105520" y="4614840"/>
            <a:ext cx="3001680" cy="1424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E9DD-C2B6-4D82-8A62-2C673368987E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34E1E4-69D6-43A2-AABE-5660A28F236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2590920" y="1371600"/>
            <a:ext cx="426708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c9fcb"/>
                    </a:gs>
                    <a:gs pos="100000">
                      <a:srgbClr val="f8b049"/>
                    </a:gs>
                  </a:gsLst>
                  <a:lin ang="5400000"/>
                </a:gradFill>
                <a:latin typeface="Times New Roman"/>
              </a:rPr>
              <a:t>The En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c9fcb"/>
                  </a:gs>
                  <a:gs pos="100000">
                    <a:srgbClr val="f8b04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600200" y="2743200"/>
            <a:ext cx="6324480" cy="2917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0931-7850-4388-9E69-1A0C0BDEA1E4}" type="slidenum">
              <a:t>1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F2606F-1A4E-43C6-8052-ED45EC033E6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7720" y="533520"/>
            <a:ext cx="76201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«Каркас» Интернет составляет более сорока миллионов серверов, постоянно подключенных к сети, из них в России около двухсот тысяч (на январь 1999 г.). К ним в свою очередь могут подключаться с помощью локальных сетей или коммутируемых телефонных линий сотни миллионов пользователей Интернет.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6077-E55A-4716-8657-91F577A44EE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A2004D-3E0A-45B8-9A36-85088CA8263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720" y="3657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66"/>
                </a:solidFill>
                <a:latin typeface="Times New Roman"/>
              </a:rPr>
              <a:t>Каждый компьютер, подключенный к Интернет, имеет свой уникальный </a:t>
            </a:r>
            <a:br>
              <a:rPr sz="4400"/>
            </a:br>
            <a:r>
              <a:rPr b="1" lang="ru-RU" sz="4400" spc="-1" strike="noStrike">
                <a:solidFill>
                  <a:srgbClr val="660066"/>
                </a:solidFill>
                <a:latin typeface="Times New Roman"/>
              </a:rPr>
              <a:t>32-битный (в двоичной системе) </a:t>
            </a: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IP</a:t>
            </a:r>
            <a:r>
              <a:rPr b="1" lang="ru-RU" sz="4400" spc="-1" strike="noStrike">
                <a:solidFill>
                  <a:srgbClr val="660066"/>
                </a:solidFill>
                <a:latin typeface="Times New Roman"/>
              </a:rPr>
              <a:t>-адрес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ля того чтобы в процессе обмена информацией компьютеры могли найти друг друга, в Интернет существует единая система адресации, основанная на использовани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адрес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7620120" y="609480"/>
            <a:ext cx="1218960" cy="10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3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3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1218960"/>
            <a:ext cx="7620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21304"/>
                </a:solidFill>
                <a:latin typeface="Times New Roman"/>
              </a:rPr>
              <a:t>Легко подсчитать, что общее </a:t>
            </a:r>
            <a:r>
              <a:rPr b="0" lang="ru-RU" sz="3600" spc="-1" strike="noStrike">
                <a:solidFill>
                  <a:srgbClr val="660066"/>
                </a:solidFill>
                <a:latin typeface="Times New Roman"/>
              </a:rPr>
              <a:t>количество различных</a:t>
            </a:r>
            <a:r>
              <a:rPr b="0" lang="ru-RU" sz="40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660066"/>
                </a:solidFill>
                <a:latin typeface="Times New Roman"/>
              </a:rPr>
              <a:t>IP-</a:t>
            </a:r>
            <a:r>
              <a:rPr b="0" lang="ru-RU" sz="3600" spc="-1" strike="noStrike">
                <a:solidFill>
                  <a:srgbClr val="660066"/>
                </a:solidFill>
                <a:latin typeface="Times New Roman"/>
              </a:rPr>
              <a:t>адресов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оставляет более 4 миллиардов: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4191120"/>
            <a:ext cx="762012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66"/>
                </a:solidFill>
                <a:latin typeface="Times New Roman"/>
              </a:rPr>
              <a:t>N=2</a:t>
            </a:r>
            <a:r>
              <a:rPr b="1" lang="en-US" sz="4800" spc="-1" strike="noStrike" baseline="50000">
                <a:solidFill>
                  <a:srgbClr val="660066"/>
                </a:solidFill>
                <a:latin typeface="Times New Roman"/>
              </a:rPr>
              <a:t>32</a:t>
            </a:r>
            <a:r>
              <a:rPr b="1" lang="en-US" sz="4800" spc="-1" strike="noStrike">
                <a:solidFill>
                  <a:srgbClr val="660066"/>
                </a:solidFill>
                <a:latin typeface="Times New Roman"/>
              </a:rPr>
              <a:t>=4 294 967 29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7391520" y="4876920"/>
            <a:ext cx="1444680" cy="160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1028-F2BC-4F34-B938-528687AD63A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152CE0-2D7A-4DA6-A8A7-34B622A8CC8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523880" y="533520"/>
            <a:ext cx="6553440" cy="52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истем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дресации учитывает структуру Интернет, т.е. то, что Интернет является сетью сетей, а не объединением отдельных компьютеров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дрес состоит из двух частей, одна из которых является адресом сети, а другая адресом компьютера в сет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ля обеспечения максимальной гибкости в процессе распределени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P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адресов, в зависимости от количества компьютеров в сети, адреса разделяются на три класс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, B, 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вые биты адреса отводятся для идентификации класса, а остальные разделяются на адрес сети и адрес компьютер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37F7-2501-4E4D-805D-AEEF5557EA95}" type="slidenum">
              <a:t>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57B3D3-572A-4E82-8FF6-E1E4AF5FCAD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9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4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9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P</a:t>
            </a:r>
            <a:r>
              <a:rPr b="0" lang="ru-RU" sz="3200" spc="-1" strike="noStrike">
                <a:solidFill>
                  <a:srgbClr val="660066"/>
                </a:solidFill>
                <a:latin typeface="Times New Roman"/>
              </a:rPr>
              <a:t>-адресация в сетях различных классов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371600" y="1828800"/>
          <a:ext cx="7238880" cy="4114800"/>
        </p:xfrm>
        <a:graphic>
          <a:graphicData uri="http://schemas.openxmlformats.org/drawingml/2006/table">
            <a:tbl>
              <a:tblPr/>
              <a:tblGrid>
                <a:gridCol w="1292040"/>
                <a:gridCol w="406440"/>
                <a:gridCol w="182520"/>
                <a:gridCol w="182520"/>
                <a:gridCol w="358920"/>
                <a:gridCol w="2095200"/>
                <a:gridCol w="2721240"/>
              </a:tblGrid>
              <a:tr h="1373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Класс 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Адрес сети (7 бит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Адрес компьютера</a:t>
                      </a:r>
                      <a:br>
                        <a:rPr sz="2800"/>
                      </a:br>
                      <a:r>
                        <a:rPr b="0" lang="en-US" sz="2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 (24 бит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Класс 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Адрес сети (14 бит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Адрес компьютера</a:t>
                      </a:r>
                      <a:br>
                        <a:rPr sz="2800"/>
                      </a:br>
                      <a:r>
                        <a:rPr b="0" lang="en-US" sz="2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 (16 бит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Класс 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Адрес сети (21 бит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Адрес компьютера</a:t>
                      </a:r>
                      <a:br>
                        <a:rPr sz="2800"/>
                      </a:br>
                      <a:r>
                        <a:rPr b="0" lang="en-US" sz="2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 (8 бит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A264-F512-4710-B3E3-D3D79544FADB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346DF9-EBD0-49AE-B73A-FCF7180182C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Например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Адрес сети класса А имеет только 7 бит для адреса сети и 24 бита для адреса компьютера, т.е. может существовать лишь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128 сетей этого класс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зато в каждой сети может содержаться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24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16 777 216 компьютеро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4572000" y="533412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A243-9469-4956-AC43-15DA3701F26D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9AC769-339F-4E55-A357-477086984C2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201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1304"/>
                </a:solidFill>
                <a:latin typeface="Times New Roman"/>
              </a:rPr>
              <a:t>В десятичной записи </a:t>
            </a:r>
            <a:r>
              <a:rPr b="0" lang="en-US" sz="2400" spc="-1" strike="noStrike">
                <a:solidFill>
                  <a:srgbClr val="221304"/>
                </a:solidFill>
                <a:latin typeface="Times New Roman"/>
              </a:rPr>
              <a:t>IP</a:t>
            </a:r>
            <a:r>
              <a:rPr b="0" lang="ru-RU" sz="2400" spc="-1" strike="noStrike">
                <a:solidFill>
                  <a:srgbClr val="221304"/>
                </a:solidFill>
                <a:latin typeface="Times New Roman"/>
              </a:rPr>
              <a:t>-адрес состоит из 4 чисел, разделенных точками, каждое из которых лежит в диапазоне от 0 до 255. </a:t>
            </a:r>
            <a:br>
              <a:rPr sz="2400"/>
            </a:br>
            <a:r>
              <a:rPr b="0" lang="ru-RU" sz="2400" spc="-1" strike="noStrike">
                <a:solidFill>
                  <a:srgbClr val="221304"/>
                </a:solidFill>
                <a:latin typeface="Times New Roman"/>
              </a:rPr>
              <a:t>Например, </a:t>
            </a: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IP-</a:t>
            </a:r>
            <a:r>
              <a:rPr b="0" lang="ru-RU" sz="2400" spc="-1" strike="noStrike">
                <a:solidFill>
                  <a:srgbClr val="660066"/>
                </a:solidFill>
                <a:latin typeface="Times New Roman"/>
              </a:rPr>
              <a:t>адрес сервера МТУ-ИНФОРМ</a:t>
            </a:r>
            <a:r>
              <a:rPr b="0" lang="ru-RU" sz="2400" spc="-1" strike="noStrike">
                <a:solidFill>
                  <a:srgbClr val="221304"/>
                </a:solidFill>
                <a:latin typeface="Times New Roman"/>
              </a:rPr>
              <a:t> записывается как </a:t>
            </a:r>
            <a:r>
              <a:rPr b="0" lang="ru-RU" sz="2400" spc="-1" strike="noStrike">
                <a:solidFill>
                  <a:srgbClr val="660066"/>
                </a:solidFill>
                <a:latin typeface="Times New Roman"/>
              </a:rPr>
              <a:t>195.34.32.11</a:t>
            </a:r>
            <a:r>
              <a:rPr b="0" lang="ru-RU" sz="2400" spc="-1" strike="noStrike">
                <a:solidFill>
                  <a:srgbClr val="221304"/>
                </a:solidFill>
                <a:latin typeface="Times New Roman"/>
              </a:rPr>
              <a:t>.</a:t>
            </a:r>
            <a:br>
              <a:rPr sz="2400"/>
            </a:br>
            <a:r>
              <a:rPr b="0" lang="ru-RU" sz="2400" spc="-1" strike="noStrike">
                <a:solidFill>
                  <a:srgbClr val="221304"/>
                </a:solidFill>
                <a:latin typeface="Times New Roman"/>
              </a:rPr>
              <a:t>Достаточно определить по первому числу </a:t>
            </a:r>
            <a:r>
              <a:rPr b="0" lang="en-US" sz="2400" spc="-1" strike="noStrike">
                <a:solidFill>
                  <a:srgbClr val="221304"/>
                </a:solidFill>
                <a:latin typeface="Times New Roman"/>
              </a:rPr>
              <a:t>IP-</a:t>
            </a:r>
            <a:r>
              <a:rPr b="0" lang="ru-RU" sz="2400" spc="-1" strike="noStrike">
                <a:solidFill>
                  <a:srgbClr val="221304"/>
                </a:solidFill>
                <a:latin typeface="Times New Roman"/>
              </a:rPr>
              <a:t>адреса компьютера, его принадлежность к сети того или иного класса:</a:t>
            </a:r>
            <a:br>
              <a:rPr sz="2400"/>
            </a:b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143000" y="4038480"/>
            <a:ext cx="72388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адреса класса А – число от 0 до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адреса класса В – число от 128 до 19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адреса класса С – число от 192 до 2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781680" y="4230720"/>
            <a:ext cx="1158840" cy="1038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FA8C-A362-481B-A530-5E40EB20DD80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25F142-F6C9-4DD4-832E-02D3A8523A8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371600" y="533520"/>
            <a:ext cx="6858000" cy="23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Например, адрес компании МТУ-ИНФОР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0" spc="-1" strike="noStrike">
                <a:solidFill>
                  <a:srgbClr val="660066"/>
                </a:solidFill>
                <a:latin typeface="Times New Roman"/>
              </a:rPr>
              <a:t>195.34.32.1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00200" y="3505320"/>
            <a:ext cx="6477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Сервер компании находится к сети класса С,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адрес которой </a:t>
            </a:r>
            <a:r>
              <a:rPr b="0" lang="en-US" sz="3600" spc="-1" strike="noStrike">
                <a:solidFill>
                  <a:srgbClr val="660066"/>
                </a:solidFill>
                <a:latin typeface="Times New Roman"/>
              </a:rPr>
              <a:t>195.34.3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а адрес компьютера в сети </a:t>
            </a:r>
            <a:r>
              <a:rPr b="0" lang="en-US" sz="3600" spc="-1" strike="noStrike">
                <a:solidFill>
                  <a:srgbClr val="660066"/>
                </a:solidFill>
                <a:latin typeface="Times New Roman"/>
              </a:rPr>
              <a:t>11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010280" y="2666880"/>
            <a:ext cx="1467000" cy="1081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BB1B-2C85-4F83-B869-A9E2CE0BE5A4}" type="slidenum">
              <a:t>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E6D6D8-B6B5-464C-9C34-8E927DEBDAE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8T05:33:28Z</dcterms:created>
  <dc:creator>Усольцева Э.</dc:creator>
  <dc:description/>
  <dc:language>en-US</dc:language>
  <cp:lastModifiedBy>Компьютер</cp:lastModifiedBy>
  <dcterms:modified xsi:type="dcterms:W3CDTF">2008-04-19T05:02:20Z</dcterms:modified>
  <cp:revision>28</cp:revision>
  <dc:subject/>
  <dc:title>Глобальная компьютерная сеть Internet</dc:title>
</cp:coreProperties>
</file>