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7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laser.wav" ContentType="audio/x-wav"/>
  <Override PartName="/ppt/media/image8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gif" ContentType="image/gif"/>
  <Override PartName="/ppt/media/explod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4B42-95F2-4713-BA7A-D7F493A3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038-F8D0-430D-88F7-03AF67CB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7F6F-B98D-4999-834E-C3B38290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2C70-B69D-4E65-BA7E-04C45170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CBD4-9F48-4065-BF46-FA7E4C25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E280E-C4EC-4BD2-AE9F-96BE8524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C4C1-2880-4650-928F-E848CEE8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37D5-C963-48F8-A0B3-72EE79FF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FACA7-4F29-4F98-BFDF-7D3FDB7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CE97-51AA-4D05-8FDA-57FA410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D7CA-F452-44D5-921D-897F0BA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27D0-D384-4BE9-9C69-628397D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C3A4-E6F4-4435-8B70-5107FE40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E9AE-E2C6-4C2A-A5A2-EA5624F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E81B-282E-4E9A-A78E-E84DF9D5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0880-AD5D-4DE5-80D5-2F52D231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21E3-6F04-4762-ACFD-68C0A2C9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C7A4-65F6-44D8-B6AA-F5FF707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A33-67B2-4D35-A3FC-E98B2F41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31D8-C621-41AB-8333-E9DE4953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DC5-84C2-4D26-BCC8-69E5F743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A09-CB82-4096-965C-911158C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1E44-7F04-4E70-BA53-17867BA0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5314-F0BC-4244-9AF2-7A7BAF2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E136-774F-4F8A-9D74-3A3AD968AFB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F23C-AF3C-458A-B708-3C994BE43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50AA-A765-4F86-834F-6CF2AF1653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703A-FFBF-46B2-B40C-4C3F9B19F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21304"/>
                </a:solidFill>
                <a:latin typeface="Times New Roman"/>
              </a:rPr>
              <a:t>Адресация в Интернет</a:t>
            </a:r>
            <a:br>
              <a:rPr sz="7200"/>
            </a:br>
            <a:endParaRPr b="0" lang="en-US" sz="7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86400" y="3808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0DC8-4258-4E38-A3C1-0FB88F32D73C}" type="datetime3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9243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342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Доменная система имен ставит в соответствие числовому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-адресу каждого компьютера уникальное доменное имя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808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ьютеры могут легко найти друг друга по числовом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у, однако запомнить числовой адрес человеку трудно, и для удобства была введе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менная Система Им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5638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Дом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зона, участ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1A83-2303-4EAA-9F34-FACF1AC88E6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4B3D7-828C-4E0C-9B58-C493F11060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Система доменных имен построена по иерархическому принцип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ервый справа домен (его еще называют суффиксом) – домен верхнего уровня, за ним домен – второго уровня и т.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Последний (первый слева) – имя компьюте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8380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dialup.mtu.r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50292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CA66-90FA-4EE6-99AD-5AA740A1C07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CA15D1-B703-4C54-8B07-9B4AAE645B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2437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Домены верхнего уровня бывают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географически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двухбуквенными) или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административными</a:t>
            </a: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 (трехбуквенными)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53080" y="4952880"/>
            <a:ext cx="1387440" cy="126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18F-0F46-4146-BCE2-79F3D874602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AAB708-0719-4202-9693-187EA8C12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Некоторые имена доменов верхнего уровн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219320"/>
          <a:ext cx="7772040" cy="4929120"/>
        </p:xfrm>
        <a:graphic>
          <a:graphicData uri="http://schemas.openxmlformats.org/drawingml/2006/table">
            <a:tbl>
              <a:tblPr/>
              <a:tblGrid>
                <a:gridCol w="1321200"/>
                <a:gridCol w="2875680"/>
                <a:gridCol w="1243440"/>
                <a:gridCol w="233172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дминистра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 орган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ограф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ан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на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тель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ерм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тельств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по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дународ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сс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енная 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вший ССС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ьютерная се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глия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рланд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ммерческ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Ш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53E-E38A-4AB1-AFEA-4E0AF241FF4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E131B-05D7-486A-8BB0-A556EC49D9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Доменные имена второго уровня географического типа распределяют национальные центр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105520" y="4614840"/>
            <a:ext cx="3001680" cy="14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9DF-9854-410B-AAE5-595ABF8FA35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CB8E1-FB63-4CA6-8260-9A21D28101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90920" y="1371600"/>
            <a:ext cx="4267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8b049"/>
                    </a:gs>
                  </a:gsLst>
                  <a:lin ang="5400000"/>
                </a:gradFill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2743200"/>
            <a:ext cx="6324480" cy="291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548-1401-4D9D-AE54-5AC2E9FC17C8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38A3B-EFBF-4FD4-9369-2557B59AE2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«Каркас» Интернет составляет более сорока миллионов серверов, постоянно подключенных к сети, из них в России около двухсот тысяч (на январь 1999 г.). К ним в свою очередь могут подключаться с помощью локальных сетей или коммутируемых телефонных линий сотни миллионов пользователей Интернет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A04-1E04-4552-9480-F1F98074ED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D8F30-E0B1-4D00-AB6E-4376451C4A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Каждый компьютер, подключенный к Интернет, имеет свой уникальный </a:t>
            </a:r>
            <a:br>
              <a:rPr sz="4400"/>
            </a:b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32-битный (в двоичной системе) </a:t>
            </a: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660066"/>
                </a:solidFill>
                <a:latin typeface="Times New Roman"/>
              </a:rPr>
              <a:t>-адрес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того чтобы в процессе обмена информацией компьютеры могли найти друг друга, в Интернет существует единая система адресации, основанная на использован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0120" y="609480"/>
            <a:ext cx="12189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218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21304"/>
                </a:solidFill>
                <a:latin typeface="Times New Roman"/>
              </a:rPr>
              <a:t>Легко подсчитать, что общее 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количество различных</a:t>
            </a:r>
            <a:r>
              <a:rPr b="0" lang="ru-RU" sz="4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3600" spc="-1" strike="noStrike">
                <a:solidFill>
                  <a:srgbClr val="660066"/>
                </a:solidFill>
                <a:latin typeface="Times New Roman"/>
              </a:rPr>
              <a:t>адресов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ставляет более 4 миллиардов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41911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N=2</a:t>
            </a:r>
            <a:r>
              <a:rPr b="1" lang="en-US" sz="4800" spc="-1" strike="noStrike" baseline="50000">
                <a:solidFill>
                  <a:srgbClr val="660066"/>
                </a:solidFill>
                <a:latin typeface="Times New Roman"/>
              </a:rPr>
              <a:t>32</a:t>
            </a: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=4 294 967 29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91520" y="4876920"/>
            <a:ext cx="144468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78E-F415-4D4C-8629-9F973E9D8B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CB795-4269-401D-9232-BE16E52486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3880" y="533520"/>
            <a:ext cx="655344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ации учитывает структуру Интернет, т.е. то, что Интернет является сетью сетей, а не объединением отдельных компьютеров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состоит из двух частей, одна из которых является адресом сети, а другая адресом компьютера в се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обеспечения максимальной гибкости в процессе распредел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адресов, в зависимости от количества компьютеров в сети, адреса разделяются на три клас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, B,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е биты адреса отводятся для идентификации класса, а остальные разделяются на адрес сети и адрес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C5E-C36A-47E1-8F76-CF1EA772051C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EBB6D-30D8-4731-AA86-B48D4707CD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IP</a:t>
            </a:r>
            <a:r>
              <a:rPr b="0" lang="ru-RU" sz="3200" spc="-1" strike="noStrike">
                <a:solidFill>
                  <a:srgbClr val="660066"/>
                </a:solidFill>
                <a:latin typeface="Times New Roman"/>
              </a:rPr>
              <a:t>-адресация в сетях различных класс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1828800"/>
          <a:ext cx="7238880" cy="4114800"/>
        </p:xfrm>
        <a:graphic>
          <a:graphicData uri="http://schemas.openxmlformats.org/drawingml/2006/table">
            <a:tbl>
              <a:tblPr/>
              <a:tblGrid>
                <a:gridCol w="1292040"/>
                <a:gridCol w="406440"/>
                <a:gridCol w="182520"/>
                <a:gridCol w="182520"/>
                <a:gridCol w="358920"/>
                <a:gridCol w="2095200"/>
                <a:gridCol w="2721240"/>
              </a:tblGrid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7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2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14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16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Класс 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сети (21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Адрес компьютера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(8 бит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E404-54E2-461A-8C0B-ADED92FDED8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3E7E0-4A0B-4D87-B46C-C114D31E44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дрес сети класса А имеет только 7 бит для адреса сети и 24 бита для адреса компьютера, т.е. может существовать лишь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28 сетей этого клас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зато в каждой сети может содержатьс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16 777 216 компьютер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572000" y="53341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C47F-8A21-438A-88F7-BB367241EF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6E0E4-F74F-4467-9069-647659AFE9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В десятичной записи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-адрес состоит из 4 чисел, разделенных точками, каждое из которых лежит в диапазоне от 0 до 255. 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Например,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адрес сервера МТУ-ИНФОРМ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 записывается как 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Достаточно определить по первому числу 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221304"/>
                </a:solidFill>
                <a:latin typeface="Times New Roman"/>
              </a:rPr>
              <a:t>адреса компьютера, его принадлежность к сети того или иного класса: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4038480"/>
            <a:ext cx="72388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А – число от 0 до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В – число от 128 до 1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адреса класса С – число от 192 до 2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781680" y="4230720"/>
            <a:ext cx="1158840" cy="103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F8B9-2D42-4824-A842-7646D701FDB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D1D62-630F-4B95-9F29-92E39C33F0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533520"/>
            <a:ext cx="6858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Например, адрес компании МТУ-ИНФОР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195.34.32.1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50532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ервер компании находится к сети класса С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дрес которой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95.34.3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а адрес компьютера в сети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1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2666880"/>
            <a:ext cx="1467000" cy="108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1F0-725D-4A25-9026-65789F422BF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5CF47-D77A-461B-B74B-B408BA60B1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5:33:28Z</dcterms:created>
  <dc:creator>Усольцева Э.</dc:creator>
  <dc:description/>
  <dc:language>en-US</dc:language>
  <cp:lastModifiedBy>Компьютер</cp:lastModifiedBy>
  <dcterms:modified xsi:type="dcterms:W3CDTF">2008-04-19T05:02:20Z</dcterms:modified>
  <cp:revision>28</cp:revision>
  <dc:subject/>
  <dc:title>Глобальная компьютерная сеть Internet</dc:title>
</cp:coreProperties>
</file>