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7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laser.wav" ContentType="audio/x-wav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9.gif" ContentType="image/gif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B6E-98A1-41C8-99A5-CE507819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86C8-4A1F-47BE-953D-6AA1B93D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2A28-E003-478C-9D54-3497FE76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1062-8456-4775-8B6E-89B39532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C55A-DE8D-4A2E-B67C-B279A94E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DD75-35A9-47EB-AFA2-6EC0B51E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EE4B-D170-4CF0-BE68-F5F76395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19A0-05C9-47CE-A4E5-6BF63A00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D04C-C39B-4CF9-9A71-EE40DA9E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D4D7-14F7-486B-9309-F9511576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CE7C-58DE-4CE9-A1F3-D570498C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8A4E-ABFE-4928-8944-E3755342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9B62-E104-4EAD-A69C-FDF79291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D2B8-A015-4456-9BCF-14B727C1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7E76-D754-4350-BA74-C918FB44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2D70-4430-4840-9473-776CE8DC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F14E-9683-4C5A-AFE5-2B98191B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014-ED16-4572-9029-E13EE312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4764-CC74-4237-B0A8-30799977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F076-B00F-4119-A1E4-EE25BBDA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948-FCD8-4503-854E-93027A40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F987-7678-4CCF-80E8-DD304BD9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5E1B-6927-441E-B804-E1B5AC32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9174-B225-45F8-9EAD-96B31D5D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4446-F05C-49CB-A77A-D90B8193D16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90F9-569C-4DB1-90D8-805328339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F25C-2E81-4CEC-AC7D-339DC997122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E009-DAE9-4929-B27F-98E18C543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057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21304"/>
                </a:solidFill>
                <a:latin typeface="Times New Roman"/>
              </a:rPr>
              <a:t>Адресация в Интернет</a:t>
            </a:r>
            <a:br>
              <a:rPr sz="7200"/>
            </a:b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C622-23EF-456F-B237-4DB52344C95D}" type="datetime3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924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342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Доменная система имен ставит в соответствие числовому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-адресу каждого компьютера уникальное доменное имя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3808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ьютеры могут легко найти друг друга по числовом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у, однако запомнить числовой адрес человеку трудно, и для удобства была введе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менная Система Им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5638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Дом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зона, учас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156-A0B1-4AD0-A73A-D79A9FA8078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A9C96-1D73-48BB-92FD-F4CC86CC9F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Система доменных имен построена по иерархическому принцип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Первый справа домен (его еще называют суффиксом) – домен верхнего уровня, за ним домен – второго уровня и т.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Последний (первый слева) – имя компьюте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8380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alup.mtu.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162920" y="5029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89A3-D545-4E2E-9C56-0BEED87081B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A99A0-76B3-4CC5-8BC7-F2A9968C0E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437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Домены верхнего уровня бывают 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географическими</a:t>
            </a: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 (двухбуквенными) или 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административными</a:t>
            </a: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 (трехбуквенными)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53080" y="4952880"/>
            <a:ext cx="1387440" cy="126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E7B-707E-4C7D-853F-98FD459BF0F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9C76B-13EE-403B-A268-FF9F974096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Некоторые имена доменов верхнего уровня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90720" y="1219320"/>
          <a:ext cx="7772040" cy="4929120"/>
        </p:xfrm>
        <a:graphic>
          <a:graphicData uri="http://schemas.openxmlformats.org/drawingml/2006/table">
            <a:tbl>
              <a:tblPr/>
              <a:tblGrid>
                <a:gridCol w="1321200"/>
                <a:gridCol w="2875680"/>
                <a:gridCol w="1243440"/>
                <a:gridCol w="23317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министра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орган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ограф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ерчес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тельственная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вший ССС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с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лия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ланд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коммерчес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5150-AA8E-4904-8B74-E577D7DC97D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B066E-3F17-41DC-8DAE-C651609858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Доменные имена второго уровня географического типа распределяют национальные центр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05520" y="4614840"/>
            <a:ext cx="3001680" cy="14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A4F3-2A78-48EA-A3CF-5E146F50169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ED167-A778-4282-B015-AC5F84B476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90920" y="1371600"/>
            <a:ext cx="4267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6324480" cy="291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F292-FD24-42DD-9F0C-18D0E3A08FC2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42BB8B-9E6A-4EC3-8D92-147A11894A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Каркас» Интернет составляет более сорока миллионов серверов, постоянно подключенных к сети, из них в России около двухсот тысяч (на январь 1999 г.). К ним в свою очередь могут подключаться с помощью локальных сетей или коммутируемых телефонных линий сотни миллионов пользователей Интернет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6AA-51C1-4D84-A7BB-FE22ED51CA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CF9B9-B47C-498F-84D7-3FCE94F633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Каждый компьютер, подключенный к Интернет, имеет свой уникальный </a:t>
            </a:r>
            <a:br>
              <a:rPr sz="4400"/>
            </a:b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32-битный (в двоичной системе) 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-адре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того чтобы в процессе обмена информацией компьютеры могли найти друг друга, в Интернет существует единая система адресации, основанная на использова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0120" y="609480"/>
            <a:ext cx="12189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21896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Легко подсчитать, что общее 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количество различных</a:t>
            </a: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P-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адресов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тавляет более 4 миллиардов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41911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N=2</a:t>
            </a:r>
            <a:r>
              <a:rPr b="1" lang="en-US" sz="4800" spc="-1" strike="noStrike" baseline="50000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=4 294 967 29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91520" y="4876920"/>
            <a:ext cx="14446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6B8A-1227-42A1-BAF1-0C72655A2CF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63707-B916-47EE-840D-EF0EC3540D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3880" y="533520"/>
            <a:ext cx="655344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ации учитывает структуру Интернет, т.е. то, что Интернет является сетью сетей, а не объединением отдельных компьютеров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 состоит из двух частей, одна из которых является адресом сети, а другая адресом компьютера в се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беспечения максимальной гибкости в процессе распредел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ов, в зависимости от количества компьютеров в сети, адреса разделяются на три класс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,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е биты адреса отводятся для идентификации класса, а остальные разделяются на адрес сети и адрес компьют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62E4-5140-4B0D-8A99-7CBB53194269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46739-715E-4789-A598-A688F7DC14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-адресация в сетях различных классов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371600" y="1828800"/>
          <a:ext cx="7238880" cy="4114800"/>
        </p:xfrm>
        <a:graphic>
          <a:graphicData uri="http://schemas.openxmlformats.org/drawingml/2006/table">
            <a:tbl>
              <a:tblPr/>
              <a:tblGrid>
                <a:gridCol w="1292040"/>
                <a:gridCol w="406440"/>
                <a:gridCol w="182520"/>
                <a:gridCol w="182520"/>
                <a:gridCol w="358920"/>
                <a:gridCol w="2095200"/>
                <a:gridCol w="272124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7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24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14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16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21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8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7D8E-EB8D-407A-B030-180CD36C124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40182-35C8-4CB7-AC34-3283ED46FC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Наприме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дрес сети класса А имеет только 7 бит для адреса сети и 24 бита для адреса компьютера, т.е. может существовать лиш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28 сетей этого клас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зато в каждой сети может содержатьс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6 777 216 компьютер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4572000" y="53341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99B7-DEA8-4066-AD26-D8BC2ECC536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A57C4-5433-4500-B39C-AA0CA3FC55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В десятичной записи 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-адрес состоит из 4 чисел, разделенных точками, каждое из которых лежит в диапазоне от 0 до 255.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Например,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адрес сервера МТУ-ИНФОРМ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записывается как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195.34.32.11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Достаточно определить по первому числу 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адреса компьютера, его принадлежность к сети того или иного класса: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03848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А – число от 0 до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В – число от 128 до 1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С – число от 192 до 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81680" y="4230720"/>
            <a:ext cx="1158840" cy="103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7D1E-299F-4D49-BB9D-C6E8BA8E123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933BC-04C3-4EA3-B6C4-4550F525B8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533520"/>
            <a:ext cx="6858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пример, адрес компании МТУ-ИНФОР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660066"/>
                </a:solidFill>
                <a:latin typeface="Times New Roman"/>
              </a:rPr>
              <a:t>195.34.32.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505320"/>
            <a:ext cx="64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рвер компании находится к сети класса С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дрес которой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195.34.3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 адрес компьютера в сети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1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2666880"/>
            <a:ext cx="1467000" cy="10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772A-FE2E-48C0-ADDA-6CAC6B99F71F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34F8D-7496-4EBC-9F03-BAD79F13AF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5:33:28Z</dcterms:created>
  <dc:creator>Усольцева Э.</dc:creator>
  <dc:description/>
  <dc:language>en-US</dc:language>
  <cp:lastModifiedBy>Компьютер</cp:lastModifiedBy>
  <dcterms:modified xsi:type="dcterms:W3CDTF">2008-04-19T05:02:20Z</dcterms:modified>
  <cp:revision>28</cp:revision>
  <dc:subject/>
  <dc:title>Глобальная компьютерная сеть Internet</dc:title>
</cp:coreProperties>
</file>