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7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9.gif" ContentType="image/gif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D42-8DA2-4E4D-80A7-9C231AE0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D64-2630-48F8-85ED-8F50A111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D2D-374F-475C-A69F-AE66DD00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8B5-E94C-470D-926D-3F20E897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1859-0BA8-4EE8-B35D-D063923E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6B84-20A2-4BCC-8B93-F77FC8CC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A6F3-A13E-4B55-8D15-BF6B3066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BCCA-4EC2-4E1D-B3F6-E7F4BE62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8055-05A3-42F7-8562-9CCFF428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5444-6483-4FD5-A7BD-768E8B46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753D-CDE9-4BBC-A223-961C6081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1EA-D642-4F28-9EC8-AB8CF10A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6669-E09E-47EC-B41E-968A99D8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35CA-9B1B-43FA-B245-9827A865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BAB4-B951-46DA-BFA4-5F097260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C87F-5999-4402-95C0-81DE0BC8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D425-400F-454A-8C51-3FB1D3D4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23F-0FE8-4255-BFA9-C7C9A234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AF1-1CD2-4036-AAA0-C18527D1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98A-BF94-48D6-9ACF-2AB100C9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0F6-3DC5-40C2-B391-9998F3E3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6A2-27DA-4238-AAC1-7130FD8D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FBF2-1F14-40E3-AB91-40EF8241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84E-95A3-4111-849F-B1F650DF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0223-A3D8-4D7D-A475-10D318BD974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5523-F74B-40B2-A2DD-63415DDA2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4407-2E3A-43CE-AF92-F8A7E1FF28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9F7C-0627-427F-99C0-DE9085AE6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057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21304"/>
                </a:solidFill>
                <a:latin typeface="Times New Roman"/>
              </a:rPr>
              <a:t>Адресация в Интернет</a:t>
            </a:r>
            <a:br>
              <a:rPr sz="7200"/>
            </a:b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A230-DB6F-41C8-9A22-2CC747CC8D39}" type="datetime3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30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342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Доменная система имен ставит в соответствие числовому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-адресу каждого компьютера уникальное доменное имя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3808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ьютеры могут легко найти друг друга по числовом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у, однако запомнить числовой адрес человеку трудно, и для удобства была введе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менная Система Им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638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Дом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зона, учас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7A1-EA0B-4404-9383-35A4DB68583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8E567-35DD-4A73-9B6E-C9BA8BEB3D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Система доменных имен построена по иерархическому принцип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Первый справа домен (его еще называют суффиксом) – домен верхнего уровня, за ним домен – второго уровня и т.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Последний (первый слева) – имя компьюте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8380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alup.mtu.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5029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789-3446-48CC-9160-68BC0D8A729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53780-2B50-4CAE-B3D7-CDFADBB877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437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Домены верхнего уровня бывают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географическими</a:t>
            </a: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 (двухбуквенными) или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административными</a:t>
            </a: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 (трехбуквенными)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53080" y="4952880"/>
            <a:ext cx="1387440" cy="126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101-0850-4E26-9115-FD2C08234DF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23BAD-C54A-4475-89BA-C5CF48C6CA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Некоторые имена доменов верхнего уровн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1219320"/>
          <a:ext cx="7772040" cy="4929120"/>
        </p:xfrm>
        <a:graphic>
          <a:graphicData uri="http://schemas.openxmlformats.org/drawingml/2006/table">
            <a:tbl>
              <a:tblPr/>
              <a:tblGrid>
                <a:gridCol w="1321200"/>
                <a:gridCol w="2875680"/>
                <a:gridCol w="1243440"/>
                <a:gridCol w="23317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министр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орган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ограф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р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тельственная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вший ССС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с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лия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ланд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коммер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C2EB-2BAE-4769-AC60-27003888341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5B589-3779-4AFD-B7F3-C1B6FD56BD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Доменные имена второго уровня географического типа распределяют национальные центр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05520" y="4614840"/>
            <a:ext cx="3001680" cy="14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BEC-02F9-41A1-927B-24AFB94DDEE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BA40C-E4F5-471F-B5C4-FCA637AEE9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90920" y="1371600"/>
            <a:ext cx="4267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6324480" cy="291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83E-F42B-4211-AAB5-A49E7A3C0C4C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4F589-9A26-43FE-AF5F-3E1EBCF47A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Каркас» Интернет составляет более сорока миллионов серверов, постоянно подключенных к сети, из них в России около двухсот тысяч (на январь 1999 г.). К ним в свою очередь могут подключаться с помощью локальных сетей или коммутируемых телефонных линий сотни миллионов пользователей Интернет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D12-D99F-4874-A4D2-0D79C37542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8A5B2-04D1-4B27-BD7F-6B6D839516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Каждый компьютер, подключенный к Интернет, имеет свой уникальный </a:t>
            </a:r>
            <a:br>
              <a:rPr sz="4400"/>
            </a:b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32-битный (в двоичной системе) 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-адре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ого чтобы в процессе обмена информацией компьютеры могли найти друг друга, в Интернет существует единая система адресации, основанная на использова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0120" y="609480"/>
            <a:ext cx="12189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2189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Легко подсчитать, что общее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количество различных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P-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адресо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авляет более 4 миллиардов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41911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N=2</a:t>
            </a:r>
            <a:r>
              <a:rPr b="1" lang="en-US" sz="4800" spc="-1" strike="noStrike" baseline="50000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=4 294 967 29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91520" y="4876920"/>
            <a:ext cx="14446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159-D0B0-49E0-BB36-AA950C2DAA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88572-36DF-4987-BE06-7F2709DD3F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3880" y="533520"/>
            <a:ext cx="655344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ации учитывает структуру Интернет, т.е. то, что Интернет является сетью сетей, а не объединением отдельных компьютеров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 состоит из двух частей, одна из которых является адресом сети, а другая адресом компьютера в се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беспечения максимальной гибкости в процессе распредел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ов, в зависимости от количества компьютеров в сети, адреса разделяются на три класс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е биты адреса отводятся для идентификации класса, а остальные разделяются на адрес сети и адрес компьют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2C3-BE05-443B-AFE8-4CAA8C5B76CD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1158C-9FC6-4D96-B0A8-10C3173151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-адресация в сетях различных класс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71600" y="1828800"/>
          <a:ext cx="7238880" cy="4114800"/>
        </p:xfrm>
        <a:graphic>
          <a:graphicData uri="http://schemas.openxmlformats.org/drawingml/2006/table">
            <a:tbl>
              <a:tblPr/>
              <a:tblGrid>
                <a:gridCol w="1292040"/>
                <a:gridCol w="406440"/>
                <a:gridCol w="182520"/>
                <a:gridCol w="182520"/>
                <a:gridCol w="358920"/>
                <a:gridCol w="2095200"/>
                <a:gridCol w="27212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7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24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14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16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21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8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2D8-06B6-4E06-9F26-F5F5F7E2325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FA447-69B9-4648-AAD8-5F39AB532B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дрес сети класса А имеет только 7 бит для адреса сети и 24 бита для адреса компьютера, т.е. может существовать лиш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28 сетей этого клас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зато в каждой сети может содержатьс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6 777 216 компьютер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4572000" y="5334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3EF-1A1F-4222-8C1A-DFABD2BB6E3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3A4BB-DEE6-431B-93ED-5E2C2AF52D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В десятичной записи 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-адрес состоит из 4 чисел, разделенных точками, каждое из которых лежит в диапазоне от 0 до 255.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Например,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адрес сервера МТУ-ИНФОРМ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записывается как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195.34.32.11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Достаточно определить по первому числу 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адреса компьютера, его принадлежность к сети того или иного класса: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0384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А – число от 0 до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В – число от 128 до 1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С – число от 192 до 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81680" y="4230720"/>
            <a:ext cx="1158840" cy="103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E94-FCC6-44D0-B06F-4DDA0E19711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3CA9E-E9CD-4A42-AA68-80CA45F1E8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533520"/>
            <a:ext cx="6858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пример, адрес компании МТУ-ИНФОР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195.34.32.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50532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рвер компании находится к сети класса С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дрес которой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195.34.3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 адрес компьютера в сети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1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2666880"/>
            <a:ext cx="1467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E77-D07D-424C-9FC9-326CE3CA0607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94653-B807-4D24-8323-E9FDB0F03D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5:33:28Z</dcterms:created>
  <dc:creator>Усольцева Э.</dc:creator>
  <dc:description/>
  <dc:language>en-US</dc:language>
  <cp:lastModifiedBy>Компьютер</cp:lastModifiedBy>
  <dcterms:modified xsi:type="dcterms:W3CDTF">2008-04-19T05:02:20Z</dcterms:modified>
  <cp:revision>28</cp:revision>
  <dc:subject/>
  <dc:title>Глобальная компьютерная сеть Internet</dc:title>
</cp:coreProperties>
</file>