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0DB-4B3C-42A6-BE72-8124DAEC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57D-BEF9-45E8-B008-D69F2B42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5B2-93D4-4959-BB9F-7A17E5AD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1F6-239E-460F-B78E-9F9F42B3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3032-E175-4538-A158-3869AAC3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8EFF-9E1C-4B51-BC1A-F46A0B37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DADE-D655-497B-AB0E-046CB1E3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142F-6198-482A-984D-E3DFC911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8C73-4958-4877-8F4A-5AA1B4DA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8077-BDFB-468A-A064-D6288E23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0F8D-7A00-468C-BC63-0F38711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C2A-EE90-4E76-8E78-B00290ED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CA83-0B95-4EF4-A8C4-AEAA6339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BD85-9850-44FD-8E2F-6B5920F0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CB06-39C5-4200-ABAF-33A017C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7A04-4D35-4C5F-B38F-F08E1957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2B76-0D0F-4AB0-8E36-38277797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0FB1-6C92-4DE5-8DFF-AF5293BC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6FA4-7848-4237-88B4-15BAD093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4047-7049-49CD-8743-1C5AA6FE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CBD6-6091-48DF-8D5E-89586F39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229F-F87A-417D-9551-E9FC7112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537-BE4F-43AF-BE3E-1AA5D6E1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96BB-1FB8-4C41-B33B-A1B5F92D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3129-B366-45E9-875E-57FC4D11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587A-2AFD-4FE3-885F-EF142344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7D26D-BBBF-4F84-A0A8-26E10D9E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86BB-520D-4ED0-90C6-8DA13DDF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AFC3-715D-4670-8753-A5C7F346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F79A3-9C71-473F-B3CD-AEA1F637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CA0D-9947-46CE-8475-80F823AD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4C9A-BD6C-469E-ADB1-9A38BA5C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ACAFD-73A9-43B4-974A-6083A84E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176-6067-41A6-862F-4BAC42A7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DD43-CF3B-414D-BE25-6BF7EAD2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19197-0591-4260-875D-F3D13EDE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254E4-F848-4339-A662-2B45944B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88BD4-28D0-4115-AB48-E4FC175F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B538-2AB5-4B01-84EF-A2FBC3EF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97BC-2F20-452C-8891-125E9E18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D98F-F8C8-458C-B956-5A089B55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65F9-21AC-42D5-8D73-899046F3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6B00B-56BF-4EB9-957B-8C1CC024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D5D5-9478-4B97-9227-6A67B59A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148-C569-49F8-93F1-7191EB2D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769A1-F4D7-4182-8F94-4F5EBEF8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83C93-9552-44D6-AB9D-E9D2AF06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703AF-C43D-4F65-A45E-7E5DC7AD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FC6B0-BD57-4AD8-B5CC-F9F77955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56858-4301-451E-BD96-35CB72EB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32C3C-C6FE-4904-B2C4-F812C79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AA8A6-887E-4BD4-BA7C-F93F788C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20842-8893-4341-9EAF-DF09CBCE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8160C-9CA0-4113-AC87-01E1B62E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465E-EEDF-4F7F-AF8B-69E4CED6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2A8-27EE-4698-A836-CBB1D5E2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5101F-B2F8-41EB-B277-2BF7BB84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6E748-4183-4F2E-9715-BF0CF765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E2B7B-1508-4DB9-9BD4-0F9BB496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55DBA-F222-474B-863F-4EB3A34A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2B155-259B-4588-BEE3-C4CCADC2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3033A-84E6-41EB-AD4D-97E8CAA3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9B82A-BCD0-4F88-BD55-5EB01AD2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3A95C-D4EF-416B-A114-27C4FEAA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6C865-2F88-4D49-9C18-518485DF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1899-D141-4AFD-BA18-121A6DA6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34A-DFFA-458B-AA0A-C8CF08C5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5061B-CEED-4CAA-A0D7-D6819CEB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8F7F2-9996-492B-88DB-CB48CC27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FF5A6-2F1E-49A2-A2D9-54FF2201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50D9A-6E11-4B7D-93F8-FA86A5E3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BC1F-F9DA-4F2D-AD9C-CFCF633E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3898A-6705-4FFF-AB74-27B6739B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3597-AFF5-4220-AE17-C85E9367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B17BC-1ACA-40AD-A72A-9FA903EB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3981B-F047-4CAA-87EF-0E3F65CA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327B6-C1C0-4A6D-84C8-19CD35AA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311-9F96-4EC1-8B30-F00EF911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A0608-E1C4-41A3-9AE9-9DA05A4D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ABE06-CACC-4629-8D27-B301304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EFAEC-6BC8-4C6B-9522-FA2E12E4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9AAD7-4D4E-4134-B7AD-9C181FD1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B2E5F-D900-4837-B7DB-AB0248C0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C8C-C60D-4577-B340-A71A74D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BC58-95BC-42AE-9EB7-0E95525769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1726-7BDB-40BD-BF1F-267711634C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7AEB-82F2-48DA-87D7-789FC9FD72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2ED5-F681-4994-B0DD-ECCC57AFC6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304E-AA1D-4865-A945-96ECBB4826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691F-2FF4-40D7-BD09-9C010699CD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D40A-9EC4-4CD2-95B6-BD64A2E602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езентация на тему: «Способы решений задач и число решений задач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Работу выполнил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ученица 7Б класс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МОУ СОШ №1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Иванова Юли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1042920" y="333360"/>
            <a:ext cx="81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◦. Найдите один из других его углов. Ответ дайте в градус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Равнобедренный треугольник 15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936720" y="4221000"/>
            <a:ext cx="81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C =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х,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, а эт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оставим и решим уравне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900000" y="3645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176364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298764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1"/>
          <p:cNvSpPr/>
          <p:nvPr/>
        </p:nvSpPr>
        <p:spPr>
          <a:xfrm flipH="1">
            <a:off x="1115640" y="4508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5"/>
          <p:cNvSpPr/>
          <p:nvPr/>
        </p:nvSpPr>
        <p:spPr>
          <a:xfrm flipH="1">
            <a:off x="176328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1763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>
            <a:off x="284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9"/>
          <p:cNvSpPr/>
          <p:nvPr/>
        </p:nvSpPr>
        <p:spPr>
          <a:xfrm>
            <a:off x="1763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30"/>
          <p:cNvSpPr/>
          <p:nvPr/>
        </p:nvSpPr>
        <p:spPr>
          <a:xfrm flipH="1">
            <a:off x="284292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31"/>
          <p:cNvSpPr/>
          <p:nvPr/>
        </p:nvSpPr>
        <p:spPr>
          <a:xfrm flipH="1">
            <a:off x="176328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2"/>
          <p:cNvSpPr/>
          <p:nvPr/>
        </p:nvSpPr>
        <p:spPr>
          <a:xfrm flipH="1">
            <a:off x="1115640" y="515772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34"/>
          <p:cNvSpPr/>
          <p:nvPr/>
        </p:nvSpPr>
        <p:spPr>
          <a:xfrm flipH="1">
            <a:off x="2411280" y="515772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ая соединительная линия 36"/>
          <p:cNvSpPr/>
          <p:nvPr/>
        </p:nvSpPr>
        <p:spPr>
          <a:xfrm>
            <a:off x="241128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38"/>
          <p:cNvSpPr/>
          <p:nvPr/>
        </p:nvSpPr>
        <p:spPr>
          <a:xfrm>
            <a:off x="1547640" y="2565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42"/>
          <p:cNvSpPr/>
          <p:nvPr/>
        </p:nvSpPr>
        <p:spPr>
          <a:xfrm flipV="1">
            <a:off x="2484360" y="2637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42920" y="0"/>
            <a:ext cx="8101080" cy="82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)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твет: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решая задачу различными способами, мы получаем один и тот же от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2"/>
          <p:cNvSpPr/>
          <p:nvPr/>
        </p:nvSpPr>
        <p:spPr>
          <a:xfrm flipH="1">
            <a:off x="1187280" y="2205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3"/>
          <p:cNvSpPr/>
          <p:nvPr/>
        </p:nvSpPr>
        <p:spPr>
          <a:xfrm flipH="1">
            <a:off x="183492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ая соединительная линия 4"/>
          <p:cNvSpPr/>
          <p:nvPr/>
        </p:nvSpPr>
        <p:spPr>
          <a:xfrm>
            <a:off x="1187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>
            <a:off x="183528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6"/>
          <p:cNvSpPr/>
          <p:nvPr/>
        </p:nvSpPr>
        <p:spPr>
          <a:xfrm>
            <a:off x="1835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111600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1834920" y="364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>
            <a:off x="1115640" y="3645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42920" y="0"/>
            <a:ext cx="81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Найдите углы этого треугольн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Равнобедренный треугольник 3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97164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835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3059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4140360" y="1484280"/>
            <a:ext cx="410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,      C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13"/>
          <p:cNvSpPr/>
          <p:nvPr/>
        </p:nvSpPr>
        <p:spPr>
          <a:xfrm flipH="1">
            <a:off x="6011640" y="17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14"/>
          <p:cNvSpPr/>
          <p:nvPr/>
        </p:nvSpPr>
        <p:spPr>
          <a:xfrm>
            <a:off x="6012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6"/>
          <p:cNvSpPr/>
          <p:nvPr/>
        </p:nvSpPr>
        <p:spPr>
          <a:xfrm>
            <a:off x="5724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514836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 flipH="1">
            <a:off x="5724000" y="2060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9"/>
          <p:cNvSpPr/>
          <p:nvPr/>
        </p:nvSpPr>
        <p:spPr>
          <a:xfrm flipH="1">
            <a:off x="5148000" y="2060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21"/>
          <p:cNvSpPr/>
          <p:nvPr/>
        </p:nvSpPr>
        <p:spPr>
          <a:xfrm>
            <a:off x="154764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V="1">
            <a:off x="2340000" y="263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183528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1116000" y="3933720"/>
            <a:ext cx="8028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   C = (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 -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2 =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вет: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3708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7"/>
          <p:cNvSpPr/>
          <p:nvPr/>
        </p:nvSpPr>
        <p:spPr>
          <a:xfrm flipH="1">
            <a:off x="442728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8"/>
          <p:cNvSpPr/>
          <p:nvPr/>
        </p:nvSpPr>
        <p:spPr>
          <a:xfrm>
            <a:off x="442764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H="1">
            <a:off x="133164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31"/>
          <p:cNvSpPr/>
          <p:nvPr/>
        </p:nvSpPr>
        <p:spPr>
          <a:xfrm flipH="1">
            <a:off x="197928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133200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Равнобедренный треугольник 2"/>
          <p:cNvSpPr/>
          <p:nvPr/>
        </p:nvSpPr>
        <p:spPr>
          <a:xfrm>
            <a:off x="1332000" y="260280"/>
            <a:ext cx="172728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3"/>
          <p:cNvSpPr/>
          <p:nvPr/>
        </p:nvSpPr>
        <p:spPr>
          <a:xfrm>
            <a:off x="1692360" y="1125360"/>
            <a:ext cx="215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4"/>
          <p:cNvSpPr/>
          <p:nvPr/>
        </p:nvSpPr>
        <p:spPr>
          <a:xfrm flipV="1">
            <a:off x="2484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22766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908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05928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4284720" y="189000"/>
            <a:ext cx="4572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,     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ая соединительная линия 11"/>
          <p:cNvSpPr/>
          <p:nvPr/>
        </p:nvSpPr>
        <p:spPr>
          <a:xfrm flipH="1">
            <a:off x="6084360" y="476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608472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ая соединительная линия 13"/>
          <p:cNvSpPr/>
          <p:nvPr/>
        </p:nvSpPr>
        <p:spPr>
          <a:xfrm flipH="1">
            <a:off x="5219280" y="83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ая соединительная линия 14"/>
          <p:cNvSpPr/>
          <p:nvPr/>
        </p:nvSpPr>
        <p:spPr>
          <a:xfrm flipH="1">
            <a:off x="5724000" y="83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Прямая соединительная линия 15"/>
          <p:cNvSpPr/>
          <p:nvPr/>
        </p:nvSpPr>
        <p:spPr>
          <a:xfrm>
            <a:off x="521964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572436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363528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1042920" y="2637000"/>
            <a:ext cx="810108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     A +      C = 2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а это больше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что противоречит условию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То есть решения здесь нет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увидеть несколько решений в одной задаче – это неоднозначная формулировка условия задачи, а дальше умение найти несколько решений и ситу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 flipH="1">
            <a:off x="118728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 flipH="1">
            <a:off x="183492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 flipH="1">
            <a:off x="313200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ая соединительная линия 23"/>
          <p:cNvSpPr/>
          <p:nvPr/>
        </p:nvSpPr>
        <p:spPr>
          <a:xfrm flipH="1">
            <a:off x="3924000" y="292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24"/>
          <p:cNvSpPr/>
          <p:nvPr/>
        </p:nvSpPr>
        <p:spPr>
          <a:xfrm flipH="1">
            <a:off x="4066920" y="3284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478764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рямая соединительная линия 26"/>
          <p:cNvSpPr/>
          <p:nvPr/>
        </p:nvSpPr>
        <p:spPr>
          <a:xfrm flipH="1">
            <a:off x="543528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118728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83528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3132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40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4788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059280" y="278136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2:26Z</dcterms:created>
  <dc:creator>1</dc:creator>
  <dc:description/>
  <dc:language>en-US</dc:language>
  <cp:lastModifiedBy>k308-1</cp:lastModifiedBy>
  <dcterms:modified xsi:type="dcterms:W3CDTF">2013-03-19T12:51:19Z</dcterms:modified>
  <cp:revision>20</cp:revision>
  <dc:subject/>
  <dc:title>Презентация на тему: «Способы решений задач и число решений задач»</dc:title>
</cp:coreProperties>
</file>