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850-E767-47D8-826F-B2A3E788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A09-6ABF-4639-ACEC-D79F9439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D81-7163-426E-B852-D846ECEC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99E-711C-4679-825B-8DC793A1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4A4E-9E0D-407F-995D-2FC76401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14C4-9CED-4B03-914F-0116671D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ECA3-4B7A-432F-A967-7FDD4E4B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CB82-A201-4FC6-90EF-F74AF0F8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8520-7FF0-48D0-A67D-474576AD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E4D4-98B1-44BF-B832-0ACEFF8C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B98D-C63F-4DC8-867B-985896BC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AD8-DDD2-458A-B133-C72958F6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1CEB-AC62-4235-8296-17F104BE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26F6-0D96-47D9-AD79-18A0253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A6D5-A2B2-47A5-AF34-DFE62956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6C1A-6C7E-4381-A4AA-4554606A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2BDB-991F-4202-A33B-1BE631BF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35C6-4FD7-4739-B69D-9F389F2E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B7AE5-0C7A-48EB-8C49-BD4F424F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F845C-E1E2-4AE5-B53C-71A24FE5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0D95-726A-4266-8C2E-22B47AA0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BE51-5CB7-45AD-B239-93D6C6DD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8E1-154B-4281-9F4B-2750F336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9523-142A-4268-AF23-95EE3B70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0BB63-F233-42E9-8827-407CE3F6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FF83-7DF4-48AE-BD0B-88998DFC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B256-40A3-470E-911C-1A65860C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A5F8-2273-43AC-BDA9-FC8E11D3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90516-5DA4-45FA-93A3-A2C9264C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CC3EA-ACAB-4DBE-AC0F-D2D95837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42ECD-9920-4752-A026-9BA4D5F9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9F013-878F-4AC0-933E-1A790271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386B-4F29-440A-84CA-E052969F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623-4B4F-43D3-8668-466B7CEC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8637-4AFC-4A6B-B904-2230C95A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6BD61-91BC-4E12-9C7A-612EECAE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41B3-B66F-49F0-86A9-976B126F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1E9D-1E27-4A21-A8F1-A0F56762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74E45-909D-41E4-9931-11E19132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D9449-51B7-4502-AB6D-BCC29BB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6520-A8B5-4AD0-83AC-A9FCD994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357AE-B8A6-4A92-98CC-381057E1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47DE5-6D2A-4F65-92CD-885F6BF0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656CC-1328-4BCF-933E-232C0EEB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7DD-44FB-48BB-9C6B-177851F3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EF37-8E35-4235-94C4-08CCDD29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562A1-E4E1-48D5-846A-F0B165A0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47BF3-07D4-4769-9873-D50C6967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A3EDA-CF96-459C-A7CE-BF79127B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D505-2775-4855-B8DA-89306475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0790-A289-4425-91C0-C8A8150D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65FA9-C688-433D-BCFD-6EE905E4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ADCC1-DDD5-4955-80A1-626349E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17111-8804-4242-926E-74B42404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862B6-5660-4D4B-A46B-3954954C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7CC-F664-4D09-9818-E60B0AA1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BA248-1113-4A6B-9ED5-0BEC1476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82B32-977A-4A18-AC86-884D5AE9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EA1F4-BCAB-4E16-9161-9C0958FD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885F2-95CA-4FC2-B65D-28F32886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FB2F7-9A39-4CFE-B57A-CFAC512D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525C6-B8F8-4F23-91A6-320FE469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439F5-247A-4676-A02F-02B137C6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62F7A-E117-4220-AB5B-0C7E9F85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9C7C-4B7B-4790-AD6E-76F95FD2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A1076-0801-43AB-9B2C-C48DC865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93C-E5DC-47EE-A1FA-3FDB6CED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554AE-2D84-49EB-9526-266DBA20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A789C-557E-4F07-8541-CCE788AA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8E81C-AC40-4849-B103-726F41FA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AE03B-9F64-4E25-A069-9E279BF7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263B9-DB1D-4A98-A13F-7701D127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99CB4-6ED6-4A53-B91E-8E195654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A5A3F-5802-4020-906D-7495FE7E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48F54-5C2C-45CE-A476-84C43975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ABAA9-CBCB-40C3-B51A-B1FFD85A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F5F50-AD96-43B3-B4BE-14C99F2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E74-DBAE-4526-81C5-63BCA0A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51CFD-F586-4DD0-A403-7332D29A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55A82-F014-45B0-9628-5F4201AA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83FCE-FA47-4310-9275-5745F973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DDD3B-EFC5-4C0D-8F9F-463BF41F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8C10D-3C63-4AC5-A544-6CBA3D51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031-F85C-40C7-BC79-7B72EC10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CC0E-727A-4CC8-B9D7-86BB46F32C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3498-2DC9-43D3-8561-24FEE53A10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B0A1-6459-4FED-87D6-19E29BFC95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1838-6063-4ACA-976B-6D39AD8218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ED64-9113-4DCD-A3AC-D341CB21E6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3CA0-D0CC-4A74-B73B-50C797FF69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6905-FA3E-4613-B16A-1DB0DB7097F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езентация на тему: «Способы решений задач и число решений задач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Работу выполнил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ученица 7Б класс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МОУ СОШ №1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Иванова Юли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1042920" y="333360"/>
            <a:ext cx="81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◦. Найдите один из других его углов. Ответ дайте в градус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Равнобедренный треугольник 15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936720" y="4221000"/>
            <a:ext cx="81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C =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х,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, а эт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оставим и решим уравне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900000" y="3645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176364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298764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1"/>
          <p:cNvSpPr/>
          <p:nvPr/>
        </p:nvSpPr>
        <p:spPr>
          <a:xfrm flipH="1">
            <a:off x="1115640" y="4508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5"/>
          <p:cNvSpPr/>
          <p:nvPr/>
        </p:nvSpPr>
        <p:spPr>
          <a:xfrm flipH="1">
            <a:off x="176328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1763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>
            <a:off x="284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9"/>
          <p:cNvSpPr/>
          <p:nvPr/>
        </p:nvSpPr>
        <p:spPr>
          <a:xfrm>
            <a:off x="1763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30"/>
          <p:cNvSpPr/>
          <p:nvPr/>
        </p:nvSpPr>
        <p:spPr>
          <a:xfrm flipH="1">
            <a:off x="284292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31"/>
          <p:cNvSpPr/>
          <p:nvPr/>
        </p:nvSpPr>
        <p:spPr>
          <a:xfrm flipH="1">
            <a:off x="176328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2"/>
          <p:cNvSpPr/>
          <p:nvPr/>
        </p:nvSpPr>
        <p:spPr>
          <a:xfrm flipH="1">
            <a:off x="1115640" y="515772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34"/>
          <p:cNvSpPr/>
          <p:nvPr/>
        </p:nvSpPr>
        <p:spPr>
          <a:xfrm flipH="1">
            <a:off x="2411280" y="515772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ая соединительная линия 36"/>
          <p:cNvSpPr/>
          <p:nvPr/>
        </p:nvSpPr>
        <p:spPr>
          <a:xfrm>
            <a:off x="241128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38"/>
          <p:cNvSpPr/>
          <p:nvPr/>
        </p:nvSpPr>
        <p:spPr>
          <a:xfrm>
            <a:off x="1547640" y="2565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42"/>
          <p:cNvSpPr/>
          <p:nvPr/>
        </p:nvSpPr>
        <p:spPr>
          <a:xfrm flipV="1">
            <a:off x="2484360" y="2637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42920" y="0"/>
            <a:ext cx="8101080" cy="82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)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твет: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решая задачу различными способами, мы получаем один и тот же от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2"/>
          <p:cNvSpPr/>
          <p:nvPr/>
        </p:nvSpPr>
        <p:spPr>
          <a:xfrm flipH="1">
            <a:off x="1187280" y="2205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3"/>
          <p:cNvSpPr/>
          <p:nvPr/>
        </p:nvSpPr>
        <p:spPr>
          <a:xfrm flipH="1">
            <a:off x="183492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ая соединительная линия 4"/>
          <p:cNvSpPr/>
          <p:nvPr/>
        </p:nvSpPr>
        <p:spPr>
          <a:xfrm>
            <a:off x="1187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>
            <a:off x="183528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6"/>
          <p:cNvSpPr/>
          <p:nvPr/>
        </p:nvSpPr>
        <p:spPr>
          <a:xfrm>
            <a:off x="1835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111600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1834920" y="364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>
            <a:off x="1115640" y="3645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42920" y="0"/>
            <a:ext cx="81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Найдите углы этого треугольн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Равнобедренный треугольник 3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97164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835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3059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4140360" y="1484280"/>
            <a:ext cx="410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,      C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13"/>
          <p:cNvSpPr/>
          <p:nvPr/>
        </p:nvSpPr>
        <p:spPr>
          <a:xfrm flipH="1">
            <a:off x="6011640" y="17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14"/>
          <p:cNvSpPr/>
          <p:nvPr/>
        </p:nvSpPr>
        <p:spPr>
          <a:xfrm>
            <a:off x="6012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6"/>
          <p:cNvSpPr/>
          <p:nvPr/>
        </p:nvSpPr>
        <p:spPr>
          <a:xfrm>
            <a:off x="5724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514836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 flipH="1">
            <a:off x="5724000" y="2060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9"/>
          <p:cNvSpPr/>
          <p:nvPr/>
        </p:nvSpPr>
        <p:spPr>
          <a:xfrm flipH="1">
            <a:off x="5148000" y="2060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21"/>
          <p:cNvSpPr/>
          <p:nvPr/>
        </p:nvSpPr>
        <p:spPr>
          <a:xfrm>
            <a:off x="154764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V="1">
            <a:off x="2340000" y="263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183528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1116000" y="3933720"/>
            <a:ext cx="8028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   C = (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 -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2 =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вет: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3708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7"/>
          <p:cNvSpPr/>
          <p:nvPr/>
        </p:nvSpPr>
        <p:spPr>
          <a:xfrm flipH="1">
            <a:off x="442728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8"/>
          <p:cNvSpPr/>
          <p:nvPr/>
        </p:nvSpPr>
        <p:spPr>
          <a:xfrm>
            <a:off x="442764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H="1">
            <a:off x="133164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31"/>
          <p:cNvSpPr/>
          <p:nvPr/>
        </p:nvSpPr>
        <p:spPr>
          <a:xfrm flipH="1">
            <a:off x="197928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133200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Равнобедренный треугольник 2"/>
          <p:cNvSpPr/>
          <p:nvPr/>
        </p:nvSpPr>
        <p:spPr>
          <a:xfrm>
            <a:off x="1332000" y="260280"/>
            <a:ext cx="172728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3"/>
          <p:cNvSpPr/>
          <p:nvPr/>
        </p:nvSpPr>
        <p:spPr>
          <a:xfrm>
            <a:off x="1692360" y="1125360"/>
            <a:ext cx="215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4"/>
          <p:cNvSpPr/>
          <p:nvPr/>
        </p:nvSpPr>
        <p:spPr>
          <a:xfrm flipV="1">
            <a:off x="2484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22766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908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05928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4284720" y="189000"/>
            <a:ext cx="4572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,     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ая соединительная линия 11"/>
          <p:cNvSpPr/>
          <p:nvPr/>
        </p:nvSpPr>
        <p:spPr>
          <a:xfrm flipH="1">
            <a:off x="6084360" y="476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608472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ая соединительная линия 13"/>
          <p:cNvSpPr/>
          <p:nvPr/>
        </p:nvSpPr>
        <p:spPr>
          <a:xfrm flipH="1">
            <a:off x="5219280" y="83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ая соединительная линия 14"/>
          <p:cNvSpPr/>
          <p:nvPr/>
        </p:nvSpPr>
        <p:spPr>
          <a:xfrm flipH="1">
            <a:off x="5724000" y="83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Прямая соединительная линия 15"/>
          <p:cNvSpPr/>
          <p:nvPr/>
        </p:nvSpPr>
        <p:spPr>
          <a:xfrm>
            <a:off x="521964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572436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363528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1042920" y="2637000"/>
            <a:ext cx="810108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     A +      C = 2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а это больше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что противоречит условию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То есть решения здесь нет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увидеть несколько решений в одной задаче – это неоднозначная формулировка условия задачи, а дальше умение найти несколько решений и ситу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 flipH="1">
            <a:off x="118728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 flipH="1">
            <a:off x="183492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 flipH="1">
            <a:off x="313200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ая соединительная линия 23"/>
          <p:cNvSpPr/>
          <p:nvPr/>
        </p:nvSpPr>
        <p:spPr>
          <a:xfrm flipH="1">
            <a:off x="3924000" y="292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24"/>
          <p:cNvSpPr/>
          <p:nvPr/>
        </p:nvSpPr>
        <p:spPr>
          <a:xfrm flipH="1">
            <a:off x="4066920" y="3284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478764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рямая соединительная линия 26"/>
          <p:cNvSpPr/>
          <p:nvPr/>
        </p:nvSpPr>
        <p:spPr>
          <a:xfrm flipH="1">
            <a:off x="543528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118728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83528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3132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40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4788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059280" y="278136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2:26Z</dcterms:created>
  <dc:creator>1</dc:creator>
  <dc:description/>
  <dc:language>en-US</dc:language>
  <cp:lastModifiedBy>k308-1</cp:lastModifiedBy>
  <dcterms:modified xsi:type="dcterms:W3CDTF">2013-03-19T12:51:19Z</dcterms:modified>
  <cp:revision>20</cp:revision>
  <dc:subject/>
  <dc:title>Презентация на тему: «Способы решений задач и число решений задач»</dc:title>
</cp:coreProperties>
</file>