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projctor.wav" ContentType="audio/x-wav"/>
  <Override PartName="/ppt/media/image5.gif" ContentType="image/gif"/>
  <Override PartName="/ppt/media/image10.gif" ContentType="image/gif"/>
  <Override PartName="/ppt/media/image2.png" ContentType="image/png"/>
  <Override PartName="/ppt/media/image9.jpeg" ContentType="image/jpeg"/>
  <Override PartName="/ppt/media/clap.wav" ContentType="audio/x-wav"/>
  <Override PartName="/ppt/media/image3.gif" ContentType="image/gif"/>
  <Override PartName="/ppt/media/image4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8F5-52B0-4B2C-BA38-DD0B7E4C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A75-7B25-4C56-A2F5-0E91BFD3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4D35-234A-4938-B500-8C2658CD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DD1-F4EB-43B8-9579-07AF3E73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0263-0BA3-41C5-A4A4-5EF79B3A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D532-5BBA-4D66-A674-C638C2EA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ED30-0C50-47A8-A77F-B3D7DFFC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F4F9-D2BF-447A-8C3C-5434D5A5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5A64-B5DF-4F9F-B817-0503ED61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D4B1-7AB2-49ED-9FD9-1853564E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F93D-A40F-4999-AE27-B78E417B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B53-D40A-4075-A1CC-AF64A5B9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0EFD-55D5-4705-98AF-0ECCF081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52F4-9597-411F-9E60-E20D59F9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3414-B3FE-44E0-ADB2-36944098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BB58-D651-4B57-B653-ED641395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3A8A-6EB4-4828-B67F-79B6FC71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EFF-3B0E-4B80-86A4-1965C735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F21-748B-457B-932E-23FDA306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B65-FD57-4A50-977B-050CA244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A7B-92DF-4AA9-8CDD-CE372C3B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008D-ACC9-4EB7-B5CD-7BA1E1A4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106-30AC-491D-AC56-8891C496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E62-D0C0-415F-98C3-BD7A6A51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8559df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2807-51DE-4C5B-A197-3998BC2483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2DB7-8895-4A77-BE58-C654B8AE10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projctor.wav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Виды компьютерных сетей.</a:t>
            </a:r>
            <a:br>
              <a:rPr sz="5400"/>
            </a:b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Телекоммуникации 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4191120" cy="1981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5627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52DA-B9BB-43DA-B648-FA17B5F63577}" type="datetime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ff"/>
                </a:solidFill>
                <a:latin typeface="Arial"/>
              </a:rPr>
              <a:t>Характеристики каналов связи</a:t>
            </a:r>
            <a:endParaRPr b="0" lang="en-US" sz="36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700280"/>
          <a:ext cx="9144000" cy="4619520"/>
        </p:xfrm>
        <a:graphic>
          <a:graphicData uri="http://schemas.openxmlformats.org/drawingml/2006/table">
            <a:tbl>
              <a:tblPr/>
              <a:tblGrid>
                <a:gridCol w="2600280"/>
                <a:gridCol w="2116080"/>
                <a:gridCol w="2087640"/>
                <a:gridCol w="2340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свя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ускная способность, Мбит/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еж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ость расшир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6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Электрические кабел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тая п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аксиаль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– 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ст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атичн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фонная ли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товолокон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солю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3D9-24D4-4895-AF57-061EA5A9F8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Сетевые адаптеры </a:t>
            </a:r>
            <a:br>
              <a:rPr sz="4400"/>
            </a:b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(сетевые карты)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0574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хническое устройство, выполняющие функции сопряжения компьютеров с каналами связ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362320" y="2895480"/>
            <a:ext cx="5075280" cy="34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E84-45DD-4774-A8AA-22EA042E4B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Модем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362320"/>
            <a:ext cx="33526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де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устройство, производящее модуляцию (преобразование цифровых сигналов в аналоговые) и демодуляцию (преобразование аналоговых сигналов в цифровы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6680" y="1828800"/>
            <a:ext cx="3222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9E2-F619-4122-8B68-85DAA363F4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33720" y="685800"/>
            <a:ext cx="479412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C1C-A146-46B4-B375-1ADB72F794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600200" y="762120"/>
            <a:ext cx="594360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ACD-5828-4C6C-9C43-9245B545BD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292200" cy="3984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447920" y="457200"/>
            <a:ext cx="594360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27B-2875-41F9-9598-02C7AADED9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Локальная сеть –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единение компьютеров, расположенных на небольших расстояниях друг от друга (одноранговая сет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 правило такие сети связывают компьютеры, расположенные на расстояниях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орядка 50 –1000 метров)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еделах одного или нескольких близлежащих зд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867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ВС – локальная вычислительная сеть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cal Area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C09-2CC8-49BF-AF0F-13832D5EF6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Топология сети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114720"/>
            <a:ext cx="1447920" cy="37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87280" y="639720"/>
            <a:ext cx="6912000" cy="621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A53-3C03-435A-BA1B-4241F6A7F4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9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Региональная </a:t>
            </a:r>
            <a:br>
              <a:rPr sz="4800"/>
            </a:b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(городская) сеть –</a:t>
            </a:r>
            <a:r>
              <a:rPr b="0" lang="ru-RU" sz="40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, для решения общих проблем регионального масштаб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51814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ВС – региональная вычислительная сеть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 - Metropolitan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ABC-B7CF-46D1-852C-CE70F45993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Корпоратив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в пределах корпор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корпорация – объединение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6A4D-85B5-4EED-8F7C-BA7D1C3F11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Глобаль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расположенных на удаленном расстоянии, для общего использования мировых информационных ресурсов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257800"/>
            <a:ext cx="1309680" cy="1325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28800" y="6172200"/>
            <a:ext cx="67816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ERNET 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– дословно «Межсет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5229360"/>
            <a:ext cx="685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ВС – глобальная вычислительная сеть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 – Wide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B58-8D67-4274-B4FB-EB12F3CECA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266688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ными компонентами любой сети являются каналы связи (проводные и беспроводные), для которых используют различные физические сред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586764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B51-4FAD-4919-ACBC-8FDCAD12E5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9d9ff"/>
                </a:solidFill>
                <a:latin typeface="Arial"/>
              </a:rPr>
              <a:t>Каналы связи:</a:t>
            </a:r>
            <a:endParaRPr b="0" lang="en-US" sz="4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леф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аксиальный кабел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товолок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диосвяз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утниковая связь и д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257800" y="5072040"/>
            <a:ext cx="3886200" cy="14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CB7-9404-4090-BCF4-7EF1838A0B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9240"/>
            <a:ext cx="89154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ффективность связи в компьютерных сетях зависит от следующих характеристик (параметров) каналов связи:</a:t>
            </a:r>
            <a:endParaRPr b="0" lang="en-US" sz="32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пускной способности (скорость передачи данных), измеряемой количеством бит информации, переданной по сети в секунд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ежности – способности передавать информацию без искажений и потер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им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и расширения (подключения новых компьютеров и устройст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4A8-CFE0-418E-9B8F-12A0E944EC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08-04-19T05:14:25Z</dcterms:modified>
  <cp:revision>42</cp:revision>
  <dc:subject/>
  <dc:title>PowerPoint Presentation</dc:title>
</cp:coreProperties>
</file>