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projctor.wav" ContentType="audio/x-wav"/>
  <Override PartName="/ppt/media/image5.gif" ContentType="image/gif"/>
  <Override PartName="/ppt/media/image10.gif" ContentType="image/gif"/>
  <Override PartName="/ppt/media/image2.png" ContentType="image/png"/>
  <Override PartName="/ppt/media/image9.jpeg" ContentType="image/jpeg"/>
  <Override PartName="/ppt/media/clap.wav" ContentType="audio/x-wav"/>
  <Override PartName="/ppt/media/image3.gif" ContentType="image/gif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0FCD-F6AE-4AA1-82EC-4F5C496B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DAF-3C51-4ED8-B3D1-EEB28051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481-E070-4C7C-AFBB-6BEE208A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1A7-FA3D-4D74-9957-14C6379F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8B48-4657-41B8-8C31-CDB61DB7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9360-8475-4B7D-BC05-115DCAD7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2158-3E92-4D2E-8FAF-54546B80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8F66-E829-4B7F-955B-ABE55D44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0F6E-BE51-47CD-BD2C-FCAD76C3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4B4C-CAD4-4E23-B6FE-931BCA5D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92C5-ED56-40E9-8527-63C2DE60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B95-1096-4646-9F01-91090045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3C25-2FDE-4240-815B-3A4C3C91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EC49-E840-4344-807C-0BF82800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71AB-D2FB-4A7C-9718-5BCE1F1B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59C2-F60C-46D2-88AA-7B9BEF9C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6CE1-E23D-43FD-91B7-8DCBBA8B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DEA-D51F-4F2D-BFD0-EE78ED69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899-A1B6-4A94-A99F-842EAD9C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C6E-86EE-4D77-A88C-78449A48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ADF-230C-49B0-A91D-2F7E9100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5EA-6C14-499D-8244-9F29470C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5D3-10DE-493E-8D67-7E4BB6E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C9C-5A99-4CFC-BB79-66640FEA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8559df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2855-D9CC-4104-87D9-C43365F6FB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1960-089F-47DA-A78F-A78B20FFF4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projctor.wav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Виды компьютерных сетей.</a:t>
            </a:r>
            <a:br>
              <a:rPr sz="5400"/>
            </a:b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Телекоммуникации 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4191120" cy="1981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5627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4F74-B247-4D81-A2D1-12A3B22B77E8}" type="datetime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ff"/>
                </a:solidFill>
                <a:latin typeface="Arial"/>
              </a:rPr>
              <a:t>Характеристики каналов связи</a:t>
            </a:r>
            <a:endParaRPr b="0" lang="en-US" sz="36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700280"/>
          <a:ext cx="9144000" cy="4619520"/>
        </p:xfrm>
        <a:graphic>
          <a:graphicData uri="http://schemas.openxmlformats.org/drawingml/2006/table">
            <a:tbl>
              <a:tblPr/>
              <a:tblGrid>
                <a:gridCol w="2600280"/>
                <a:gridCol w="2116080"/>
                <a:gridCol w="2087640"/>
                <a:gridCol w="2340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свя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ускная способность, Мбит/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еж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ость расшир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Электрические кабел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тая п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аксиаль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– 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т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атичн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фонная ли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товолокон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олю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58B-8D22-4BD2-A496-90527692D9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Сетевые адаптеры </a:t>
            </a:r>
            <a:br>
              <a:rPr sz="4400"/>
            </a:b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(сетевые карты)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0574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хническое устройство, выполняющие функции сопряжения компьютеров с каналами связ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362320" y="2895480"/>
            <a:ext cx="5075280" cy="34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3B8A-FCF1-42DB-9244-3E8765818A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Модем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362320"/>
            <a:ext cx="33526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де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устройство, производящее модуляцию (преобразование цифровых сигналов в аналоговые) и демодуляцию (преобразование аналоговых сигналов в цифров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6680" y="1828800"/>
            <a:ext cx="3222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C41-C9A9-4309-8CFC-80F25418FB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33720" y="685800"/>
            <a:ext cx="479412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41E-73FF-4DE5-A73D-72C5A2E01D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600200" y="762120"/>
            <a:ext cx="594360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FD4-24B7-43C8-9218-9FD3685944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292200" cy="3984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447920" y="457200"/>
            <a:ext cx="594360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A6E-AC02-4E68-B327-8AF35994A7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Локальная сеть –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единение компьютеров, расположенных на небольших расстояниях друг от друга (одноранговая сет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 правило такие сети связывают компьютеры, расположенные на расстояниях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орядка 50 –1000 метров)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еделах одного или нескольких близлежащих з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867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ВС – локальная вычислительная сеть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cal Area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82B-187E-46F5-95AA-21741F7278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Топология сети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114720"/>
            <a:ext cx="1447920" cy="37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87280" y="639720"/>
            <a:ext cx="6912000" cy="621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FE9-33E6-4649-A112-E418D70490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9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Региональная </a:t>
            </a:r>
            <a:br>
              <a:rPr sz="4800"/>
            </a:b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(городская) сеть –</a:t>
            </a:r>
            <a:r>
              <a:rPr b="0" lang="ru-RU" sz="40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, для решения общих проблем регионального масштаб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51814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ВС – региональная вычислительная сеть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 - Metropolitan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D44-0955-461F-AEA0-8C30E34A91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Корпоратив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в пределах корпор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корпорация – объединение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8C8-A95F-4957-97CD-E9C726AFFE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Глобаль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расположенных на удаленном расстоянии, для общего использования мировых информационных ресурс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1309680" cy="1325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28800" y="6172200"/>
            <a:ext cx="67816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ERNET 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– дословно «Межсет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5229360"/>
            <a:ext cx="685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ВС – глобальная вычислительная сеть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 – Wide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3A88-D458-4798-A182-B02214E994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266688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ными компонентами любой сети являются каналы связи (проводные и беспроводные), для которых используют различные физические сре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86764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9D9-87B0-48A5-B60A-C8603D52CA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9d9ff"/>
                </a:solidFill>
                <a:latin typeface="Arial"/>
              </a:rPr>
              <a:t>Каналы связи:</a:t>
            </a:r>
            <a:endParaRPr b="0" lang="en-US" sz="4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леф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аксиальный кабел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товолок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диосвяз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утниковая связь и д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257800" y="5072040"/>
            <a:ext cx="3886200" cy="14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1CF-BAF6-4001-8C09-FCBCAACDAD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9240"/>
            <a:ext cx="8915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ффективность связи в компьютерных сетях зависит от следующих характеристик (параметров) каналов связи:</a:t>
            </a:r>
            <a:endParaRPr b="0" lang="en-US" sz="32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пускной способности (скорость передачи данных), измеряемой количеством бит информации, переданной по сети в секун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ежности – способности передавать информацию без искажений и потер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им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и расширения (подключения новых компьютеров и устройст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078-72A4-4CA5-97BF-33CD1581C4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08-04-19T05:14:25Z</dcterms:modified>
  <cp:revision>42</cp:revision>
  <dc:subject/>
  <dc:title>PowerPoint Presentation</dc:title>
</cp:coreProperties>
</file>