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projctor.wav" ContentType="audio/x-wav"/>
  <Override PartName="/ppt/media/image5.gif" ContentType="image/gif"/>
  <Override PartName="/ppt/media/image10.gif" ContentType="image/gif"/>
  <Override PartName="/ppt/media/image2.png" ContentType="image/png"/>
  <Override PartName="/ppt/media/image9.jpeg" ContentType="image/jpeg"/>
  <Override PartName="/ppt/media/clap.wav" ContentType="audio/x-wav"/>
  <Override PartName="/ppt/media/image3.gif" ContentType="image/gif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BBD-FAB3-4ECF-B25F-6DBCCB02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A00-5FBF-4875-A2B5-076F96A2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2C9-5CF6-466F-96F9-ECA6D259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9604-D0C1-4679-AA17-89C78193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DC83-44B4-40B9-810A-45B26C94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04BF-4CC5-4EA3-8D95-8D2FE3D9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4376-DAFC-4C63-8834-16BEC54E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7259-8E1E-4259-B02A-367BAC32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86D9-3AB2-4AD5-B9CC-9B788C8A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1235-4E33-41B2-B791-7338C265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59DE-CF4D-40DA-96DF-BE624B8C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0F5-9CF7-4C92-BE65-646B01D3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C01A-053B-4DDE-8338-4A17BCBA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F398-1EC2-4327-81FA-1D973885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6872-4426-4EAD-B93A-4F925EC1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4AD3-EDB9-4894-A9ED-C60F23BC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D030-0F0F-44C5-815D-D33CEBF8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24D-B760-49D6-B1AA-8106F710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756-0828-4FB8-921B-4F15F0C9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BCB-5C85-4173-8826-BA105559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A69-37C9-40EB-8BE1-5092681D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436-D61A-4864-8B1F-6AE1A449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FB7-1E58-4FE7-8D5C-9CAAD6C5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AC5-07A5-471F-920A-B4F56500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8559df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545F-2C41-40B5-968A-47183E8F46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8DEF-EAF2-48F6-AEA9-982E805455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projctor.wav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Виды компьютерных сетей.</a:t>
            </a:r>
            <a:br>
              <a:rPr sz="5400"/>
            </a:b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Телекоммуникации 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4191120" cy="1981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5627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0FBF-4D51-4DA6-8DBA-02978E6E1C2C}" type="datetime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ff"/>
                </a:solidFill>
                <a:latin typeface="Arial"/>
              </a:rPr>
              <a:t>Характеристики каналов связи</a:t>
            </a:r>
            <a:endParaRPr b="0" lang="en-US" sz="36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700280"/>
          <a:ext cx="9144000" cy="4619520"/>
        </p:xfrm>
        <a:graphic>
          <a:graphicData uri="http://schemas.openxmlformats.org/drawingml/2006/table">
            <a:tbl>
              <a:tblPr/>
              <a:tblGrid>
                <a:gridCol w="2600280"/>
                <a:gridCol w="2116080"/>
                <a:gridCol w="2087640"/>
                <a:gridCol w="2340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свя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ускная способность, Мбит/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еж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ость расшир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Электрические кабел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тая п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аксиаль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– 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т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атичн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фонная ли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товолокон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олю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415-FA11-4F47-8024-4104BE3A45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Сетевые адаптеры </a:t>
            </a:r>
            <a:br>
              <a:rPr sz="4400"/>
            </a:b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(сетевые карты)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0574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хническое устройство, выполняющие функции сопряжения компьютеров с каналами связ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362320" y="2895480"/>
            <a:ext cx="5075280" cy="34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9F3-14F9-4DA3-BE87-30A1C751DE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Модем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362320"/>
            <a:ext cx="33526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де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устройство, производящее модуляцию (преобразование цифровых сигналов в аналоговые) и демодуляцию (преобразование аналоговых сигналов в цифров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6680" y="1828800"/>
            <a:ext cx="3222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91F-3700-434C-9D9D-40A52683CF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33720" y="685800"/>
            <a:ext cx="479412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11B-1154-480A-8467-9F70E30800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600200" y="762120"/>
            <a:ext cx="594360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2F2-5AAD-45E4-B6C9-A0E6C1E5BF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292200" cy="3984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447920" y="457200"/>
            <a:ext cx="594360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455-C146-46EA-B758-56BCAB3629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Локальная сеть –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единение компьютеров, расположенных на небольших расстояниях друг от друга (одноранговая сет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 правило такие сети связывают компьютеры, расположенные на расстояниях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орядка 50 –1000 метров)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еделах одного или нескольких близлежащих з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867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ВС – локальная вычислительная сеть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cal Area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CF6-3695-4323-9851-9F0ED9449E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Топология сети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114720"/>
            <a:ext cx="1447920" cy="37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87280" y="639720"/>
            <a:ext cx="6912000" cy="621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11F-7AFA-4CDF-83C6-711056769C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9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Региональная </a:t>
            </a:r>
            <a:br>
              <a:rPr sz="4800"/>
            </a:b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(городская) сеть –</a:t>
            </a:r>
            <a:r>
              <a:rPr b="0" lang="ru-RU" sz="40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, для решения общих проблем регионального масштаб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51814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ВС – региональная вычислительная сеть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 - Metropolitan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788-A88B-42FC-A3B4-3917DCCC04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Корпоратив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в пределах корпор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корпорация – объединение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53C-D91A-4ABD-9949-CD50C2CB94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Глобаль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расположенных на удаленном расстоянии, для общего использования мировых информационных ресурс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1309680" cy="1325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28800" y="6172200"/>
            <a:ext cx="67816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ERNET 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– дословно «Межсет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5229360"/>
            <a:ext cx="685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ВС – глобальная вычислительная сеть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 – Wide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85B-DE16-43EB-975A-6E47DAF4AE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266688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ными компонентами любой сети являются каналы связи (проводные и беспроводные), для которых используют различные физические сре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86764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7C7-5DCB-411F-AEEB-52DC23496B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9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9d9ff"/>
                </a:solidFill>
                <a:latin typeface="Arial"/>
              </a:rPr>
              <a:t>Каналы связи:</a:t>
            </a:r>
            <a:endParaRPr b="0" lang="en-US" sz="4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леф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аксиальный кабел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товолок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диосвяз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утниковая связь и д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257800" y="5072040"/>
            <a:ext cx="3886200" cy="14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3C5-889E-4306-9F8A-4D4F959145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9240"/>
            <a:ext cx="8915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ффективность связи в компьютерных сетях зависит от следующих характеристик (параметров) каналов связи:</a:t>
            </a:r>
            <a:endParaRPr b="0" lang="en-US" sz="32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пускной способности (скорость передачи данных), измеряемой количеством бит информации, переданной по сети в секун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ежности – способности передавать информацию без искажений и потер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им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и расширения (подключения новых компьютеров и устройст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EF4-30AB-4A5C-B367-24C1099BBD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08-04-19T05:14:25Z</dcterms:modified>
  <cp:revision>42</cp:revision>
  <dc:subject/>
  <dc:title>PowerPoint Presentation</dc:title>
</cp:coreProperties>
</file>