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projctor.wav" ContentType="audio/x-wav"/>
  <Override PartName="/ppt/media/image5.gif" ContentType="image/gif"/>
  <Override PartName="/ppt/media/image10.gif" ContentType="image/gif"/>
  <Override PartName="/ppt/media/image2.png" ContentType="image/png"/>
  <Override PartName="/ppt/media/image9.jpeg" ContentType="image/jpeg"/>
  <Override PartName="/ppt/media/clap.wav" ContentType="audio/x-wav"/>
  <Override PartName="/ppt/media/image3.gif" ContentType="image/gif"/>
  <Override PartName="/ppt/media/image4.gif" ContentType="image/gi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CD3-B584-4E67-B42E-3532B276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7754-ECF6-46B4-891E-C58AED07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927B-B988-4DD9-90A8-BEE04BA3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4642-BB03-48A7-AA6C-5B84834A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1CD5-FE7F-4D3B-9CCE-F70AEA75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15E0-3425-4756-8939-1A3FF56C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71BE-C754-429E-A88D-3B5FC5BE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0F48-0964-46B4-B520-DEB4C773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8F02-F12A-4D83-A886-CED66EEF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553F-9388-45BE-922F-EC1314DE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8533-7C5F-4798-B897-06EEBCE0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B701-53D8-4CDA-B140-FF3428FD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C653-DF9C-4571-BF3F-8869CBFB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CE8F-517E-4978-AE6F-27ED7EC6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7F89-7930-495A-A8CB-B2C8A5CC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0E61-5BD6-4D3B-ACDC-4CEEC21D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CFF7-E2FA-46DF-B3C2-E470F4E2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7B29-0DFE-42CE-92CE-96095DAE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6733-9E07-49A9-972C-FAB72822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4E1D-E5FB-4594-86CD-9B834582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8F6-0B67-4786-91C0-1FC398FE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8D59-4E95-498C-AA87-40FED196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912-630B-4F8A-B402-80306927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A39-D0DC-4187-85B8-B7F0E811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8559df"/>
              </a:gs>
              <a:gs pos="100000">
                <a:srgbClr val="99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14FD-ABE7-4268-8588-30096240F9F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156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a5c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559d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156d7"/>
                  </a:gs>
                  <a:gs pos="100000">
                    <a:srgbClr val="99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ce7"/>
                  </a:gs>
                  <a:gs pos="100000">
                    <a:srgbClr val="99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c53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55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e6e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b6a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b6afe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8f5fe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f5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362f6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0FA3-959F-4DE0-ACE3-99CCECBDACF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6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projctor.wav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9d9ff"/>
                </a:solidFill>
                <a:latin typeface="Arial"/>
              </a:rPr>
              <a:t>Виды компьютерных сетей.</a:t>
            </a:r>
            <a:br>
              <a:rPr sz="5400"/>
            </a:br>
            <a:r>
              <a:rPr b="1" lang="ru-RU" sz="5400" spc="-1" strike="noStrike">
                <a:solidFill>
                  <a:srgbClr val="d9d9ff"/>
                </a:solidFill>
                <a:latin typeface="Arial"/>
              </a:rPr>
              <a:t>Телекоммуникации </a:t>
            </a:r>
            <a:endParaRPr b="0" lang="en-US" sz="54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84360" y="4508640"/>
            <a:ext cx="4191120" cy="1981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562720" y="45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107F-1CEB-4D1B-A485-230BFC34E3E0}" type="datetime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9d9ff"/>
                </a:solidFill>
                <a:latin typeface="Arial"/>
              </a:rPr>
              <a:t>Характеристики каналов связи</a:t>
            </a:r>
            <a:endParaRPr b="0" lang="en-US" sz="36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700280"/>
          <a:ext cx="9144000" cy="4619520"/>
        </p:xfrm>
        <a:graphic>
          <a:graphicData uri="http://schemas.openxmlformats.org/drawingml/2006/table">
            <a:tbl>
              <a:tblPr/>
              <a:tblGrid>
                <a:gridCol w="2600280"/>
                <a:gridCol w="2116080"/>
                <a:gridCol w="2087640"/>
                <a:gridCol w="2340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 связ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ускная способность, Мбит/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дежно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можность расшир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6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Электрические кабели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тая па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аксиальный каб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– 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ст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блематичн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лефонная ли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– 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а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 пробл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товолоконный каб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-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солют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 пробл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BDF-F341-4946-8364-96279258FE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Сетевые адаптеры </a:t>
            </a:r>
            <a:br>
              <a:rPr sz="4400"/>
            </a:b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(сетевые карты)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20574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хническое устройство, выполняющие функции сопряжения компьютеров с каналами связ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362320" y="2895480"/>
            <a:ext cx="5075280" cy="346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9C2-C968-4BAC-9AF3-254D1A2E0C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Модем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2362320"/>
            <a:ext cx="33526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де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устройство, производящее модуляцию (преобразование цифровых сигналов в аналоговые) и демодуляцию (преобразование аналоговых сигналов в цифровы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6680" y="1828800"/>
            <a:ext cx="32227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3513-B33A-41F1-9F15-E657AAFBCD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133720" y="685800"/>
            <a:ext cx="479412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6E32-8062-4747-9C99-DD4FD208D1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600200" y="762120"/>
            <a:ext cx="5943600" cy="56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5E20-77B8-4714-B923-AD180FEC85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292200" cy="3984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1447920" y="457200"/>
            <a:ext cx="5943600" cy="18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The end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6634-B9E4-48F0-ACDA-581B2F171D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Локальная сеть –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единение компьютеров, расположенных на небольших расстояниях друг от друга (одноранговая сеть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 правило такие сети связывают компьютеры, расположенные на расстояниях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порядка 50 –1000 метров)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ределах одного или нескольких близлежащих зд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58672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ВС – локальная вычислительная сеть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cal Area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7473-3C39-4DD1-9777-234114C3FC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Топология сети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114720"/>
            <a:ext cx="1447920" cy="37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87280" y="639720"/>
            <a:ext cx="6912000" cy="621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22E-7E47-4771-A2C5-54D243B83A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9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9d9ff"/>
                </a:solidFill>
                <a:latin typeface="Arial"/>
              </a:rPr>
              <a:t>Региональная </a:t>
            </a:r>
            <a:br>
              <a:rPr sz="4800"/>
            </a:br>
            <a:r>
              <a:rPr b="0" lang="ru-RU" sz="4800" spc="-1" strike="noStrike">
                <a:solidFill>
                  <a:srgbClr val="d9d9ff"/>
                </a:solidFill>
                <a:latin typeface="Arial"/>
              </a:rPr>
              <a:t>(городская) сеть –</a:t>
            </a:r>
            <a:r>
              <a:rPr b="0" lang="ru-RU" sz="40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, для решения общих проблем регионального масштаб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51814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ВС – региональная вычислительная сеть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 - Metropolitan Area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E087-FCEC-427C-8382-5516E2F40A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9d9ff"/>
                </a:solidFill>
                <a:latin typeface="Arial"/>
              </a:rPr>
              <a:t>Корпоративная сеть –</a:t>
            </a: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 в пределах корпорац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корпорация – объединение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535-218E-4783-960B-54EC22756D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9d9ff"/>
                </a:solidFill>
                <a:latin typeface="Arial"/>
              </a:rPr>
              <a:t>Глобальная сеть –</a:t>
            </a: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ъединение компьютеров и локальных сетей расположенных на удаленном расстоянии, для общего использования мировых информационных ресурсов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257800"/>
            <a:ext cx="1309680" cy="1325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28800" y="6172200"/>
            <a:ext cx="678168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ERNET 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– дословно «Межсет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35280" y="5229360"/>
            <a:ext cx="6858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ВС – глобальная вычислительная сеть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 – Wide Area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4628-AE21-4D6C-8F19-396FAFA3F5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2666880"/>
            <a:ext cx="830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язательными компонентами любой сети являются каналы связи (проводные и беспроводные), для которых используют различные физические сред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586764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FFE-3F7D-4ACF-9BA3-412F960F5C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18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9d9ff"/>
                </a:solidFill>
                <a:latin typeface="Arial"/>
              </a:rPr>
              <a:t>Каналы связи:</a:t>
            </a:r>
            <a:endParaRPr b="0" lang="en-US" sz="48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лефонные лин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аксиальный кабель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товолоконные лин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диосвязь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путниковая связь и д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257800" y="5072040"/>
            <a:ext cx="3886200" cy="148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7AB1-2725-4576-A8F0-923BC94D99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309240"/>
            <a:ext cx="89154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ффективность связи в компьютерных сетях зависит от следующих характеристик (параметров) каналов связи:</a:t>
            </a:r>
            <a:endParaRPr b="0" lang="en-US" sz="32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пускной способности (скорость передачи данных), измеряемой количеством бит информации, переданной по сети в секунд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дежности – способности передавать информацию без искажений и потер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оим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и расширения (подключения новых компьютеров и устройст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E32-5424-4EF8-94CC-205CF15317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08-04-19T05:14:25Z</dcterms:modified>
  <cp:revision>42</cp:revision>
  <dc:subject/>
  <dc:title>PowerPoint Presentation</dc:title>
</cp:coreProperties>
</file>