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projctor.wav" ContentType="audio/x-wav"/>
  <Override PartName="/ppt/media/image5.gif" ContentType="image/gif"/>
  <Override PartName="/ppt/media/image10.gif" ContentType="image/gif"/>
  <Override PartName="/ppt/media/image2.png" ContentType="image/png"/>
  <Override PartName="/ppt/media/image9.jpeg" ContentType="image/jpeg"/>
  <Override PartName="/ppt/media/clap.wav" ContentType="audio/x-wav"/>
  <Override PartName="/ppt/media/image3.gif" ContentType="image/gif"/>
  <Override PartName="/ppt/media/image4.gif" ContentType="image/gi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A9D-20D6-40E4-98E2-57C16821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B8B-09BD-41FA-BACB-7FFAFA7D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75E2-7BF4-4634-98B8-B2E73D37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17F7-76F7-4597-839C-EA1245E4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F6C0-D270-444E-9D6D-E9CE679F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7DB5-A312-40C5-86DA-B4C68EEB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1411-B1BE-4286-A716-E6B6FDD4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01F8-CB27-4E27-8A88-D867FE38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1AC4-357B-44E4-BD77-14628730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08FA-9AFD-401F-B3F8-9F9EFBFB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8544-9D35-465A-95F6-6EACB4F6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4C77-D391-4E40-8D18-8B43F2CE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3202-1B04-46EC-81F3-45691013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D3C7-2EFB-494E-9AD5-21E55704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696F-F566-470A-AAB2-A5B2E747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8D84-C1F3-4A0E-BC55-2BDAA4B7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47BF-AEA5-40D9-B8C0-56BDF261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4CC-29A2-42A6-9D0A-7D8AD663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D3B-00B4-49B7-9543-769D6068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1F21-AAAF-4A5A-A110-95BB785A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29CB-4ABD-4416-9317-09A6A49A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5FEA-3932-432C-9802-2C4870DD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9BA-7DE5-4397-A748-343A746F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B30-F4F2-42B5-A2F7-09BEE41D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8559df"/>
              </a:gs>
              <a:gs pos="100000">
                <a:srgbClr val="99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3EA8-592D-4AFC-8D3E-9BC968BF4F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0925-B31C-48FA-96A1-67B7EA95484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66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projctor.wav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9d9ff"/>
                </a:solidFill>
                <a:latin typeface="Arial"/>
              </a:rPr>
              <a:t>Виды компьютерных сетей.</a:t>
            </a:r>
            <a:br>
              <a:rPr sz="5400"/>
            </a:br>
            <a:r>
              <a:rPr b="1" lang="ru-RU" sz="5400" spc="-1" strike="noStrike">
                <a:solidFill>
                  <a:srgbClr val="d9d9ff"/>
                </a:solidFill>
                <a:latin typeface="Arial"/>
              </a:rPr>
              <a:t>Телекоммуникации 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484360" y="4508640"/>
            <a:ext cx="4191120" cy="1981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562720" y="45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C72B-97F8-46DC-8AEC-AA67D0958890}" type="datetime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9d9ff"/>
                </a:solidFill>
                <a:latin typeface="Arial"/>
              </a:rPr>
              <a:t>Характеристики каналов связи</a:t>
            </a:r>
            <a:endParaRPr b="0" lang="en-US" sz="3600" spc="-1" strike="noStrike">
              <a:solidFill>
                <a:srgbClr val="d9d9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1700280"/>
          <a:ext cx="9144000" cy="4619520"/>
        </p:xfrm>
        <a:graphic>
          <a:graphicData uri="http://schemas.openxmlformats.org/drawingml/2006/table">
            <a:tbl>
              <a:tblPr/>
              <a:tblGrid>
                <a:gridCol w="2600280"/>
                <a:gridCol w="2116080"/>
                <a:gridCol w="2087640"/>
                <a:gridCol w="23400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 связ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ускная способность, Мбит/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ежно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можность расшир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6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Электрические кабели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тая па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аксиальный каб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– 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 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ст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блематичн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ефонная ли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 пробл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товолоконный каб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-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бсолю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 пробл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F454-2497-45A8-955D-C380DF8482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Сетевые адаптеры </a:t>
            </a:r>
            <a:br>
              <a:rPr sz="4400"/>
            </a:b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(сетевые карты)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20574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хническое устройство, выполняющие функции сопряжения компьютеров с каналами связ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362320" y="2895480"/>
            <a:ext cx="5075280" cy="346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B379-D657-40C2-A1C2-A929EDD14F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Модем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2362320"/>
            <a:ext cx="33526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оде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устройство, производящее модуляцию (преобразование цифровых сигналов в аналоговые) и демодуляцию (преобразование аналоговых сигналов в цифровые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6680" y="1828800"/>
            <a:ext cx="32227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859E-5582-46A3-A6CF-C7FB3E1605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133720" y="685800"/>
            <a:ext cx="479412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73E0-3A84-467E-8CCB-AEA8466267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600200" y="762120"/>
            <a:ext cx="594360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68E3-FFB0-4B3A-998A-6791ECCF3D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292200" cy="3984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1447920" y="457200"/>
            <a:ext cx="5943600" cy="18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The end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646C-1041-49B5-BD0B-9AF1F2B087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Локальная сеть –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единение компьютеров, расположенных на небольших расстояниях друг от друга (одноранговая сеть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 правило такие сети связывают компьютеры, расположенные на расстояниях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порядка 50 –1000 метров)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ределах одного или нескольких близлежащих зд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5867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ВС – локальная вычислительная сеть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cal Area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3404-2190-4641-B4CB-14F53CBF90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Топология сети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114720"/>
            <a:ext cx="1447920" cy="37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187280" y="639720"/>
            <a:ext cx="6912000" cy="621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95BE-2B36-4C30-8498-90FA6AE3D1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9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9d9ff"/>
                </a:solidFill>
                <a:latin typeface="Arial"/>
              </a:rPr>
              <a:t>Региональная </a:t>
            </a:r>
            <a:br>
              <a:rPr sz="4800"/>
            </a:br>
            <a:r>
              <a:rPr b="0" lang="ru-RU" sz="4800" spc="-1" strike="noStrike">
                <a:solidFill>
                  <a:srgbClr val="d9d9ff"/>
                </a:solidFill>
                <a:latin typeface="Arial"/>
              </a:rPr>
              <a:t>(городская) сеть –</a:t>
            </a:r>
            <a:r>
              <a:rPr b="0" lang="ru-RU" sz="40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динение компьютеров и локальных сетей, для решения общих проблем регионального масштаб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51814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ВС – региональная вычислительная сеть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 - Metropolitan Area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A4CD-C640-402C-ADCE-A04D6AF5CF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9d9ff"/>
                </a:solidFill>
                <a:latin typeface="Arial"/>
              </a:rPr>
              <a:t>Корпоративная сеть –</a:t>
            </a: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динение компьютеров и локальных сетей в пределах корпорац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корпорация – объединение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7344-C2D2-43CE-B3C9-955B8C5F3C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9d9ff"/>
                </a:solidFill>
                <a:latin typeface="Arial"/>
              </a:rPr>
              <a:t>Глобальная сеть –</a:t>
            </a: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динение компьютеров и локальных сетей расположенных на удаленном расстоянии, для общего использования мировых информационных ресурсов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5257800"/>
            <a:ext cx="1309680" cy="1325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828800" y="6172200"/>
            <a:ext cx="678168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TERNET 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– дословно «Межсеть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35280" y="5229360"/>
            <a:ext cx="6858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ВС – глобальная вычислительная сеть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N – Wide Area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E752-9216-4D3C-B3C5-E04E14CEB4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2666880"/>
            <a:ext cx="830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язательными компонентами любой сети являются каналы связи (проводные и беспроводные), для которых используют различные физические сред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586764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70E1-A959-43E4-B11A-BB5F6DF4AE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9d9ff"/>
                </a:solidFill>
                <a:latin typeface="Arial"/>
              </a:rPr>
              <a:t>Каналы связи:</a:t>
            </a:r>
            <a:endParaRPr b="0" lang="en-US" sz="4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елефонные лин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аксиальный кабель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товолоконные лин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диосвязь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путниковая связь и д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257800" y="5072040"/>
            <a:ext cx="3886200" cy="148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A2DA-2F7B-4DE1-9769-A2FB492850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309240"/>
            <a:ext cx="89154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ффективность связи в компьютерных сетях зависит от следующих характеристик (параметров) каналов связи:</a:t>
            </a:r>
            <a:endParaRPr b="0" lang="en-US" sz="32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пускной способности (скорость передачи данных), измеряемой количеством бит информации, переданной по сети в секунд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дежности – способности передавать информацию без искажений и потер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оим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и расширения (подключения новых компьютеров и устройст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B1D6-998C-4267-A6FE-2429C2EE46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08-04-19T05:14:25Z</dcterms:modified>
  <cp:revision>42</cp:revision>
  <dc:subject/>
  <dc:title>PowerPoint Presentation</dc:title>
</cp:coreProperties>
</file>