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CF1-3353-419A-B707-15492327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2646-4924-4EA3-83CE-620D71F9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5A89-D4D2-4436-92FE-16E5147D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265-90B5-41AD-A905-D8BB8B00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94FD-F442-49E6-BA06-447D1361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D3D4-04FD-48A8-924A-E06AB11B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6CA4-6F99-4017-ABA1-2A59AFFF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5A92-1258-48CC-9BE8-CB7609C0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299E-CBA3-4C88-96C9-F39381D4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1011-DEC9-40D9-A20D-D8B903FA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0238-4FDB-4BE8-8278-AA5B8A8D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FAA7-200E-4ADB-8A2A-B374A0EA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1408-7F9A-4180-B14C-8232A519D5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1773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стемы счисления в заданиях ГИ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755640" y="3500280"/>
            <a:ext cx="68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 Мочалова Марина Владимировна, учитель информатик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лицей №14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324000" y="1125360"/>
            <a:ext cx="85690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смонавты встретили инопланетянина, который свободно разговаривал на земном языке. Выяснилось, что у гостя 13 сыновей и 23 дочери, а всего детей – 102. Найдите, какой системой счисления пользовался гост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250920" y="450864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аких системах счисления перевод числа 37 оканчивается на 7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1258920" y="528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7 = 30 +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3276720" y="5300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т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, 5, 6, 10, 15, 3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468360" y="5805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.к. остаток 7 , значит основания 3, 5, 6 – не подходят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 – исходная СС. Остается: 15-ричная, 30-ричная С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395280" y="69228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на различные переводы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684360" y="2781360"/>
            <a:ext cx="7920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0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р + 3 +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+ 3 =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р + 6 =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                 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3р – 4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р – 4)(р + 1) = 0   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-1 – не имеет смысла     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9"/>
          <p:cNvSpPr/>
          <p:nvPr/>
        </p:nvSpPr>
        <p:spPr>
          <a:xfrm>
            <a:off x="7596360" y="4365720"/>
            <a:ext cx="86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72"/>
          <p:cNvSpPr/>
          <p:nvPr/>
        </p:nvSpPr>
        <p:spPr>
          <a:xfrm>
            <a:off x="250920" y="620640"/>
            <a:ext cx="5329080" cy="58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Фамилия, Имя 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1. Вычислите значение суммы в десятичной СС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=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22     2. 20     3. 18     4.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2. Двоичным эквивалентом числа 60 являе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111100     2. 10110     3. 110     4. 11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3. Сколько единиц содержит двоичная запись числа 25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1     2. 2     3. 3     4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4. В системе с некоторым основанием число 17 записывается как 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101. Укажите это осн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2     2. 3     3. 4     4.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1. В коробке 31 шар. Из них 12 красных и 17 желтых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В какой системе счисления такое возможн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2. Даны 3 числа. Поставьте их в порядке убы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 = 203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В = 10101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С = 135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225520" y="1359000"/>
          <a:ext cx="1714680" cy="414000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41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5651640" y="2924280"/>
          <a:ext cx="3095640" cy="2438280"/>
        </p:xfrm>
        <a:graphic>
          <a:graphicData uri="http://schemas.openxmlformats.org/drawingml/2006/table">
            <a:tbl>
              <a:tblPr/>
              <a:tblGrid>
                <a:gridCol w="617400"/>
                <a:gridCol w="622440"/>
                <a:gridCol w="615960"/>
                <a:gridCol w="620640"/>
                <a:gridCol w="619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0" name="Text Box 737"/>
          <p:cNvSpPr/>
          <p:nvPr/>
        </p:nvSpPr>
        <p:spPr>
          <a:xfrm>
            <a:off x="324000" y="189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я для проверки усвоения материала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50920" y="1197000"/>
            <a:ext cx="8569080" cy="36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ционные системы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понимают под позиционными СС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СС, в которых «вес» (значение) цифры зависит от ее места (позиции) в изображении чис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понимают п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анием позиционной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количество знаков, используемых для представления чисел, а также «вес» разря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ернутая форма представления чисел в позиционных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835280" y="4797360"/>
            <a:ext cx="648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 . .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116000" y="5300640"/>
            <a:ext cx="460836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– само число в СС с основание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значащие цифры чи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число разрядов чи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50920" y="1197000"/>
            <a:ext cx="878508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ционные системы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ернутая форма представления целых чисел в позиционных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771640" y="2708280"/>
            <a:ext cx="316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=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. . . 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71640" y="5084640"/>
            <a:ext cx="727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свернутой формой представления чисел (194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24000" y="42210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й формой записи чисел мы пользуемся в повседневной жизн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971640" y="3357720"/>
            <a:ext cx="7345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. . .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- значащие цифры чис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287280" y="981000"/>
            <a:ext cx="54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запись чис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зличных формах предст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68360" y="1773360"/>
            <a:ext cx="52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76360" y="4221000"/>
            <a:ext cx="8567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ь число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в свернутой форм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76360" y="2133720"/>
            <a:ext cx="85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ь число А = 317 в развернутой форм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564000" y="3213000"/>
            <a:ext cx="446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= 3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+ 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+ 7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1476360" y="3213000"/>
            <a:ext cx="151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= 31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085840" y="292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635280" y="5300640"/>
            <a:ext cx="25192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73612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6"/>
          <p:cNvSpPr/>
          <p:nvPr/>
        </p:nvSpPr>
        <p:spPr>
          <a:xfrm>
            <a:off x="287280" y="981000"/>
            <a:ext cx="84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ы чисел из десятичной СС в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84040" y="1557360"/>
            <a:ext cx="856944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ило перевода методом последовательного делени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о последовательно делить данное число и получаемые частные на новое основ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о тех пор, пока не получится частное, меньшее делител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тавить число в новой системе счисления, записывая его, начиная с последнего остатка в обратном поряд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713160" y="414972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80"/>
          <p:cNvGrpSpPr/>
          <p:nvPr/>
        </p:nvGrpSpPr>
        <p:grpSpPr>
          <a:xfrm>
            <a:off x="2053080" y="4221000"/>
            <a:ext cx="1303560" cy="1144080"/>
            <a:chOff x="2053080" y="4221000"/>
            <a:chExt cx="1303560" cy="1144080"/>
          </a:xfrm>
        </p:grpSpPr>
        <p:sp>
          <p:nvSpPr>
            <p:cNvPr id="66" name="Rectangle 9"/>
            <p:cNvSpPr/>
            <p:nvPr/>
          </p:nvSpPr>
          <p:spPr>
            <a:xfrm>
              <a:off x="2053440" y="4221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9"/>
            <p:cNvGrpSpPr/>
            <p:nvPr/>
          </p:nvGrpSpPr>
          <p:grpSpPr>
            <a:xfrm>
              <a:off x="2053080" y="4222440"/>
              <a:ext cx="1303560" cy="1142640"/>
              <a:chOff x="2053080" y="4222440"/>
              <a:chExt cx="1303560" cy="1142640"/>
            </a:xfrm>
          </p:grpSpPr>
          <p:grpSp>
            <p:nvGrpSpPr>
              <p:cNvPr id="68" name="Group 15"/>
              <p:cNvGrpSpPr/>
              <p:nvPr/>
            </p:nvGrpSpPr>
            <p:grpSpPr>
              <a:xfrm>
                <a:off x="2630520" y="4222440"/>
                <a:ext cx="726120" cy="757800"/>
                <a:chOff x="2630520" y="4222440"/>
                <a:chExt cx="726120" cy="757800"/>
              </a:xfrm>
            </p:grpSpPr>
            <p:grpSp>
              <p:nvGrpSpPr>
                <p:cNvPr id="69" name="Group 13"/>
                <p:cNvGrpSpPr/>
                <p:nvPr/>
              </p:nvGrpSpPr>
              <p:grpSpPr>
                <a:xfrm>
                  <a:off x="2630520" y="4290480"/>
                  <a:ext cx="726120" cy="689760"/>
                  <a:chOff x="2630520" y="4290480"/>
                  <a:chExt cx="726120" cy="689760"/>
                </a:xfrm>
              </p:grpSpPr>
              <p:sp>
                <p:nvSpPr>
                  <p:cNvPr id="70" name="Line 10"/>
                  <p:cNvSpPr/>
                  <p:nvPr/>
                </p:nvSpPr>
                <p:spPr>
                  <a:xfrm>
                    <a:off x="2630520" y="4290480"/>
                    <a:ext cx="0" cy="6897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Line 11"/>
                  <p:cNvSpPr/>
                  <p:nvPr/>
                </p:nvSpPr>
                <p:spPr>
                  <a:xfrm>
                    <a:off x="2630520" y="4635360"/>
                    <a:ext cx="7261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Rectangle 12"/>
                <p:cNvSpPr/>
                <p:nvPr/>
              </p:nvSpPr>
              <p:spPr>
                <a:xfrm>
                  <a:off x="2705760" y="42224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Rectangle 14"/>
              <p:cNvSpPr/>
              <p:nvPr/>
            </p:nvSpPr>
            <p:spPr>
              <a:xfrm>
                <a:off x="2708280" y="4635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6"/>
              <p:cNvSpPr/>
              <p:nvPr/>
            </p:nvSpPr>
            <p:spPr>
              <a:xfrm>
                <a:off x="2053080" y="44974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17"/>
              <p:cNvSpPr/>
              <p:nvPr/>
            </p:nvSpPr>
            <p:spPr>
              <a:xfrm>
                <a:off x="2122920" y="4910760"/>
                <a:ext cx="435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8"/>
              <p:cNvSpPr/>
              <p:nvPr/>
            </p:nvSpPr>
            <p:spPr>
              <a:xfrm>
                <a:off x="2194920" y="4977360"/>
                <a:ext cx="280080" cy="3877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Group 20"/>
          <p:cNvGrpSpPr/>
          <p:nvPr/>
        </p:nvGrpSpPr>
        <p:grpSpPr>
          <a:xfrm>
            <a:off x="2628720" y="4581360"/>
            <a:ext cx="1160280" cy="1142640"/>
            <a:chOff x="2628720" y="4581360"/>
            <a:chExt cx="1160280" cy="1142640"/>
          </a:xfrm>
        </p:grpSpPr>
        <p:grpSp>
          <p:nvGrpSpPr>
            <p:cNvPr id="78" name="Group 21"/>
            <p:cNvGrpSpPr/>
            <p:nvPr/>
          </p:nvGrpSpPr>
          <p:grpSpPr>
            <a:xfrm>
              <a:off x="3142800" y="4581360"/>
              <a:ext cx="646200" cy="757800"/>
              <a:chOff x="3142800" y="4581360"/>
              <a:chExt cx="646200" cy="757800"/>
            </a:xfrm>
          </p:grpSpPr>
          <p:grpSp>
            <p:nvGrpSpPr>
              <p:cNvPr id="79" name="Group 22"/>
              <p:cNvGrpSpPr/>
              <p:nvPr/>
            </p:nvGrpSpPr>
            <p:grpSpPr>
              <a:xfrm>
                <a:off x="3142800" y="4649400"/>
                <a:ext cx="646200" cy="689760"/>
                <a:chOff x="3142800" y="4649400"/>
                <a:chExt cx="646200" cy="689760"/>
              </a:xfrm>
            </p:grpSpPr>
            <p:sp>
              <p:nvSpPr>
                <p:cNvPr id="80" name="Line 23"/>
                <p:cNvSpPr/>
                <p:nvPr/>
              </p:nvSpPr>
              <p:spPr>
                <a:xfrm>
                  <a:off x="3142800" y="4649400"/>
                  <a:ext cx="0" cy="68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3142800" y="499428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" name="Rectangle 25"/>
              <p:cNvSpPr/>
              <p:nvPr/>
            </p:nvSpPr>
            <p:spPr>
              <a:xfrm>
                <a:off x="3209760" y="4581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Rectangle 26"/>
            <p:cNvSpPr/>
            <p:nvPr/>
          </p:nvSpPr>
          <p:spPr>
            <a:xfrm>
              <a:off x="3211920" y="4994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7"/>
            <p:cNvSpPr/>
            <p:nvPr/>
          </p:nvSpPr>
          <p:spPr>
            <a:xfrm>
              <a:off x="2628720" y="4856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8"/>
            <p:cNvSpPr/>
            <p:nvPr/>
          </p:nvSpPr>
          <p:spPr>
            <a:xfrm>
              <a:off x="2691360" y="526968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9"/>
            <p:cNvSpPr/>
            <p:nvPr/>
          </p:nvSpPr>
          <p:spPr>
            <a:xfrm>
              <a:off x="2755440" y="533628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30"/>
          <p:cNvGrpSpPr/>
          <p:nvPr/>
        </p:nvGrpSpPr>
        <p:grpSpPr>
          <a:xfrm>
            <a:off x="3133440" y="4941720"/>
            <a:ext cx="1160280" cy="1142640"/>
            <a:chOff x="3133440" y="4941720"/>
            <a:chExt cx="1160280" cy="1142640"/>
          </a:xfrm>
        </p:grpSpPr>
        <p:grpSp>
          <p:nvGrpSpPr>
            <p:cNvPr id="88" name="Group 31"/>
            <p:cNvGrpSpPr/>
            <p:nvPr/>
          </p:nvGrpSpPr>
          <p:grpSpPr>
            <a:xfrm>
              <a:off x="3647520" y="4941720"/>
              <a:ext cx="646200" cy="757800"/>
              <a:chOff x="3647520" y="4941720"/>
              <a:chExt cx="646200" cy="757800"/>
            </a:xfrm>
          </p:grpSpPr>
          <p:grpSp>
            <p:nvGrpSpPr>
              <p:cNvPr id="89" name="Group 32"/>
              <p:cNvGrpSpPr/>
              <p:nvPr/>
            </p:nvGrpSpPr>
            <p:grpSpPr>
              <a:xfrm>
                <a:off x="3647520" y="5009760"/>
                <a:ext cx="646200" cy="689760"/>
                <a:chOff x="3647520" y="5009760"/>
                <a:chExt cx="646200" cy="689760"/>
              </a:xfrm>
            </p:grpSpPr>
            <p:sp>
              <p:nvSpPr>
                <p:cNvPr id="90" name="Line 33"/>
                <p:cNvSpPr/>
                <p:nvPr/>
              </p:nvSpPr>
              <p:spPr>
                <a:xfrm>
                  <a:off x="3647520" y="5009760"/>
                  <a:ext cx="0" cy="68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3647520" y="535464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" name="Rectangle 35"/>
              <p:cNvSpPr/>
              <p:nvPr/>
            </p:nvSpPr>
            <p:spPr>
              <a:xfrm>
                <a:off x="3714480" y="4941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Rectangle 36"/>
            <p:cNvSpPr/>
            <p:nvPr/>
          </p:nvSpPr>
          <p:spPr>
            <a:xfrm>
              <a:off x="3716640" y="535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7"/>
            <p:cNvSpPr/>
            <p:nvPr/>
          </p:nvSpPr>
          <p:spPr>
            <a:xfrm>
              <a:off x="3133440" y="52167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8"/>
            <p:cNvSpPr/>
            <p:nvPr/>
          </p:nvSpPr>
          <p:spPr>
            <a:xfrm>
              <a:off x="3196080" y="563004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9"/>
            <p:cNvSpPr/>
            <p:nvPr/>
          </p:nvSpPr>
          <p:spPr>
            <a:xfrm>
              <a:off x="3260160" y="569664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0"/>
          <p:cNvGrpSpPr/>
          <p:nvPr/>
        </p:nvGrpSpPr>
        <p:grpSpPr>
          <a:xfrm>
            <a:off x="3627360" y="5343480"/>
            <a:ext cx="1160280" cy="1143720"/>
            <a:chOff x="3627360" y="5343480"/>
            <a:chExt cx="1160280" cy="1143720"/>
          </a:xfrm>
        </p:grpSpPr>
        <p:grpSp>
          <p:nvGrpSpPr>
            <p:cNvPr id="98" name="Group 41"/>
            <p:cNvGrpSpPr/>
            <p:nvPr/>
          </p:nvGrpSpPr>
          <p:grpSpPr>
            <a:xfrm>
              <a:off x="4141440" y="5343480"/>
              <a:ext cx="646200" cy="756720"/>
              <a:chOff x="4141440" y="5343480"/>
              <a:chExt cx="646200" cy="756720"/>
            </a:xfrm>
          </p:grpSpPr>
          <p:grpSp>
            <p:nvGrpSpPr>
              <p:cNvPr id="99" name="Group 42"/>
              <p:cNvGrpSpPr/>
              <p:nvPr/>
            </p:nvGrpSpPr>
            <p:grpSpPr>
              <a:xfrm>
                <a:off x="4141440" y="5411520"/>
                <a:ext cx="646200" cy="688680"/>
                <a:chOff x="4141440" y="5411520"/>
                <a:chExt cx="646200" cy="688680"/>
              </a:xfrm>
            </p:grpSpPr>
            <p:sp>
              <p:nvSpPr>
                <p:cNvPr id="100" name="Line 43"/>
                <p:cNvSpPr/>
                <p:nvPr/>
              </p:nvSpPr>
              <p:spPr>
                <a:xfrm>
                  <a:off x="4141440" y="5411520"/>
                  <a:ext cx="0" cy="688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44"/>
                <p:cNvSpPr/>
                <p:nvPr/>
              </p:nvSpPr>
              <p:spPr>
                <a:xfrm>
                  <a:off x="4141440" y="575568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Rectangle 45"/>
              <p:cNvSpPr/>
              <p:nvPr/>
            </p:nvSpPr>
            <p:spPr>
              <a:xfrm>
                <a:off x="4208400" y="5343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46"/>
            <p:cNvSpPr/>
            <p:nvPr/>
          </p:nvSpPr>
          <p:spPr>
            <a:xfrm>
              <a:off x="4210560" y="575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47"/>
            <p:cNvSpPr/>
            <p:nvPr/>
          </p:nvSpPr>
          <p:spPr>
            <a:xfrm>
              <a:off x="3627360" y="5618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48"/>
            <p:cNvSpPr/>
            <p:nvPr/>
          </p:nvSpPr>
          <p:spPr>
            <a:xfrm>
              <a:off x="3690000" y="603072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49"/>
            <p:cNvSpPr/>
            <p:nvPr/>
          </p:nvSpPr>
          <p:spPr>
            <a:xfrm>
              <a:off x="3754080" y="609948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61"/>
          <p:cNvSpPr/>
          <p:nvPr/>
        </p:nvSpPr>
        <p:spPr>
          <a:xfrm>
            <a:off x="5148360" y="4365720"/>
            <a:ext cx="2663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 = 100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5"/>
          <p:cNvSpPr/>
          <p:nvPr/>
        </p:nvSpPr>
        <p:spPr>
          <a:xfrm>
            <a:off x="5508720" y="5589720"/>
            <a:ext cx="1512720" cy="720720"/>
          </a:xfrm>
          <a:prstGeom prst="wedgeRoundRectCallout">
            <a:avLst>
              <a:gd name="adj1" fmla="val 82949"/>
              <a:gd name="adj2" fmla="val -12797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4"/>
          <p:cNvSpPr/>
          <p:nvPr/>
        </p:nvSpPr>
        <p:spPr>
          <a:xfrm flipH="1" flipV="1">
            <a:off x="1763280" y="5445000"/>
            <a:ext cx="1800360" cy="1268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75"/>
          <p:cNvSpPr/>
          <p:nvPr/>
        </p:nvSpPr>
        <p:spPr>
          <a:xfrm>
            <a:off x="4211640" y="5805360"/>
            <a:ext cx="360360" cy="360360"/>
          </a:xfrm>
          <a:prstGeom prst="ellipse">
            <a:avLst/>
          </a:prstGeom>
          <a:noFill/>
          <a:ln w="38160">
            <a:solidFill>
              <a:srgbClr val="ebe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rc 76"/>
          <p:cNvSpPr/>
          <p:nvPr/>
        </p:nvSpPr>
        <p:spPr>
          <a:xfrm flipV="1">
            <a:off x="3564000" y="6274800"/>
            <a:ext cx="863640" cy="433080"/>
          </a:xfrm>
          <a:custGeom>
            <a:avLst/>
            <a:gdLst>
              <a:gd name="textAreaLeft" fmla="*/ 0 w 863640"/>
              <a:gd name="textAreaRight" fmla="*/ 864000 w 863640"/>
              <a:gd name="textAreaTop" fmla="*/ -360 h 433080"/>
              <a:gd name="textAreaBottom" fmla="*/ 433080 h 433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7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4000" y="90792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переводы чисел из десятичной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0" y="170028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сти число 2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воичную систему СС 2-мя способ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755640" y="227664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методом подбора (разложить число на степени основания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55640" y="2852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 = 22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755640" y="3357720"/>
            <a:ext cx="201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 = 10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6920" y="393372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с помощью алгоритма дел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250920" y="465300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ыполняя вычислений, определить, сколько значащих 1 будет в двоичном представлении числа 6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53272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50920" y="57340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3137040" y="576108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5292720" y="5734080"/>
            <a:ext cx="23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3657600" y="5734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6222960" y="58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373480" y="2852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16 + 6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4122720" y="2852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16 + 4 + 2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354720" y="2852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243000" y="981000"/>
            <a:ext cx="78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ы чисел из позиционной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десятичную систему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826920" y="2133720"/>
            <a:ext cx="56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24000" y="1989000"/>
            <a:ext cx="856908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ило перевод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ить число в развернутой форм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числить сумму ря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енный результат является значением числа в 10-ой С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24000" y="4437000"/>
            <a:ext cx="835164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 число 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вести в 10-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774720" y="49849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2 1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2050920" y="515772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826920" y="57340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25 +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5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3924360" y="573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4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5724360" y="5734080"/>
            <a:ext cx="201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4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611280" y="184464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68360" y="1916280"/>
            <a:ext cx="59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101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вести в 10-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443640" y="1916280"/>
            <a:ext cx="216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324000" y="105264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переводы чисел в десятичн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468360" y="2708280"/>
            <a:ext cx="5905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ить сумму чисел 10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2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ответ представить в десятичной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673272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468360" y="3860640"/>
            <a:ext cx="45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наименьшее из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684360" y="4797360"/>
            <a:ext cx="158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= 10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2484360" y="479736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= 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4140360" y="4797360"/>
            <a:ext cx="194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= 10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6300720" y="479736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1116000" y="551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2700360" y="551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4788000" y="551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6732720" y="551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6751800" y="3789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5"/>
          <p:cNvSpPr/>
          <p:nvPr/>
        </p:nvSpPr>
        <p:spPr>
          <a:xfrm>
            <a:off x="395280" y="69228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на различные переводы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95280" y="1125360"/>
            <a:ext cx="8569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о 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уши. После того, как каждую разрезали                    пополам, стало 136 половинок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 СС с каким основанием вели с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539640" y="2276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к. ответ дан в десятичной СС, определяем, сколько было целых груш?                136 : 2 = 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3203640" y="3141720"/>
            <a:ext cx="57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к. количество груш в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, чем их число в десятичной СС, значит 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826920" y="443700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яем чис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 Находим: р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468360" y="3141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метод подб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611280" y="5013360"/>
            <a:ext cx="40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 помощью вычисл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1116000" y="5516640"/>
            <a:ext cx="727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им 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десятичную СС и находи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1116000" y="5950080"/>
            <a:ext cx="6048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+ 3       5р + 3 = 68        р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900000" y="3716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8 = 53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7:59:56Z</dcterms:created>
  <dc:creator>MS</dc:creator>
  <dc:description/>
  <dc:language>en-US</dc:language>
  <cp:lastModifiedBy>MS</cp:lastModifiedBy>
  <dcterms:modified xsi:type="dcterms:W3CDTF">2013-06-05T14:32:26Z</dcterms:modified>
  <cp:revision>44</cp:revision>
  <dc:subject/>
  <dc:title>Слайд 1</dc:title>
</cp:coreProperties>
</file>