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DF0-4EB7-42CA-A02F-53BFEA88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B05-E246-48EC-8910-8BDACFD1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A8E-DE6B-4F65-B755-4D481E26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582-C600-4B9C-8A52-10A201CD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3D9-6E76-49E8-902A-F1A2DCFD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8A2-8122-4BEB-A80D-DAF080AB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06E-0619-40A3-91A4-F7F2FD59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548-6AAB-42B4-861B-B26E3B4F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C7B-2485-459A-8D71-9CFEA53B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7A1-E06A-4F23-B9DD-20FFA7A5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84D-9BB0-4A7D-AAD4-AE6E3E16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F57-7F08-4E5A-9D29-98B07613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5042-6974-4517-BF0F-2F922C52A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77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ы счисления в заданиях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55640" y="350028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Мочалова Марина Владимировна, учитель информати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1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324000" y="1125360"/>
            <a:ext cx="8569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смонавты встретили инопланетянина, который свободно разговаривал на земном языке. Выяснилось, что у гостя 13 сыновей и 23 дочери, а всего детей – 102. Найдите, какой системой счисления пользовался г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0920" y="4508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их системах счисления перевод числа 37 оканчивается на 7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258920" y="528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7 = 30 +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3276720" y="530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 5, 6, 10, 15,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68360" y="580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.к. остаток 7 , значит основания 3, 5, 6 – не подходят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 – исходная СС. Остается: 15-ричная, 30-ричная 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84360" y="2781360"/>
            <a:ext cx="7920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р + 3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р + 6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                 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3р –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 – 4)(р + 1) = 0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1 – не имеет смысла  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7596360" y="436572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250920" y="620640"/>
            <a:ext cx="532908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Фамилия, Имя 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1. Вычислите значение суммы в десятичной С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2     2. 20     3. 18     4.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2. Двоичным эквивалентом числа 60 я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11100     2. 10110     3. 110     4. 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3. Сколько единиц содержит двоичная запись числа 2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     2. 2     3. 3     4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4. В системе с некоторым основанием число 17 записывается как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101. Укажите это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     2. 3     3. 4     4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1. В коробке 31 шар. Из них 12 красных и 17 желты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В какой системе счисления такое возмож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2. Даны 3 числа. Поставьте их в порядке убы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 = 203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В = 10101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С = 135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25520" y="1359000"/>
          <a:ext cx="1714680" cy="414000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41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651640" y="2924280"/>
          <a:ext cx="3095640" cy="2438280"/>
        </p:xfrm>
        <a:graphic>
          <a:graphicData uri="http://schemas.openxmlformats.org/drawingml/2006/table">
            <a:tbl>
              <a:tblPr/>
              <a:tblGrid>
                <a:gridCol w="617400"/>
                <a:gridCol w="622440"/>
                <a:gridCol w="615960"/>
                <a:gridCol w="620640"/>
                <a:gridCol w="61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737"/>
          <p:cNvSpPr/>
          <p:nvPr/>
        </p:nvSpPr>
        <p:spPr>
          <a:xfrm>
            <a:off x="324000" y="1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я для проверки усвоения материала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50920" y="1197000"/>
            <a:ext cx="856908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позиционными СС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С, в которых «вес» (значение) цифры зависит от ее места (позиции) в изображении чис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м позиционной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личество знаков, используемых для представления чисел, а также «вес» разря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ернутая форма представления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835280" y="4797360"/>
            <a:ext cx="648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116000" y="5300640"/>
            <a:ext cx="46083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– само число в СС с основание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значащие цифры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исло разрядов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0920" y="1197000"/>
            <a:ext cx="87850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нутая форма представления целых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71640" y="2708280"/>
            <a:ext cx="316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=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. . .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71640" y="5084640"/>
            <a:ext cx="72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ернутой формой представления чисел (194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4000" y="4221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формой записи чисел мы пользуемся в повседневной жиз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971640" y="3357720"/>
            <a:ext cx="7345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- значащие цифры чис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287280" y="981000"/>
            <a:ext cx="54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запись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личных формах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360" y="1773360"/>
            <a:ext cx="52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76360" y="4221000"/>
            <a:ext cx="856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 с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76360" y="213372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 = 317 в раз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564000" y="3213000"/>
            <a:ext cx="446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476360" y="321300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8584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635280" y="5300640"/>
            <a:ext cx="2519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7361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87280" y="98100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десятичной СС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4040" y="1557360"/>
            <a:ext cx="856944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 методом последовательного дел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последовательно делить данное число и получаемые частные на новое осн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тех пор, пока не получится частное, меньшее делител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ить число в новой системе счисления, записывая его, начиная с последнего остатка в обратном поряд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13160" y="414972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0"/>
          <p:cNvGrpSpPr/>
          <p:nvPr/>
        </p:nvGrpSpPr>
        <p:grpSpPr>
          <a:xfrm>
            <a:off x="2053080" y="4221000"/>
            <a:ext cx="1303560" cy="1144080"/>
            <a:chOff x="2053080" y="4221000"/>
            <a:chExt cx="1303560" cy="1144080"/>
          </a:xfrm>
        </p:grpSpPr>
        <p:sp>
          <p:nvSpPr>
            <p:cNvPr id="66" name="Rectangle 9"/>
            <p:cNvSpPr/>
            <p:nvPr/>
          </p:nvSpPr>
          <p:spPr>
            <a:xfrm>
              <a:off x="2053440" y="422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9"/>
            <p:cNvGrpSpPr/>
            <p:nvPr/>
          </p:nvGrpSpPr>
          <p:grpSpPr>
            <a:xfrm>
              <a:off x="2053080" y="4222440"/>
              <a:ext cx="1303560" cy="1142640"/>
              <a:chOff x="2053080" y="4222440"/>
              <a:chExt cx="1303560" cy="1142640"/>
            </a:xfrm>
          </p:grpSpPr>
          <p:grpSp>
            <p:nvGrpSpPr>
              <p:cNvPr id="68" name="Group 15"/>
              <p:cNvGrpSpPr/>
              <p:nvPr/>
            </p:nvGrpSpPr>
            <p:grpSpPr>
              <a:xfrm>
                <a:off x="2630520" y="4222440"/>
                <a:ext cx="726120" cy="757800"/>
                <a:chOff x="2630520" y="4222440"/>
                <a:chExt cx="726120" cy="757800"/>
              </a:xfrm>
            </p:grpSpPr>
            <p:grpSp>
              <p:nvGrpSpPr>
                <p:cNvPr id="69" name="Group 13"/>
                <p:cNvGrpSpPr/>
                <p:nvPr/>
              </p:nvGrpSpPr>
              <p:grpSpPr>
                <a:xfrm>
                  <a:off x="2630520" y="4290480"/>
                  <a:ext cx="726120" cy="689760"/>
                  <a:chOff x="2630520" y="4290480"/>
                  <a:chExt cx="726120" cy="689760"/>
                </a:xfrm>
              </p:grpSpPr>
              <p:sp>
                <p:nvSpPr>
                  <p:cNvPr id="70" name="Line 10"/>
                  <p:cNvSpPr/>
                  <p:nvPr/>
                </p:nvSpPr>
                <p:spPr>
                  <a:xfrm>
                    <a:off x="2630520" y="4290480"/>
                    <a:ext cx="0" cy="68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11"/>
                  <p:cNvSpPr/>
                  <p:nvPr/>
                </p:nvSpPr>
                <p:spPr>
                  <a:xfrm>
                    <a:off x="2630520" y="4635360"/>
                    <a:ext cx="726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Rectangle 12"/>
                <p:cNvSpPr/>
                <p:nvPr/>
              </p:nvSpPr>
              <p:spPr>
                <a:xfrm>
                  <a:off x="2705760" y="4222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14"/>
              <p:cNvSpPr/>
              <p:nvPr/>
            </p:nvSpPr>
            <p:spPr>
              <a:xfrm>
                <a:off x="2708280" y="463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6"/>
              <p:cNvSpPr/>
              <p:nvPr/>
            </p:nvSpPr>
            <p:spPr>
              <a:xfrm>
                <a:off x="2053080" y="4497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7"/>
              <p:cNvSpPr/>
              <p:nvPr/>
            </p:nvSpPr>
            <p:spPr>
              <a:xfrm>
                <a:off x="2122920" y="4910760"/>
                <a:ext cx="43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8"/>
              <p:cNvSpPr/>
              <p:nvPr/>
            </p:nvSpPr>
            <p:spPr>
              <a:xfrm>
                <a:off x="2194920" y="4977360"/>
                <a:ext cx="280080" cy="387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20"/>
          <p:cNvGrpSpPr/>
          <p:nvPr/>
        </p:nvGrpSpPr>
        <p:grpSpPr>
          <a:xfrm>
            <a:off x="2628720" y="4581360"/>
            <a:ext cx="1160280" cy="1142640"/>
            <a:chOff x="2628720" y="4581360"/>
            <a:chExt cx="1160280" cy="1142640"/>
          </a:xfrm>
        </p:grpSpPr>
        <p:grpSp>
          <p:nvGrpSpPr>
            <p:cNvPr id="78" name="Group 21"/>
            <p:cNvGrpSpPr/>
            <p:nvPr/>
          </p:nvGrpSpPr>
          <p:grpSpPr>
            <a:xfrm>
              <a:off x="3142800" y="4581360"/>
              <a:ext cx="646200" cy="757800"/>
              <a:chOff x="3142800" y="4581360"/>
              <a:chExt cx="646200" cy="757800"/>
            </a:xfrm>
          </p:grpSpPr>
          <p:grpSp>
            <p:nvGrpSpPr>
              <p:cNvPr id="79" name="Group 22"/>
              <p:cNvGrpSpPr/>
              <p:nvPr/>
            </p:nvGrpSpPr>
            <p:grpSpPr>
              <a:xfrm>
                <a:off x="3142800" y="4649400"/>
                <a:ext cx="646200" cy="689760"/>
                <a:chOff x="3142800" y="4649400"/>
                <a:chExt cx="646200" cy="689760"/>
              </a:xfrm>
            </p:grpSpPr>
            <p:sp>
              <p:nvSpPr>
                <p:cNvPr id="80" name="Line 23"/>
                <p:cNvSpPr/>
                <p:nvPr/>
              </p:nvSpPr>
              <p:spPr>
                <a:xfrm>
                  <a:off x="3142800" y="464940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3142800" y="49942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Rectangle 25"/>
              <p:cNvSpPr/>
              <p:nvPr/>
            </p:nvSpPr>
            <p:spPr>
              <a:xfrm>
                <a:off x="3209760" y="458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26"/>
            <p:cNvSpPr/>
            <p:nvPr/>
          </p:nvSpPr>
          <p:spPr>
            <a:xfrm>
              <a:off x="3211920" y="499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7"/>
            <p:cNvSpPr/>
            <p:nvPr/>
          </p:nvSpPr>
          <p:spPr>
            <a:xfrm>
              <a:off x="2628720" y="4856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8"/>
            <p:cNvSpPr/>
            <p:nvPr/>
          </p:nvSpPr>
          <p:spPr>
            <a:xfrm>
              <a:off x="2691360" y="526968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9"/>
            <p:cNvSpPr/>
            <p:nvPr/>
          </p:nvSpPr>
          <p:spPr>
            <a:xfrm>
              <a:off x="2755440" y="53362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3133440" y="4941720"/>
            <a:ext cx="1160280" cy="1142640"/>
            <a:chOff x="3133440" y="4941720"/>
            <a:chExt cx="1160280" cy="1142640"/>
          </a:xfrm>
        </p:grpSpPr>
        <p:grpSp>
          <p:nvGrpSpPr>
            <p:cNvPr id="88" name="Group 31"/>
            <p:cNvGrpSpPr/>
            <p:nvPr/>
          </p:nvGrpSpPr>
          <p:grpSpPr>
            <a:xfrm>
              <a:off x="3647520" y="4941720"/>
              <a:ext cx="646200" cy="757800"/>
              <a:chOff x="3647520" y="4941720"/>
              <a:chExt cx="646200" cy="757800"/>
            </a:xfrm>
          </p:grpSpPr>
          <p:grpSp>
            <p:nvGrpSpPr>
              <p:cNvPr id="89" name="Group 32"/>
              <p:cNvGrpSpPr/>
              <p:nvPr/>
            </p:nvGrpSpPr>
            <p:grpSpPr>
              <a:xfrm>
                <a:off x="3647520" y="5009760"/>
                <a:ext cx="646200" cy="689760"/>
                <a:chOff x="3647520" y="5009760"/>
                <a:chExt cx="646200" cy="689760"/>
              </a:xfrm>
            </p:grpSpPr>
            <p:sp>
              <p:nvSpPr>
                <p:cNvPr id="90" name="Line 33"/>
                <p:cNvSpPr/>
                <p:nvPr/>
              </p:nvSpPr>
              <p:spPr>
                <a:xfrm>
                  <a:off x="3647520" y="500976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3647520" y="535464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Rectangle 35"/>
              <p:cNvSpPr/>
              <p:nvPr/>
            </p:nvSpPr>
            <p:spPr>
              <a:xfrm>
                <a:off x="3714480" y="494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36"/>
            <p:cNvSpPr/>
            <p:nvPr/>
          </p:nvSpPr>
          <p:spPr>
            <a:xfrm>
              <a:off x="3716640" y="535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7"/>
            <p:cNvSpPr/>
            <p:nvPr/>
          </p:nvSpPr>
          <p:spPr>
            <a:xfrm>
              <a:off x="3133440" y="5216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8"/>
            <p:cNvSpPr/>
            <p:nvPr/>
          </p:nvSpPr>
          <p:spPr>
            <a:xfrm>
              <a:off x="3196080" y="563004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9"/>
            <p:cNvSpPr/>
            <p:nvPr/>
          </p:nvSpPr>
          <p:spPr>
            <a:xfrm>
              <a:off x="3260160" y="569664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0"/>
          <p:cNvGrpSpPr/>
          <p:nvPr/>
        </p:nvGrpSpPr>
        <p:grpSpPr>
          <a:xfrm>
            <a:off x="3627360" y="5343480"/>
            <a:ext cx="1160280" cy="1143720"/>
            <a:chOff x="3627360" y="5343480"/>
            <a:chExt cx="1160280" cy="1143720"/>
          </a:xfrm>
        </p:grpSpPr>
        <p:grpSp>
          <p:nvGrpSpPr>
            <p:cNvPr id="98" name="Group 41"/>
            <p:cNvGrpSpPr/>
            <p:nvPr/>
          </p:nvGrpSpPr>
          <p:grpSpPr>
            <a:xfrm>
              <a:off x="4141440" y="5343480"/>
              <a:ext cx="646200" cy="756720"/>
              <a:chOff x="4141440" y="5343480"/>
              <a:chExt cx="646200" cy="756720"/>
            </a:xfrm>
          </p:grpSpPr>
          <p:grpSp>
            <p:nvGrpSpPr>
              <p:cNvPr id="99" name="Group 42"/>
              <p:cNvGrpSpPr/>
              <p:nvPr/>
            </p:nvGrpSpPr>
            <p:grpSpPr>
              <a:xfrm>
                <a:off x="4141440" y="5411520"/>
                <a:ext cx="646200" cy="688680"/>
                <a:chOff x="4141440" y="5411520"/>
                <a:chExt cx="646200" cy="688680"/>
              </a:xfrm>
            </p:grpSpPr>
            <p:sp>
              <p:nvSpPr>
                <p:cNvPr id="100" name="Line 43"/>
                <p:cNvSpPr/>
                <p:nvPr/>
              </p:nvSpPr>
              <p:spPr>
                <a:xfrm>
                  <a:off x="4141440" y="5411520"/>
                  <a:ext cx="0" cy="68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4"/>
                <p:cNvSpPr/>
                <p:nvPr/>
              </p:nvSpPr>
              <p:spPr>
                <a:xfrm>
                  <a:off x="4141440" y="57556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Rectangle 45"/>
              <p:cNvSpPr/>
              <p:nvPr/>
            </p:nvSpPr>
            <p:spPr>
              <a:xfrm>
                <a:off x="4208400" y="5343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46"/>
            <p:cNvSpPr/>
            <p:nvPr/>
          </p:nvSpPr>
          <p:spPr>
            <a:xfrm>
              <a:off x="4210560" y="57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7"/>
            <p:cNvSpPr/>
            <p:nvPr/>
          </p:nvSpPr>
          <p:spPr>
            <a:xfrm>
              <a:off x="3627360" y="5618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8"/>
            <p:cNvSpPr/>
            <p:nvPr/>
          </p:nvSpPr>
          <p:spPr>
            <a:xfrm>
              <a:off x="3690000" y="603072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>
              <a:off x="3754080" y="60994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61"/>
          <p:cNvSpPr/>
          <p:nvPr/>
        </p:nvSpPr>
        <p:spPr>
          <a:xfrm>
            <a:off x="5148360" y="4365720"/>
            <a:ext cx="266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5"/>
          <p:cNvSpPr/>
          <p:nvPr/>
        </p:nvSpPr>
        <p:spPr>
          <a:xfrm>
            <a:off x="5508720" y="5589720"/>
            <a:ext cx="1512720" cy="720720"/>
          </a:xfrm>
          <a:prstGeom prst="wedgeRoundRectCallout">
            <a:avLst>
              <a:gd name="adj1" fmla="val 82949"/>
              <a:gd name="adj2" fmla="val -12797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"/>
          <p:cNvSpPr/>
          <p:nvPr/>
        </p:nvSpPr>
        <p:spPr>
          <a:xfrm flipH="1" flipV="1">
            <a:off x="1763280" y="5445000"/>
            <a:ext cx="1800360" cy="126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5"/>
          <p:cNvSpPr/>
          <p:nvPr/>
        </p:nvSpPr>
        <p:spPr>
          <a:xfrm>
            <a:off x="4211640" y="5805360"/>
            <a:ext cx="360360" cy="360360"/>
          </a:xfrm>
          <a:prstGeom prst="ellipse">
            <a:avLst/>
          </a:prstGeom>
          <a:noFill/>
          <a:ln w="38160">
            <a:solidFill>
              <a:srgbClr val="eb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76"/>
          <p:cNvSpPr/>
          <p:nvPr/>
        </p:nvSpPr>
        <p:spPr>
          <a:xfrm flipV="1">
            <a:off x="3564000" y="6274800"/>
            <a:ext cx="863640" cy="433080"/>
          </a:xfrm>
          <a:custGeom>
            <a:avLst/>
            <a:gdLst>
              <a:gd name="textAreaLeft" fmla="*/ 0 w 863640"/>
              <a:gd name="textAreaRight" fmla="*/ 864000 w 863640"/>
              <a:gd name="textAreaTop" fmla="*/ -360 h 433080"/>
              <a:gd name="textAreaBottom" fmla="*/ 433080 h 43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7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907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из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17002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число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ую систему СС 2-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5640" y="2276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етодом подбора (разложить число на степени основания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2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55640" y="335772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10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6920" y="3933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помощью алгоритма д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50920" y="4653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ыполняя вычислений, определить, сколько значащих 1 будет в двоичном представлении числа 6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53272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0920" y="5734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137040" y="5761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292720" y="5734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65760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622296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37348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6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412272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4 + 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35472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43000" y="98100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позиционной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истему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6920" y="2133720"/>
            <a:ext cx="56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1989000"/>
            <a:ext cx="85690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ь число в развернутой фор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ь сумму 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ный результат является значением числа в 10-ой 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4000" y="4437000"/>
            <a:ext cx="835164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число 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74720" y="4984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2 1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050920" y="51577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826920" y="573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5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5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92436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5724360" y="57340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1128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68360" y="1916280"/>
            <a:ext cx="59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443640" y="191628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4000" y="105264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в десятичн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68360" y="2708280"/>
            <a:ext cx="590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ь сумму чисел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2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ответ представить в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73272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68360" y="3860640"/>
            <a:ext cx="45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наименьшее из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84360" y="479736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248436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= 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4140360" y="4797360"/>
            <a:ext cx="194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= 10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30072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11600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270036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788000" y="551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732720" y="551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751800" y="3789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125360"/>
            <a:ext cx="85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ши. После того, как каждую разрезали                    пополам, стало 136 половино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СС с каким основанием вели с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39640" y="227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ответ дан в десятичной СС, определяем, сколько было целых груш?                136 : 2 =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03640" y="314172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количество груш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, чем их число в десятичной СС, значит 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26920" y="443700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Находим: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68360" y="31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метод подб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611280" y="501336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 помощью вычис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116000" y="5516640"/>
            <a:ext cx="72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им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С и наход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1116000" y="5950080"/>
            <a:ext cx="604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      5р + 3 = 68       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900000" y="371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8 = 53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7:59:56Z</dcterms:created>
  <dc:creator>MS</dc:creator>
  <dc:description/>
  <dc:language>en-US</dc:language>
  <cp:lastModifiedBy>MS</cp:lastModifiedBy>
  <dcterms:modified xsi:type="dcterms:W3CDTF">2013-06-05T14:32:26Z</dcterms:modified>
  <cp:revision>44</cp:revision>
  <dc:subject/>
  <dc:title>Слайд 1</dc:title>
</cp:coreProperties>
</file>