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244-DF18-45A8-AB14-103659DB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505-0856-413F-91AA-CC27C2C0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3F7-29D9-4B9C-9200-60EA8F09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FA1-A1B2-41B6-9A8D-58497983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3D3-377B-4075-8E3D-5934CCC4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0C2-B73D-4194-816C-280B0C3E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2B9-0413-4B92-B3FF-93BC84F4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109-6A0E-4A28-BCC5-BE4E048F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5D2-6EE2-4479-B223-9A7578A4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F1E-A7CF-488C-9A62-9D2F6FB0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49E-9866-496F-B568-CC208634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EE3-6769-4683-89D0-09BC6F1F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B7A5-75FD-448F-B2E8-36A663F58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счисления в заданиях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55640" y="350028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Мочалова Марина Владимировна, учитель инфор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24000" y="1125360"/>
            <a:ext cx="8569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смонавты встретили инопланетянина, который свободно разговаривал на земном языке. Выяснилось, что у гостя 13 сыновей и 23 дочери, а всего детей – 102. Найдите, какой системой счисления пользовался г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4508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истемах счисления перевод числа 37 оканчивается на 7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258920" y="528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7 = 30 +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327672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 5, 6, 10, 15,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.к. остаток 7 , значит основания 3, 5, 6 – не подходя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– исходная СС. Остается: 15-ричная, 30-ричная 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84360" y="278136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р + 3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р + 6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                 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3р –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 – 4)(р + 1) = 0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 – не имеет смысла  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7596360" y="436572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250920" y="620640"/>
            <a:ext cx="532908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Фамилия, Имя 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1. Вычислите значение суммы в десятичной С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2     2. 20     3. 18     4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2. Двоичным эквивалентом числа 60 я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11100     2. 10110     3. 110     4. 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3. Сколько единиц содержит двоичная запись числа 2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     2. 2     3. 3     4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4. В системе с некоторым основанием число 17 записывается как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101. Укажите это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     2. 3     3. 4     4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1. В коробке 31 шар. Из них 12 красных и 17 желты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В какой системе счисления такое возмож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2. Даны 3 числа. Поставьте их в порядке уб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= 203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В = 10101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С = 135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5520" y="1359000"/>
          <a:ext cx="1714680" cy="414000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41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651640" y="2924280"/>
          <a:ext cx="3095640" cy="2438280"/>
        </p:xfrm>
        <a:graphic>
          <a:graphicData uri="http://schemas.openxmlformats.org/drawingml/2006/table">
            <a:tbl>
              <a:tblPr/>
              <a:tblGrid>
                <a:gridCol w="617400"/>
                <a:gridCol w="622440"/>
                <a:gridCol w="615960"/>
                <a:gridCol w="620640"/>
                <a:gridCol w="61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737"/>
          <p:cNvSpPr/>
          <p:nvPr/>
        </p:nvSpPr>
        <p:spPr>
          <a:xfrm>
            <a:off x="32400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 для проверки усвоения материал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1197000"/>
            <a:ext cx="856908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позиционными С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С, в которых «вес» (значение) цифры зависит от ее места (позиции) в изображении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м позиционной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личество знаков, используемых для представления чисел, а также «вес» разря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ернутая форма представления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835280" y="4797360"/>
            <a:ext cx="648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116000" y="5300640"/>
            <a:ext cx="46083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само число в СС с основание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значащие цифры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исло разрядов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1197000"/>
            <a:ext cx="87850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нутая форма представления целых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71640" y="2708280"/>
            <a:ext cx="316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. .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71640" y="508464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ернутой формой представления чисел (194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4000" y="4221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формой записи чисел мы пользуемся в повседневной жиз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71640" y="3357720"/>
            <a:ext cx="7345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- значащие цифры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87280" y="9810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запись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формах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1773360"/>
            <a:ext cx="52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76360" y="4221000"/>
            <a:ext cx="856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 с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6360" y="213372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 = 317 в раз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64000" y="32130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476360" y="321300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858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635280" y="5300640"/>
            <a:ext cx="2519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7361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87280" y="98100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десятичной СС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4040" y="1557360"/>
            <a:ext cx="856944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 методом последовательного дел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последовательно делить данное число и получаемые частные на новое осн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тех пор, пока не получится частное, меньшее дел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число в новой системе счисления, записывая его, начиная с последнего остатка в обрат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3160" y="414972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0"/>
          <p:cNvGrpSpPr/>
          <p:nvPr/>
        </p:nvGrpSpPr>
        <p:grpSpPr>
          <a:xfrm>
            <a:off x="2053080" y="4221000"/>
            <a:ext cx="1303560" cy="1144080"/>
            <a:chOff x="2053080" y="4221000"/>
            <a:chExt cx="1303560" cy="1144080"/>
          </a:xfrm>
        </p:grpSpPr>
        <p:sp>
          <p:nvSpPr>
            <p:cNvPr id="66" name="Rectangle 9"/>
            <p:cNvSpPr/>
            <p:nvPr/>
          </p:nvSpPr>
          <p:spPr>
            <a:xfrm>
              <a:off x="205344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053080" y="4222440"/>
              <a:ext cx="1303560" cy="1142640"/>
              <a:chOff x="2053080" y="4222440"/>
              <a:chExt cx="1303560" cy="1142640"/>
            </a:xfrm>
          </p:grpSpPr>
          <p:grpSp>
            <p:nvGrpSpPr>
              <p:cNvPr id="68" name="Group 15"/>
              <p:cNvGrpSpPr/>
              <p:nvPr/>
            </p:nvGrpSpPr>
            <p:grpSpPr>
              <a:xfrm>
                <a:off x="2630520" y="4222440"/>
                <a:ext cx="726120" cy="757800"/>
                <a:chOff x="2630520" y="4222440"/>
                <a:chExt cx="726120" cy="757800"/>
              </a:xfrm>
            </p:grpSpPr>
            <p:grpSp>
              <p:nvGrpSpPr>
                <p:cNvPr id="69" name="Group 13"/>
                <p:cNvGrpSpPr/>
                <p:nvPr/>
              </p:nvGrpSpPr>
              <p:grpSpPr>
                <a:xfrm>
                  <a:off x="2630520" y="4290480"/>
                  <a:ext cx="726120" cy="689760"/>
                  <a:chOff x="2630520" y="4290480"/>
                  <a:chExt cx="726120" cy="689760"/>
                </a:xfrm>
              </p:grpSpPr>
              <p:sp>
                <p:nvSpPr>
                  <p:cNvPr id="70" name="Line 10"/>
                  <p:cNvSpPr/>
                  <p:nvPr/>
                </p:nvSpPr>
                <p:spPr>
                  <a:xfrm>
                    <a:off x="2630520" y="4290480"/>
                    <a:ext cx="0" cy="68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1"/>
                  <p:cNvSpPr/>
                  <p:nvPr/>
                </p:nvSpPr>
                <p:spPr>
                  <a:xfrm>
                    <a:off x="2630520" y="4635360"/>
                    <a:ext cx="72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2"/>
                <p:cNvSpPr/>
                <p:nvPr/>
              </p:nvSpPr>
              <p:spPr>
                <a:xfrm>
                  <a:off x="2705760" y="4222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14"/>
              <p:cNvSpPr/>
              <p:nvPr/>
            </p:nvSpPr>
            <p:spPr>
              <a:xfrm>
                <a:off x="2708280" y="463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2053080" y="4497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7"/>
              <p:cNvSpPr/>
              <p:nvPr/>
            </p:nvSpPr>
            <p:spPr>
              <a:xfrm>
                <a:off x="2122920" y="4910760"/>
                <a:ext cx="43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2194920" y="4977360"/>
                <a:ext cx="280080" cy="387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20"/>
          <p:cNvGrpSpPr/>
          <p:nvPr/>
        </p:nvGrpSpPr>
        <p:grpSpPr>
          <a:xfrm>
            <a:off x="2628720" y="4581360"/>
            <a:ext cx="1160280" cy="1142640"/>
            <a:chOff x="2628720" y="4581360"/>
            <a:chExt cx="1160280" cy="1142640"/>
          </a:xfrm>
        </p:grpSpPr>
        <p:grpSp>
          <p:nvGrpSpPr>
            <p:cNvPr id="78" name="Group 21"/>
            <p:cNvGrpSpPr/>
            <p:nvPr/>
          </p:nvGrpSpPr>
          <p:grpSpPr>
            <a:xfrm>
              <a:off x="3142800" y="4581360"/>
              <a:ext cx="646200" cy="757800"/>
              <a:chOff x="3142800" y="4581360"/>
              <a:chExt cx="646200" cy="757800"/>
            </a:xfrm>
          </p:grpSpPr>
          <p:grpSp>
            <p:nvGrpSpPr>
              <p:cNvPr id="79" name="Group 22"/>
              <p:cNvGrpSpPr/>
              <p:nvPr/>
            </p:nvGrpSpPr>
            <p:grpSpPr>
              <a:xfrm>
                <a:off x="3142800" y="4649400"/>
                <a:ext cx="646200" cy="689760"/>
                <a:chOff x="3142800" y="4649400"/>
                <a:chExt cx="646200" cy="689760"/>
              </a:xfrm>
            </p:grpSpPr>
            <p:sp>
              <p:nvSpPr>
                <p:cNvPr id="80" name="Line 23"/>
                <p:cNvSpPr/>
                <p:nvPr/>
              </p:nvSpPr>
              <p:spPr>
                <a:xfrm>
                  <a:off x="3142800" y="464940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3142800" y="49942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Rectangle 25"/>
              <p:cNvSpPr/>
              <p:nvPr/>
            </p:nvSpPr>
            <p:spPr>
              <a:xfrm>
                <a:off x="3209760" y="45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6"/>
            <p:cNvSpPr/>
            <p:nvPr/>
          </p:nvSpPr>
          <p:spPr>
            <a:xfrm>
              <a:off x="3211920" y="499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>
              <a:off x="2628720" y="485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8"/>
            <p:cNvSpPr/>
            <p:nvPr/>
          </p:nvSpPr>
          <p:spPr>
            <a:xfrm>
              <a:off x="2691360" y="526968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>
              <a:off x="2755440" y="53362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3133440" y="4941720"/>
            <a:ext cx="1160280" cy="1142640"/>
            <a:chOff x="3133440" y="4941720"/>
            <a:chExt cx="1160280" cy="1142640"/>
          </a:xfrm>
        </p:grpSpPr>
        <p:grpSp>
          <p:nvGrpSpPr>
            <p:cNvPr id="88" name="Group 31"/>
            <p:cNvGrpSpPr/>
            <p:nvPr/>
          </p:nvGrpSpPr>
          <p:grpSpPr>
            <a:xfrm>
              <a:off x="3647520" y="4941720"/>
              <a:ext cx="646200" cy="757800"/>
              <a:chOff x="3647520" y="4941720"/>
              <a:chExt cx="646200" cy="757800"/>
            </a:xfrm>
          </p:grpSpPr>
          <p:grpSp>
            <p:nvGrpSpPr>
              <p:cNvPr id="89" name="Group 32"/>
              <p:cNvGrpSpPr/>
              <p:nvPr/>
            </p:nvGrpSpPr>
            <p:grpSpPr>
              <a:xfrm>
                <a:off x="3647520" y="5009760"/>
                <a:ext cx="646200" cy="689760"/>
                <a:chOff x="3647520" y="5009760"/>
                <a:chExt cx="646200" cy="689760"/>
              </a:xfrm>
            </p:grpSpPr>
            <p:sp>
              <p:nvSpPr>
                <p:cNvPr id="90" name="Line 33"/>
                <p:cNvSpPr/>
                <p:nvPr/>
              </p:nvSpPr>
              <p:spPr>
                <a:xfrm>
                  <a:off x="3647520" y="500976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3647520" y="535464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35"/>
              <p:cNvSpPr/>
              <p:nvPr/>
            </p:nvSpPr>
            <p:spPr>
              <a:xfrm>
                <a:off x="3714480" y="494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3716640" y="535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3133440" y="5216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8"/>
            <p:cNvSpPr/>
            <p:nvPr/>
          </p:nvSpPr>
          <p:spPr>
            <a:xfrm>
              <a:off x="3196080" y="563004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3260160" y="569664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3627360" y="5343480"/>
            <a:ext cx="1160280" cy="1143720"/>
            <a:chOff x="3627360" y="5343480"/>
            <a:chExt cx="1160280" cy="1143720"/>
          </a:xfrm>
        </p:grpSpPr>
        <p:grpSp>
          <p:nvGrpSpPr>
            <p:cNvPr id="98" name="Group 41"/>
            <p:cNvGrpSpPr/>
            <p:nvPr/>
          </p:nvGrpSpPr>
          <p:grpSpPr>
            <a:xfrm>
              <a:off x="4141440" y="5343480"/>
              <a:ext cx="646200" cy="756720"/>
              <a:chOff x="4141440" y="5343480"/>
              <a:chExt cx="646200" cy="756720"/>
            </a:xfrm>
          </p:grpSpPr>
          <p:grpSp>
            <p:nvGrpSpPr>
              <p:cNvPr id="99" name="Group 42"/>
              <p:cNvGrpSpPr/>
              <p:nvPr/>
            </p:nvGrpSpPr>
            <p:grpSpPr>
              <a:xfrm>
                <a:off x="4141440" y="5411520"/>
                <a:ext cx="646200" cy="688680"/>
                <a:chOff x="4141440" y="5411520"/>
                <a:chExt cx="646200" cy="688680"/>
              </a:xfrm>
            </p:grpSpPr>
            <p:sp>
              <p:nvSpPr>
                <p:cNvPr id="100" name="Line 43"/>
                <p:cNvSpPr/>
                <p:nvPr/>
              </p:nvSpPr>
              <p:spPr>
                <a:xfrm>
                  <a:off x="4141440" y="5411520"/>
                  <a:ext cx="0" cy="68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4"/>
                <p:cNvSpPr/>
                <p:nvPr/>
              </p:nvSpPr>
              <p:spPr>
                <a:xfrm>
                  <a:off x="4141440" y="57556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45"/>
              <p:cNvSpPr/>
              <p:nvPr/>
            </p:nvSpPr>
            <p:spPr>
              <a:xfrm>
                <a:off x="4208400" y="5343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46"/>
            <p:cNvSpPr/>
            <p:nvPr/>
          </p:nvSpPr>
          <p:spPr>
            <a:xfrm>
              <a:off x="4210560" y="57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7"/>
            <p:cNvSpPr/>
            <p:nvPr/>
          </p:nvSpPr>
          <p:spPr>
            <a:xfrm>
              <a:off x="3627360" y="561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8"/>
            <p:cNvSpPr/>
            <p:nvPr/>
          </p:nvSpPr>
          <p:spPr>
            <a:xfrm>
              <a:off x="3690000" y="603072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>
              <a:off x="3754080" y="60994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61"/>
          <p:cNvSpPr/>
          <p:nvPr/>
        </p:nvSpPr>
        <p:spPr>
          <a:xfrm>
            <a:off x="5148360" y="436572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5508720" y="5589720"/>
            <a:ext cx="1512720" cy="720720"/>
          </a:xfrm>
          <a:prstGeom prst="wedgeRoundRectCallout">
            <a:avLst>
              <a:gd name="adj1" fmla="val 82949"/>
              <a:gd name="adj2" fmla="val -12797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H="1" flipV="1">
            <a:off x="1763280" y="5445000"/>
            <a:ext cx="1800360" cy="126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5"/>
          <p:cNvSpPr/>
          <p:nvPr/>
        </p:nvSpPr>
        <p:spPr>
          <a:xfrm>
            <a:off x="4211640" y="5805360"/>
            <a:ext cx="360360" cy="360360"/>
          </a:xfrm>
          <a:prstGeom prst="ellipse">
            <a:avLst/>
          </a:prstGeom>
          <a:noFill/>
          <a:ln w="38160">
            <a:solidFill>
              <a:srgbClr val="eb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76"/>
          <p:cNvSpPr/>
          <p:nvPr/>
        </p:nvSpPr>
        <p:spPr>
          <a:xfrm flipV="1">
            <a:off x="3564000" y="627480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-360 h 433080"/>
              <a:gd name="textAreaBottom" fmla="*/ 433080 h 43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907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из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700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число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ую систему СС 2-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5640" y="2276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тодом подбора (разложить число на степени основания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2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55640" y="335772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10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6920" y="3933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помощью алгоритма 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50920" y="4653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ыполняя вычислений, определить, сколько значащих 1 будет в двоичном представлении числа 6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53272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0920" y="5734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137040" y="5761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292720" y="5734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6576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622296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37348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6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12272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4 + 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354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43000" y="9810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позиционной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2133720"/>
            <a:ext cx="56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1989000"/>
            <a:ext cx="85690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ь число в развернутой фор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сумму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й результат является значением числа в 10-ой 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" y="4437000"/>
            <a:ext cx="835164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число 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74720" y="4984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2 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050920" y="51577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82692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2436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724360" y="57340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1128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68360" y="1916280"/>
            <a:ext cx="59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43640" y="1916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105264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в десятичн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68360" y="2708280"/>
            <a:ext cx="590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сумму чисел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2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твет представить в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73272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68360" y="3860640"/>
            <a:ext cx="45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именьшее из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84360" y="479736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8436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140360" y="4797360"/>
            <a:ext cx="194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= 10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30072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11600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788000" y="551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732720" y="551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751800" y="3789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125360"/>
            <a:ext cx="85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и. После того, как каждую разрезали                    пополам, стало 136 половин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СС с каким основанием вели с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3964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ответ дан в десятичной СС, определяем, сколько было целых груш?                136 : 2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03640" y="314172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количество груш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их число в десятичной СС, значит 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26920" y="4437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Находим: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8360" y="31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етод подб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11280" y="501336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 помощью вычис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116000" y="5516640"/>
            <a:ext cx="72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им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С и наход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1116000" y="5950080"/>
            <a:ext cx="60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      5р + 3 = 68       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900000" y="37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8 = 53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9:56Z</dcterms:created>
  <dc:creator>MS</dc:creator>
  <dc:description/>
  <dc:language>en-US</dc:language>
  <cp:lastModifiedBy>MS</cp:lastModifiedBy>
  <dcterms:modified xsi:type="dcterms:W3CDTF">2013-06-05T14:32:26Z</dcterms:modified>
  <cp:revision>44</cp:revision>
  <dc:subject/>
  <dc:title>Слайд 1</dc:title>
</cp:coreProperties>
</file>