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BFA5-8A07-4156-9B6F-6F83AEE54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B517-5038-407F-9BDB-19244384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3BE3-0D2B-4019-93BC-0637CC29F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F99A-2341-4678-833D-B57C098E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9FB9-136E-46AF-A83A-D390BA99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9EC4-C0EE-4984-8935-F7156F9D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4468-4379-4024-B586-577529CF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BC4C-5848-48CA-90C8-C940AA8C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761E-26F8-4B15-B546-127C2441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1164-4FA6-41F6-B176-26958963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05E5-9E42-43EC-AFE8-557205D4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27D7-CB1E-49BE-8930-5108D28D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2A56-DD2B-46F7-993D-1B6F0EE64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www.measurement.ru/gk/electro/images/Image569.gif" TargetMode="External"/><Relationship Id="rId4" Type="http://schemas.openxmlformats.org/officeDocument/2006/relationships/image" Target="../media/image6.png"/><Relationship Id="rId5" Type="http://schemas.openxmlformats.org/officeDocument/2006/relationships/hyperlink" Target="http://ru.wikipedia.org/wiki/&#1048;&#1079;&#1086;&#1073;&#1088;&#1072;&#1078;&#1077;&#1085;&#1080;&#1077;:Hw-watt.jpg" TargetMode="External"/><Relationship Id="rId6" Type="http://schemas.openxmlformats.org/officeDocument/2006/relationships/image" Target="../media/image7.png"/><Relationship Id="rId7" Type="http://schemas.openxmlformats.org/officeDocument/2006/relationships/hyperlink" Target="http://ru.wikipedia.org/wiki/&#1048;&#1079;&#1086;&#1073;&#1088;&#1072;&#1078;&#1077;&#1085;&#1080;&#1077;:Papinengine.jpg" TargetMode="External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Природа - Горы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832360" y="907920"/>
            <a:ext cx="331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ш мир многообраз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с окружает множество объ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635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244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62728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13200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35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40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3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148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651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56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59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64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2728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3200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35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40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43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48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56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659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164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3200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40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48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651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56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59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164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43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4656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651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56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59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164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40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643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148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651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156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659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164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2728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3200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40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43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148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1844640"/>
            <a:ext cx="505080" cy="504720"/>
          </a:xfrm>
          <a:prstGeom prst="rect">
            <a:avLst/>
          </a:prstGeom>
          <a:solidFill>
            <a:srgbClr val="f5dd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43280" y="2347920"/>
            <a:ext cx="505080" cy="504720"/>
          </a:xfrm>
          <a:prstGeom prst="rect">
            <a:avLst/>
          </a:prstGeom>
          <a:solidFill>
            <a:srgbClr val="f5dd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43280" y="2852640"/>
            <a:ext cx="505080" cy="505080"/>
          </a:xfrm>
          <a:prstGeom prst="rect">
            <a:avLst/>
          </a:prstGeom>
          <a:solidFill>
            <a:srgbClr val="f5dd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00360" y="4005360"/>
            <a:ext cx="3384360" cy="100836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Би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именьшая единица измерения, которую ввёл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лод Шенн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179280" y="4076640"/>
            <a:ext cx="19195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300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556000" y="1341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диницы измер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56000" y="1916280"/>
            <a:ext cx="2808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ай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бай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304" name="" descr="Картинка 25 из 266689"/>
          <p:cNvPicPr/>
          <p:nvPr/>
        </p:nvPicPr>
        <p:blipFill>
          <a:blip r:embed="rId2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556000" y="1916280"/>
            <a:ext cx="576108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казывается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 байт = 8 би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Кбайт (один килобайт) = 1024 бай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Мбайт (один мегабайт) = 1024 Кбай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Гбайт (один гигабайт) = 1024 Мбай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2124000" y="698400"/>
            <a:ext cx="702000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308" name=""/>
          <p:cNvSpPr/>
          <p:nvPr/>
        </p:nvSpPr>
        <p:spPr>
          <a:xfrm>
            <a:off x="2556000" y="1773360"/>
            <a:ext cx="4319640" cy="8866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би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буква в клетке кроссвор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92360" y="1773360"/>
            <a:ext cx="504720" cy="504720"/>
          </a:xfrm>
          <a:prstGeom prst="rect">
            <a:avLst/>
          </a:prstGeom>
          <a:solidFill>
            <a:srgbClr val="f5dd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627280" y="3141720"/>
            <a:ext cx="4176720" cy="8866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бай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символ, введенный с клави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Обои для компьютера"/>
          <p:cNvPicPr/>
          <p:nvPr/>
        </p:nvPicPr>
        <p:blipFill>
          <a:blip r:embed="rId2"/>
          <a:stretch/>
        </p:blipFill>
        <p:spPr>
          <a:xfrm>
            <a:off x="250920" y="2852640"/>
            <a:ext cx="197964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313" name=""/>
          <p:cNvSpPr/>
          <p:nvPr/>
        </p:nvSpPr>
        <p:spPr>
          <a:xfrm>
            <a:off x="2411280" y="2133720"/>
            <a:ext cx="5187960" cy="8866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 Кбай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фотография в низком разреш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1280" y="3645000"/>
            <a:ext cx="5135760" cy="8866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Мбай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небольшая художественная кни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 "/>
          <p:cNvPicPr/>
          <p:nvPr/>
        </p:nvPicPr>
        <p:blipFill>
          <a:blip r:embed="rId2"/>
          <a:stretch/>
        </p:blipFill>
        <p:spPr>
          <a:xfrm>
            <a:off x="539640" y="1628640"/>
            <a:ext cx="1582920" cy="15829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539640" y="3573360"/>
            <a:ext cx="158436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627280" y="2205000"/>
            <a:ext cx="554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едавнем исследовании аналитики компании IDC попытались оценить общий объем цифровой информации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нерируемой в мире ежеднев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 пришли к выводу, что в прошлом году был создан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1 экзабай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61 миллиард гигабай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разнообразных данных - цифровых фотографий, видео, электронных писем, интернет-пейджинговых сообщений, звонков посредством IP-телефонии и т.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6877080" y="260280"/>
            <a:ext cx="2016000" cy="9669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Картинка 45 из 149"/>
          <p:cNvPicPr/>
          <p:nvPr/>
        </p:nvPicPr>
        <p:blipFill>
          <a:blip r:embed="rId3"/>
          <a:stretch/>
        </p:blipFill>
        <p:spPr>
          <a:xfrm>
            <a:off x="108000" y="2349360"/>
            <a:ext cx="208764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708360" y="981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вод в би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708360" y="162864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байт = 12 * 8 = 96 (би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708360" y="2349360"/>
            <a:ext cx="33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Кб = 2 * 1024 * 8  = 16384 (би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708360" y="981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вод в би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08360" y="162864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байт = 12 * 8 = 96 (би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08360" y="2276640"/>
            <a:ext cx="1008000" cy="431640"/>
          </a:xfrm>
          <a:prstGeom prst="rect">
            <a:avLst/>
          </a:prstGeom>
          <a:solidFill>
            <a:srgbClr val="eef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уп. 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219640" y="2276640"/>
            <a:ext cx="1008000" cy="431640"/>
          </a:xfrm>
          <a:prstGeom prst="rect">
            <a:avLst/>
          </a:prstGeom>
          <a:solidFill>
            <a:srgbClr val="eef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л. 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16360" y="249228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516720" y="2376360"/>
            <a:ext cx="576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708360" y="981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вод в бай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708360" y="1628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4 бита = 24 : 8 = 3 (бай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08360" y="2276640"/>
            <a:ext cx="1008000" cy="431640"/>
          </a:xfrm>
          <a:prstGeom prst="rect">
            <a:avLst/>
          </a:prstGeom>
          <a:solidFill>
            <a:srgbClr val="eef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л. 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19640" y="2276640"/>
            <a:ext cx="1008000" cy="431640"/>
          </a:xfrm>
          <a:prstGeom prst="rect">
            <a:avLst/>
          </a:prstGeom>
          <a:solidFill>
            <a:srgbClr val="eef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уп. 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716360" y="249228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516720" y="2243160"/>
            <a:ext cx="576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852640"/>
            <a:ext cx="2124000" cy="863640"/>
          </a:xfrm>
          <a:prstGeom prst="ellipse">
            <a:avLst/>
          </a:prstGeom>
          <a:gradFill rotWithShape="0">
            <a:gsLst>
              <a:gs pos="0">
                <a:srgbClr val="bfd9ef"/>
              </a:gs>
              <a:gs pos="50000">
                <a:srgbClr val="ffffff"/>
              </a:gs>
              <a:gs pos="100000">
                <a:srgbClr val="bfd9e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ras Medium ITC"/>
              </a:rPr>
              <a:t>Объ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64000" y="1844640"/>
            <a:ext cx="2808360" cy="720720"/>
          </a:xfrm>
          <a:prstGeom prst="rect">
            <a:avLst/>
          </a:prstGeom>
          <a:gradFill rotWithShape="0">
            <a:gsLst>
              <a:gs pos="0">
                <a:srgbClr val="bfd9ef"/>
              </a:gs>
              <a:gs pos="50000">
                <a:srgbClr val="ffffff"/>
              </a:gs>
              <a:gs pos="100000">
                <a:srgbClr val="bfd9e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ras Medium ITC"/>
              </a:rPr>
              <a:t>Вещ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64000" y="2852640"/>
            <a:ext cx="2808360" cy="720720"/>
          </a:xfrm>
          <a:prstGeom prst="rect">
            <a:avLst/>
          </a:prstGeom>
          <a:gradFill rotWithShape="0">
            <a:gsLst>
              <a:gs pos="0">
                <a:srgbClr val="bfd9ef"/>
              </a:gs>
              <a:gs pos="50000">
                <a:srgbClr val="ffffff"/>
              </a:gs>
              <a:gs pos="100000">
                <a:srgbClr val="bfd9e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ras Medium ITC"/>
              </a:rPr>
              <a:t>Энер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64000" y="3860640"/>
            <a:ext cx="2808360" cy="720720"/>
          </a:xfrm>
          <a:prstGeom prst="rect">
            <a:avLst/>
          </a:prstGeom>
          <a:gradFill rotWithShape="0">
            <a:gsLst>
              <a:gs pos="0">
                <a:srgbClr val="bfd9ef"/>
              </a:gs>
              <a:gs pos="50000">
                <a:srgbClr val="ffffff"/>
              </a:gs>
              <a:gs pos="100000">
                <a:srgbClr val="bfd9e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ras Medium ITC"/>
              </a:rPr>
              <a:t>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340000" y="2133720"/>
            <a:ext cx="1224000" cy="2158920"/>
            <a:chOff x="2340000" y="2133720"/>
            <a:chExt cx="1224000" cy="2158920"/>
          </a:xfrm>
        </p:grpSpPr>
        <p:sp>
          <p:nvSpPr>
            <p:cNvPr id="48" name=""/>
            <p:cNvSpPr/>
            <p:nvPr/>
          </p:nvSpPr>
          <p:spPr>
            <a:xfrm>
              <a:off x="2340000" y="3213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640" y="2133720"/>
              <a:ext cx="0" cy="21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71640" y="213372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71640" y="321300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71640" y="429264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484360" y="1773360"/>
            <a:ext cx="47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информационный объем сло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095600" y="18720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84360" y="3068640"/>
            <a:ext cx="53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ФОРМАТИКА – 11 символов, следовательно, это сообщение несет в себе информационный объем раве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*1 = 11 бай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*1*8= 88 би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42160" y="29973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340000" y="1341360"/>
            <a:ext cx="54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олько школьных учебников емкостью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0 Кбай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ожно разместить на трехдюймовой дискете, если объем трехдюймовой дискеты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44 М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095600" y="18720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84360" y="3573360"/>
            <a:ext cx="53294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Мбайт=1024 К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44Мбайт = 1,44*1024 = 1474,56 К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74,56 Кбайт / 350 Кбайт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учеб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42160" y="35002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988000" y="26028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ъём информационных нос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79280" y="1413000"/>
          <a:ext cx="5688000" cy="4032000"/>
        </p:xfrm>
        <a:graphic>
          <a:graphicData uri="http://schemas.openxmlformats.org/drawingml/2006/table">
            <a:tbl>
              <a:tblPr/>
              <a:tblGrid>
                <a:gridCol w="2845080"/>
                <a:gridCol w="28429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ё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5" name="" descr="Картинка 37 из 5117"/>
          <p:cNvPicPr/>
          <p:nvPr/>
        </p:nvPicPr>
        <p:blipFill>
          <a:blip r:embed="rId2"/>
          <a:stretch/>
        </p:blipFill>
        <p:spPr>
          <a:xfrm>
            <a:off x="971640" y="1989000"/>
            <a:ext cx="1296720" cy="10922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900000" y="3168720"/>
            <a:ext cx="1219320" cy="102852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1116000" y="4292640"/>
            <a:ext cx="10288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988000" y="26028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ъём информационных нос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79280" y="1413000"/>
          <a:ext cx="5688000" cy="4032000"/>
        </p:xfrm>
        <a:graphic>
          <a:graphicData uri="http://schemas.openxmlformats.org/drawingml/2006/table">
            <a:tbl>
              <a:tblPr/>
              <a:tblGrid>
                <a:gridCol w="2845080"/>
                <a:gridCol w="28429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ё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,44 М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0-120 Г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50 М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,7 Гбайт- 17 Г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0" name="" descr="Картинка 37 из 5117"/>
          <p:cNvPicPr/>
          <p:nvPr/>
        </p:nvPicPr>
        <p:blipFill>
          <a:blip r:embed="rId2"/>
          <a:stretch/>
        </p:blipFill>
        <p:spPr>
          <a:xfrm>
            <a:off x="971640" y="1989000"/>
            <a:ext cx="1296720" cy="109224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900000" y="3168720"/>
            <a:ext cx="1219320" cy="102852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1116000" y="4292640"/>
            <a:ext cx="10288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2411280" y="2205000"/>
            <a:ext cx="6121440" cy="18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ова основная единица измерения информаци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лько байт содержит 1 Кб информаци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подсчитать количество информации, передаваемое в символьном сообщени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22480" y="35244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просы для самоконтр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9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Вещество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2089080" cy="1290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95280" y="2637000"/>
            <a:ext cx="1523880" cy="1904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498920" y="2276640"/>
            <a:ext cx="4645080" cy="100836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Грам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изначально определялся как масса 1 см³ воды при температуре 4 °C и давлении в 1 атмосфе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56000" y="1341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диницы измер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56000" y="1916280"/>
            <a:ext cx="2808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илогра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нтн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рат (0,2 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57080" y="4003560"/>
            <a:ext cx="4547160" cy="100836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Килограм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определяется как м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алонного килограмма, хранящего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алате м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весов около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ариж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Энерг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61" name=""/>
          <p:cNvSpPr/>
          <p:nvPr/>
        </p:nvSpPr>
        <p:spPr>
          <a:xfrm>
            <a:off x="4427640" y="2637000"/>
            <a:ext cx="3095640" cy="210564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Ват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диница названа в честь шотландско-ирландского изобретателя-механик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жеймса Уат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Ватта), создателя универсальн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аровой маши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1341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диницы измер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56000" y="1916280"/>
            <a:ext cx="280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жо́у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ло́ри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т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1454040" cy="1800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Картинка 4 из 1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3284640"/>
            <a:ext cx="2017800" cy="1947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Джеймс Уатт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34160" y="2708280"/>
            <a:ext cx="1509840" cy="2089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Первая паровая машина Папена. 169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38560" y="3933720"/>
            <a:ext cx="77616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69" name=""/>
          <p:cNvSpPr/>
          <p:nvPr/>
        </p:nvSpPr>
        <p:spPr>
          <a:xfrm>
            <a:off x="2556000" y="1773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556000" y="2349360"/>
            <a:ext cx="62672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Единицы измерения информа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73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62728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3200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35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40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3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48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51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56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59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4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2728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3200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35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43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48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51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56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59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164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200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35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40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8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51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56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59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64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105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62728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35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40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43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48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59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64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2728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40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48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51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56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59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64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3200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40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3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48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51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56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59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164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71640" y="3789360"/>
            <a:ext cx="30956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ак же пишутся программы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особых языках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из них простейшим самым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числится по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43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4656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51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56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59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64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144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62728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35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40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48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59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64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2728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3200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35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40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43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48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56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59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64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2728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3200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35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40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43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51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56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659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164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43280" y="3645000"/>
            <a:ext cx="30956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У тебя вопросов много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скажу тебе я с кем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ы в режиме диалог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ожешь сто решить проблем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чает без капризов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вай вопрос быстрей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т умный телевизор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зывается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43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4656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51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56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59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164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40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48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651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56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59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164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635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191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62728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3200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35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43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48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51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56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59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164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2728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3200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635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40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43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48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51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56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59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4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35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40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43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48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651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56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659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64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41520" y="3429000"/>
            <a:ext cx="38880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Тут нам надо разобраться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чего же этот ящик?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 в себя бумагу тащит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сейчас же буквы, точки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ятые – строчка к строчке –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ечатает в момент!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чень нужный инструмент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ечатает картинку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овкий мастер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уйный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43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4656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51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56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659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164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140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43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651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56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659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64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2728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13200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140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48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651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4:58:26Z</dcterms:created>
  <dc:creator>User</dc:creator>
  <dc:description/>
  <dc:language>en-US</dc:language>
  <cp:lastModifiedBy>User</cp:lastModifiedBy>
  <dcterms:modified xsi:type="dcterms:W3CDTF">2008-01-30T18:46:57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