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2C0-AE17-4B6D-A0C6-D1748062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F02-858C-4BA1-B1FB-630B8594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D87-546C-48CE-A0A5-4439BBCB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7D6-7102-4EA2-A7E7-D10A7B89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F16-5F4C-4408-964D-BF746DAE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391-3143-4701-9D86-109C23B6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DB7-A0AA-4544-9C03-18D474F2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BC6-C21B-4DB2-9D14-F1259F86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DBF-8727-4301-865C-8BABBE9B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D89-3FBB-46DF-8E96-2C9D101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1A2-7605-4A0D-8CAB-0906109B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085-99DB-47A5-83F6-45C61ED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A298-046C-44BE-BD04-E30CCAA3D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measurement.ru/gk/electro/images/Image569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48;&#1079;&#1086;&#1073;&#1088;&#1072;&#1078;&#1077;&#1085;&#1080;&#1077;:Hw-watt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8;&#1079;&#1086;&#1073;&#1088;&#1072;&#1078;&#1077;&#1085;&#1080;&#1077;:Papinengine.jpg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рирода - Гор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32360" y="907920"/>
            <a:ext cx="331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 мир многообраз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 окружает множество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2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4005360"/>
            <a:ext cx="33843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Б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ая единица измерения, которую ввё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од Шен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1919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4" name="" descr="Картинка 25 из 266689"/>
          <p:cNvPicPr/>
          <p:nvPr/>
        </p:nvPicPr>
        <p:blipFill>
          <a:blip r:embed="rId2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1916280"/>
            <a:ext cx="5761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байт = 8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байт (один килобайт) = 1024 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байт (один мегабайт) = 1024 К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Гбайт (один гигабайт) = 1024 М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24000" y="698400"/>
            <a:ext cx="702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1773360"/>
            <a:ext cx="431964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ква в клетке кроссво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773360"/>
            <a:ext cx="50472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14172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Обои для компьютера"/>
          <p:cNvPicPr/>
          <p:nvPr/>
        </p:nvPicPr>
        <p:blipFill>
          <a:blip r:embed="rId2"/>
          <a:stretch/>
        </p:blipFill>
        <p:spPr>
          <a:xfrm>
            <a:off x="250920" y="285264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2133720"/>
            <a:ext cx="51879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К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тография в низком разреш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645000"/>
            <a:ext cx="51357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М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большая художествен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 "/>
          <p:cNvPicPr/>
          <p:nvPr/>
        </p:nvPicPr>
        <p:blipFill>
          <a:blip r:embed="rId2"/>
          <a:stretch/>
        </p:blipFill>
        <p:spPr>
          <a:xfrm>
            <a:off x="539640" y="1628640"/>
            <a:ext cx="1582920" cy="1582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1584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2728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давнем исследовании аналитики компании IDC попытались оценить общий объем цифровой информаци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ерируемой в мире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шли к выводу, что в прошлом году был созд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 экзаб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1 миллиард гигабай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знообразных данных - цифровых фотографий, видео, электронных писем, интернет-пейджинговых сообщений, звонков посредством IP-телефони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6000" cy="96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Картинка 45 из 149"/>
          <p:cNvPicPr/>
          <p:nvPr/>
        </p:nvPicPr>
        <p:blipFill>
          <a:blip r:embed="rId3"/>
          <a:stretch/>
        </p:blipFill>
        <p:spPr>
          <a:xfrm>
            <a:off x="108000" y="2349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2349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Кб = 2 * 1024 * 8  = 16384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2376360"/>
            <a:ext cx="57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бита = 24 : 8 = 3 (бай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2243160"/>
            <a:ext cx="5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2124000" cy="863640"/>
          </a:xfrm>
          <a:prstGeom prst="ellipse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844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852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860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40000" y="2133720"/>
            <a:ext cx="1224000" cy="2158920"/>
            <a:chOff x="2340000" y="2133720"/>
            <a:chExt cx="1224000" cy="2158920"/>
          </a:xfrm>
        </p:grpSpPr>
        <p:sp>
          <p:nvSpPr>
            <p:cNvPr id="48" name=""/>
            <p:cNvSpPr/>
            <p:nvPr/>
          </p:nvSpPr>
          <p:spPr>
            <a:xfrm>
              <a:off x="2340000" y="3213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640" y="2133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640" y="21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640" y="321300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640" y="429264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48436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информационный объем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068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ТИКА – 11 символов, следовательно, это сообщение несет в себе информационный объем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 = 11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*8= 88 б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9973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340000" y="1341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школьных учебников емк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Кбай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разместить на трехдюймовой дискете, если объем трехдюймовой дискет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 М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573360"/>
            <a:ext cx="5329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Мбайт=1024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4Мбайт = 1,44*1024 = 1474,56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4,56 Кбайт / 350 Кбайт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160" y="3500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44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-120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50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 Гбайт- 17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2205000"/>
            <a:ext cx="612144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а основная единица измерения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байт содержит 1 Кб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дсчитать количество информации, передаваемое в символьном сообщ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2480" y="3524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ещест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152388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98920" y="2276640"/>
            <a:ext cx="46450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значально определялся как масса 1 см³ воды при температуре 4 °C и давлении в 1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 (0,2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080" y="4003560"/>
            <a:ext cx="45471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Кил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как 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лонного килограмма, храня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ате 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есов окол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и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Энерг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637000"/>
            <a:ext cx="3095640" cy="210564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Ват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ица названа в честь шотландско-ирландского изобретателя-меха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жеймса Уат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атта), создателя универсаль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овой ма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8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́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о́р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1454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2017800" cy="19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жеймс Уат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4160" y="2708280"/>
            <a:ext cx="150984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ервая паровая машина Папена. 16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38560" y="3933720"/>
            <a:ext cx="776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56000" y="2349360"/>
            <a:ext cx="6267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диницы измерения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3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05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309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же пишутся программ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обых языка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них простейшим сам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числится п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645000"/>
            <a:ext cx="309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тебя вопросов мног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жу тебе я с ке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 режиме диалог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сто решить пробле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чает без каприз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й вопрос быстр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умный телевизо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91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1520" y="3429000"/>
            <a:ext cx="38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ут нам надо разобрать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же этот ящик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в себя бумагу тащ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ейчас же буквы, то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ые – строчка к строчке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в момент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нужный инструмен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картин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кий масте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йный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8:26Z</dcterms:created>
  <dc:creator>User</dc:creator>
  <dc:description/>
  <dc:language>en-US</dc:language>
  <cp:lastModifiedBy>User</cp:lastModifiedBy>
  <dcterms:modified xsi:type="dcterms:W3CDTF">2008-01-30T18:46:57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