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applause.wav" ContentType="audio/x-wav"/>
  <Override PartName="/ppt/media/wind.wav" ContentType="audio/x-wav"/>
  <Override PartName="/ppt/media/bomb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100-F5B6-4B35-B84B-51BBC46A1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F2B2-8EE6-4167-A490-8FFD76C5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89F9-CA89-4F3D-87E5-4C937B6D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DDED-901A-499D-B4EB-DD7E2BE8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A98D9-630A-414B-A56E-1445A9235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457C-2228-4D75-872E-B0EB9F1B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DE55E-5517-405F-8692-282699C7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D1E1-D7C7-4F02-8AC0-04953EF0D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EF6C-05D3-4CBF-8499-92DDC8CC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A42E-57EF-4981-B08C-666DA360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9AFB4-7AED-4FE5-92FD-0A52226B5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BFB-AA81-48C5-A531-7040B5B08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95376-42A7-4EF7-B710-B08D6649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3286-B298-4A98-AA58-A29DEEA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2E5E-4181-485F-8341-361BA77A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4E0-5FD1-4BB5-B19B-757FCE38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0672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3800" y="148392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-36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0672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3800" y="4188960"/>
            <a:ext cx="286344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AFB1-62F2-464B-A24F-FB0D04B06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11F1-CB23-42A3-B959-83BEE827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925D-A30D-49BE-A255-4970BEA5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66D9-24B0-4BED-A517-697B285D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8893080" cy="40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8D5-6019-4033-91F4-107410FBA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7BCB-36A2-4517-83B9-23E4A57F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6880" y="418896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0B42-CC6A-4DBF-8B23-19DC11C2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56880" y="1483920"/>
            <a:ext cx="433980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360" y="4188960"/>
            <a:ext cx="8893080" cy="24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AD40-D430-4DF4-847F-884227B2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360" y="1483920"/>
            <a:ext cx="889308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768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4CD9A-8FC3-4B49-816D-0B974C9CC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4653000"/>
            <a:ext cx="815508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AE21-60AC-46C9-AD84-9D8603FD6D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 indent="4680" algn="ctr"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653000"/>
            <a:ext cx="8586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едставление о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85760" y="188640"/>
            <a:ext cx="805824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C577-5725-4481-85D3-F9A82A470BDA}" type="datetime2">
              <a:rPr b="0" lang="en-US" sz="1800" spc="-1" strike="noStrike">
                <a:solidFill>
                  <a:srgbClr val="003300"/>
                </a:solidFill>
                <a:latin typeface="Verdana"/>
              </a:rPr>
              <a:t>Tuesday, July 28, 2026</a:t>
            </a:fld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учив эту тему, вы узнает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569080" cy="37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Зачем необходимо прикладное приложение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ы возможности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 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по подготовке презентаций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ова область применения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С какими объектами работает </a:t>
            </a:r>
            <a:r>
              <a:rPr b="1" lang="en-US" sz="2400" spc="-1" strike="noStrike">
                <a:solidFill>
                  <a:srgbClr val="003300"/>
                </a:solidFill>
                <a:latin typeface="Verdana"/>
              </a:rPr>
              <a:t>Power Point</a:t>
            </a: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Verdana"/>
              </a:rPr>
              <a:t>Как создать слайд и настроить интерфейс приложения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ъекты в приложении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Презентация </a:t>
            </a:r>
            <a:r>
              <a:rPr b="0" lang="en-US" sz="2400" spc="-1" strike="noStrike">
                <a:solidFill>
                  <a:srgbClr val="003300"/>
                </a:solidFill>
                <a:latin typeface="Verdana"/>
              </a:rPr>
              <a:t>– это система взаимосвязных сложных объектов, которые в свою очередь состоят из совокупностей более простых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2924280"/>
            <a:ext cx="9143640" cy="3587040"/>
            <a:chOff x="0" y="2924280"/>
            <a:chExt cx="9143640" cy="3587040"/>
          </a:xfrm>
        </p:grpSpPr>
        <p:cxnSp>
          <p:nvCxnSpPr>
            <p:cNvPr id="89" name="_s128079"/>
            <p:cNvCxnSpPr>
              <a:stCxn id="90" idx="0"/>
              <a:endCxn id="91" idx="2"/>
            </p:cNvCxnSpPr>
            <p:nvPr/>
          </p:nvCxnSpPr>
          <p:spPr>
            <a:xfrm flipV="1" rot="16200000">
              <a:off x="4347000" y="5388840"/>
              <a:ext cx="448920" cy="2160"/>
            </a:xfrm>
            <a:prstGeom prst="bentConnector3">
              <a:avLst>
                <a:gd name="adj1" fmla="val 2552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128077"/>
            <p:cNvCxnSpPr>
              <a:stCxn id="93" idx="0"/>
              <a:endCxn id="94" idx="2"/>
            </p:cNvCxnSpPr>
            <p:nvPr/>
          </p:nvCxnSpPr>
          <p:spPr>
            <a:xfrm flipV="1" rot="16200000">
              <a:off x="7642080" y="4920120"/>
              <a:ext cx="448920" cy="939960"/>
            </a:xfrm>
            <a:prstGeom prst="bentConnector3">
              <a:avLst>
                <a:gd name="adj1" fmla="val 3683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5" name="_s128075"/>
            <p:cNvCxnSpPr>
              <a:stCxn id="96" idx="0"/>
              <a:endCxn id="94" idx="2"/>
            </p:cNvCxnSpPr>
            <p:nvPr/>
          </p:nvCxnSpPr>
          <p:spPr>
            <a:xfrm flipH="1" flipV="1" rot="5400000">
              <a:off x="6701040" y="4918320"/>
              <a:ext cx="448920" cy="943920"/>
            </a:xfrm>
            <a:prstGeom prst="bentConnector3">
              <a:avLst>
                <a:gd name="adj1" fmla="val 371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7" name="_s128073"/>
            <p:cNvCxnSpPr>
              <a:stCxn id="98" idx="0"/>
              <a:endCxn id="99" idx="2"/>
            </p:cNvCxnSpPr>
            <p:nvPr/>
          </p:nvCxnSpPr>
          <p:spPr>
            <a:xfrm flipV="1" rot="16200000">
              <a:off x="1995120" y="4920120"/>
              <a:ext cx="448920" cy="939960"/>
            </a:xfrm>
            <a:prstGeom prst="bentConnector3">
              <a:avLst>
                <a:gd name="adj1" fmla="val 35473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0" name="_s128071"/>
            <p:cNvCxnSpPr>
              <a:stCxn id="101" idx="0"/>
            </p:cNvCxnSpPr>
            <p:nvPr/>
          </p:nvCxnSpPr>
          <p:spPr>
            <a:xfrm flipH="1" flipV="1" rot="5400000">
              <a:off x="4030920" y="2227320"/>
              <a:ext cx="162720" cy="6611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2" name="_s128069"/>
            <p:cNvCxnSpPr>
              <a:stCxn id="94" idx="0"/>
              <a:endCxn id="103" idx="2"/>
            </p:cNvCxnSpPr>
            <p:nvPr/>
          </p:nvCxnSpPr>
          <p:spPr>
            <a:xfrm flipV="1" rot="16200000">
              <a:off x="5759640" y="2631600"/>
              <a:ext cx="448920" cy="282636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4" name="_s128068"/>
            <p:cNvCxnSpPr>
              <a:stCxn id="91" idx="0"/>
              <a:endCxn id="103" idx="2"/>
            </p:cNvCxnSpPr>
            <p:nvPr/>
          </p:nvCxnSpPr>
          <p:spPr>
            <a:xfrm flipV="1">
              <a:off x="4570920" y="382032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5" name="_s128067"/>
            <p:cNvCxnSpPr>
              <a:stCxn id="99" idx="0"/>
              <a:endCxn id="103" idx="2"/>
            </p:cNvCxnSpPr>
            <p:nvPr/>
          </p:nvCxnSpPr>
          <p:spPr>
            <a:xfrm flipH="1" flipV="1" rot="5400000">
              <a:off x="2935440" y="2633400"/>
              <a:ext cx="448920" cy="282312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03" name="_s128063"/>
            <p:cNvSpPr/>
            <p:nvPr/>
          </p:nvSpPr>
          <p:spPr>
            <a:xfrm>
              <a:off x="3763800" y="292428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_s128064"/>
            <p:cNvSpPr/>
            <p:nvPr/>
          </p:nvSpPr>
          <p:spPr>
            <a:xfrm>
              <a:off x="9414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_s128065"/>
            <p:cNvSpPr/>
            <p:nvPr/>
          </p:nvSpPr>
          <p:spPr>
            <a:xfrm>
              <a:off x="376380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_s128066"/>
            <p:cNvSpPr/>
            <p:nvPr/>
          </p:nvSpPr>
          <p:spPr>
            <a:xfrm>
              <a:off x="6588720" y="426924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лайд 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_s128070"/>
            <p:cNvSpPr/>
            <p:nvPr/>
          </p:nvSpPr>
          <p:spPr>
            <a:xfrm>
              <a:off x="0" y="5614560"/>
              <a:ext cx="161388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Текст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128072"/>
            <p:cNvSpPr/>
            <p:nvPr/>
          </p:nvSpPr>
          <p:spPr>
            <a:xfrm>
              <a:off x="1882800" y="5614560"/>
              <a:ext cx="1613880" cy="89316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уно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128074"/>
            <p:cNvSpPr/>
            <p:nvPr/>
          </p:nvSpPr>
          <p:spPr>
            <a:xfrm>
              <a:off x="56469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Анимац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_s128076"/>
            <p:cNvSpPr/>
            <p:nvPr/>
          </p:nvSpPr>
          <p:spPr>
            <a:xfrm>
              <a:off x="7529760" y="5614560"/>
              <a:ext cx="16138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Зву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_s128078"/>
            <p:cNvSpPr/>
            <p:nvPr/>
          </p:nvSpPr>
          <p:spPr>
            <a:xfrm>
              <a:off x="3765600" y="5614560"/>
              <a:ext cx="1612080" cy="8931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Видеоролик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(клип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9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9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4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6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07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09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0" dur="3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4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1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1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0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1" dur="3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26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27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642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айд – фрагмент презентации, в пределах которого производится работа над ее объект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50920" y="1484280"/>
          <a:ext cx="8642160" cy="5276880"/>
        </p:xfrm>
        <a:graphic>
          <a:graphicData uri="http://schemas.openxmlformats.org/drawingml/2006/table">
            <a:tbl>
              <a:tblPr/>
              <a:tblGrid>
                <a:gridCol w="3168720"/>
                <a:gridCol w="547344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Парамет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значение парамет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путем установки шаблона. Является единым для всей презен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Цвет фо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Можно изменять (широкая палитра). В пределах одного слайда изменять нельз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Вид перех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Характеризует переход от одного слайда к другому («по кнопке» или «автоматический»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Зву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Наличие или отсутствие звукового сопровождения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Эффекты аним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00"/>
                          </a:solidFill>
                          <a:latin typeface="Verdana"/>
                        </a:rPr>
                        <a:t>Объект может прилетать, появляться и т.д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струменты в приложении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wer Poi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2205000"/>
            <a:ext cx="8611200" cy="3587040"/>
            <a:chOff x="179280" y="2205000"/>
            <a:chExt cx="8611200" cy="3587040"/>
          </a:xfrm>
        </p:grpSpPr>
        <p:cxnSp>
          <p:nvCxnSpPr>
            <p:cNvPr id="110" name="_s132103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7320240" y="4381200"/>
              <a:ext cx="423720" cy="55404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32104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6231600" y="3846600"/>
              <a:ext cx="423720" cy="1623240"/>
            </a:xfrm>
            <a:prstGeom prst="bentConnector3">
              <a:avLst>
                <a:gd name="adj1" fmla="val 3307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32105"/>
            <p:cNvCxnSpPr>
              <a:stCxn id="116" idx="0"/>
              <a:endCxn id="117" idx="2"/>
            </p:cNvCxnSpPr>
            <p:nvPr/>
          </p:nvCxnSpPr>
          <p:spPr>
            <a:xfrm flipV="1" rot="16200000">
              <a:off x="2405520" y="3893760"/>
              <a:ext cx="423720" cy="1528920"/>
            </a:xfrm>
            <a:prstGeom prst="bentConnector3">
              <a:avLst>
                <a:gd name="adj1" fmla="val 33758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8" name="_s132106"/>
            <p:cNvCxnSpPr/>
            <p:nvPr/>
          </p:nvCxnSpPr>
          <p:spPr>
            <a:xfrm flipH="1" flipV="1" rot="5400000">
              <a:off x="4329000" y="1640160"/>
              <a:ext cx="162720" cy="6329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9" name="_s132107"/>
            <p:cNvCxnSpPr>
              <a:stCxn id="112" idx="0"/>
              <a:endCxn id="120" idx="2"/>
            </p:cNvCxnSpPr>
            <p:nvPr/>
          </p:nvCxnSpPr>
          <p:spPr>
            <a:xfrm flipV="1" rot="16200000">
              <a:off x="5679720" y="1973160"/>
              <a:ext cx="448920" cy="27046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1" name="_s132108"/>
            <p:cNvCxnSpPr>
              <a:stCxn id="122" idx="0"/>
              <a:endCxn id="120" idx="2"/>
            </p:cNvCxnSpPr>
            <p:nvPr/>
          </p:nvCxnSpPr>
          <p:spPr>
            <a:xfrm flipV="1">
              <a:off x="4552560" y="3101040"/>
              <a:ext cx="2160" cy="448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23" name="_s132109"/>
            <p:cNvCxnSpPr>
              <a:stCxn id="117" idx="0"/>
              <a:endCxn id="120" idx="2"/>
            </p:cNvCxnSpPr>
            <p:nvPr/>
          </p:nvCxnSpPr>
          <p:spPr>
            <a:xfrm flipH="1" flipV="1" rot="5400000">
              <a:off x="2977920" y="1974960"/>
              <a:ext cx="448920" cy="2701080"/>
            </a:xfrm>
            <a:prstGeom prst="bentConnector3">
              <a:avLst>
                <a:gd name="adj1" fmla="val 2536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20" name="_s132110"/>
            <p:cNvSpPr/>
            <p:nvPr/>
          </p:nvSpPr>
          <p:spPr>
            <a:xfrm>
              <a:off x="3780720" y="220500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Инструменты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32111"/>
            <p:cNvSpPr/>
            <p:nvPr/>
          </p:nvSpPr>
          <p:spPr>
            <a:xfrm>
              <a:off x="108000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_s132112"/>
            <p:cNvSpPr/>
            <p:nvPr/>
          </p:nvSpPr>
          <p:spPr>
            <a:xfrm>
              <a:off x="378072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Контекстное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меню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_s132113"/>
            <p:cNvSpPr/>
            <p:nvPr/>
          </p:nvSpPr>
          <p:spPr>
            <a:xfrm>
              <a:off x="6482880" y="3549960"/>
              <a:ext cx="15440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_s132114"/>
            <p:cNvSpPr/>
            <p:nvPr/>
          </p:nvSpPr>
          <p:spPr>
            <a:xfrm>
              <a:off x="179280" y="4895280"/>
              <a:ext cx="2031840" cy="89676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32115"/>
            <p:cNvSpPr/>
            <p:nvPr/>
          </p:nvSpPr>
          <p:spPr>
            <a:xfrm>
              <a:off x="2349000" y="4870080"/>
              <a:ext cx="2066040" cy="893880"/>
            </a:xfrm>
            <a:prstGeom prst="roundRect">
              <a:avLst>
                <a:gd name="adj" fmla="val 22204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32116"/>
            <p:cNvSpPr/>
            <p:nvPr/>
          </p:nvSpPr>
          <p:spPr>
            <a:xfrm>
              <a:off x="4622400" y="4870080"/>
              <a:ext cx="201924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анимации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_s132117"/>
            <p:cNvSpPr/>
            <p:nvPr/>
          </p:nvSpPr>
          <p:spPr>
            <a:xfrm>
              <a:off x="6828120" y="4870080"/>
              <a:ext cx="1962360" cy="8938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Панель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500720" y="4437000"/>
            <a:ext cx="0" cy="28728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6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6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7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79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5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8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Clr clrSpc="rgb">
                                      <p:cBhvr>
                                        <p:cTn id="19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1000"/>
                                      </p:to>
                                    </p:animClr>
                                    <p:set>
                                      <p:cBhvr>
                                        <p:cTn id="19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4788000" y="1989000"/>
            <a:ext cx="3132000" cy="3097440"/>
            <a:chOff x="4788000" y="1989000"/>
            <a:chExt cx="3132000" cy="3097440"/>
          </a:xfrm>
        </p:grpSpPr>
        <p:sp>
          <p:nvSpPr>
            <p:cNvPr id="128" name=""/>
            <p:cNvSpPr/>
            <p:nvPr/>
          </p:nvSpPr>
          <p:spPr>
            <a:xfrm>
              <a:off x="4788000" y="4437000"/>
              <a:ext cx="2484360" cy="64944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Область задач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6443640" y="1989000"/>
              <a:ext cx="1476360" cy="2448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564000" y="475920"/>
            <a:ext cx="3672000" cy="1512720"/>
            <a:chOff x="3564000" y="475920"/>
            <a:chExt cx="3672000" cy="1512720"/>
          </a:xfrm>
        </p:grpSpPr>
        <p:sp>
          <p:nvSpPr>
            <p:cNvPr id="131" name=""/>
            <p:cNvSpPr/>
            <p:nvPr/>
          </p:nvSpPr>
          <p:spPr>
            <a:xfrm>
              <a:off x="5367960" y="1272240"/>
              <a:ext cx="1868040" cy="71640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андартна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3564000" y="475920"/>
              <a:ext cx="2448720" cy="79596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00000" y="836640"/>
            <a:ext cx="4246560" cy="1944360"/>
            <a:chOff x="2700000" y="836640"/>
            <a:chExt cx="4246560" cy="1944360"/>
          </a:xfrm>
        </p:grpSpPr>
        <p:sp>
          <p:nvSpPr>
            <p:cNvPr id="134" name=""/>
            <p:cNvSpPr/>
            <p:nvPr/>
          </p:nvSpPr>
          <p:spPr>
            <a:xfrm>
              <a:off x="4786560" y="2198160"/>
              <a:ext cx="2160000" cy="582840"/>
            </a:xfrm>
            <a:prstGeom prst="rect">
              <a:avLst/>
            </a:prstGeom>
            <a:solidFill>
              <a:srgbClr val="0033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Форматир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 flipV="1">
              <a:off x="2700000" y="836640"/>
              <a:ext cx="2385000" cy="136152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186920" y="4221000"/>
            <a:ext cx="2735280" cy="2015640"/>
            <a:chOff x="1186920" y="4221000"/>
            <a:chExt cx="2735280" cy="2015640"/>
          </a:xfrm>
        </p:grpSpPr>
        <p:sp>
          <p:nvSpPr>
            <p:cNvPr id="137" name=""/>
            <p:cNvSpPr/>
            <p:nvPr/>
          </p:nvSpPr>
          <p:spPr>
            <a:xfrm>
              <a:off x="1718640" y="4221000"/>
              <a:ext cx="2203560" cy="67176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анель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Рис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186920" y="4818240"/>
              <a:ext cx="1444680" cy="14184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610920" y="1268280"/>
            <a:ext cx="3349800" cy="1081080"/>
            <a:chOff x="610920" y="1268280"/>
            <a:chExt cx="3349800" cy="1081080"/>
          </a:xfrm>
        </p:grpSpPr>
        <p:sp>
          <p:nvSpPr>
            <p:cNvPr id="140" name=""/>
            <p:cNvSpPr/>
            <p:nvPr/>
          </p:nvSpPr>
          <p:spPr>
            <a:xfrm>
              <a:off x="1476360" y="1700280"/>
              <a:ext cx="2484360" cy="649080"/>
            </a:xfrm>
            <a:prstGeom prst="rect">
              <a:avLst/>
            </a:prstGeom>
            <a:solidFill>
              <a:srgbClr val="003300"/>
            </a:solidFill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Структура 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презентации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10920" y="1268280"/>
              <a:ext cx="1081080" cy="432000"/>
            </a:xfrm>
            <a:prstGeom prst="line">
              <a:avLst/>
            </a:prstGeom>
            <a:ln cap="sq" w="2844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547640" y="2276640"/>
            <a:ext cx="64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Спасибо за внимание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slow">
    <p:zoom dir="ou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7T11:16:02Z</dcterms:created>
  <dc:creator>Отдел образования Администрации Парфинского района</dc:creator>
  <dc:description/>
  <dc:language>en-US</dc:language>
  <cp:lastModifiedBy>Компьютер</cp:lastModifiedBy>
  <dcterms:modified xsi:type="dcterms:W3CDTF">2007-12-23T11:08:56Z</dcterms:modified>
  <cp:revision>95</cp:revision>
  <dc:subject/>
  <dc:title>Презентация</dc:title>
</cp:coreProperties>
</file>