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wind.wav" ContentType="audio/x-wav"/>
  <Override PartName="/ppt/media/bomb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8FE-0F47-4F45-B3A9-1C2D8E7A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40C-DF6D-44A9-BF4B-4357FC41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A93-F847-41D5-A1B0-F298A170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09E-EDD1-4AED-88AA-15DAEBA1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B498-ED75-4D8C-8E02-404B54F4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3AC5-4323-4405-9706-CC3A285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CAB5-7FB7-451B-B8DA-349EC36A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1985-A9A1-48EC-B014-34D11E20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63D0-0804-4048-8301-B41CCB85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9506-F852-42EA-A86D-8427EC10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03E0-179B-475E-BC17-6D657B27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41F-35DF-4900-AE73-83527A7C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18ED-DF80-4B84-90C0-9CAF940F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2C5B-C7A8-46E5-8479-0198B0ED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0420-0D63-459E-BD58-421CB2EB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8D4C-EC92-415C-BF4D-24BFB27A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67A2-D511-4D44-9531-AE880053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CBE-2E19-4178-A8C9-9C68B151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7AB-569E-4809-8F22-14136257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BAF-A89C-4AEC-9F24-37D79FED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A06-FD7C-46E9-B497-A7E9F199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833-48C5-43C2-822D-47B9ED3A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6DF-BE9A-458E-A11B-B529516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698-1DB7-4BDF-A783-7AE01167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768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EF0D-9B2C-4860-A07C-3852CD9E5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F0C7-8CB4-43C0-A589-63D7E1D7A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468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86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5760" y="188640"/>
            <a:ext cx="8058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A853-9282-4471-A7E7-68AE5FBFDF63}" type="datetime2">
              <a:rPr b="0" lang="en-US" sz="1800" spc="-1" strike="noStrike">
                <a:solidFill>
                  <a:srgbClr val="003300"/>
                </a:solidFill>
                <a:latin typeface="Verdana"/>
              </a:rPr>
              <a:t>Thursday, July 30, 2026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ив эту тему, вы узнае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Зачем необходимо прикладное приложение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ы возможности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по подготовке презента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а область применения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С какими объектами работает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 создать слайд и настроить интерфейс прило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резентация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89" name="_s128079"/>
            <p:cNvCxnSpPr>
              <a:stCxn id="90" idx="0"/>
              <a:endCxn id="91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8077"/>
            <p:cNvCxnSpPr>
              <a:stCxn id="93" idx="0"/>
              <a:endCxn id="94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28075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28073"/>
            <p:cNvCxnSpPr>
              <a:stCxn id="98" idx="0"/>
              <a:endCxn id="99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8071"/>
            <p:cNvCxnSpPr>
              <a:stCxn id="101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8069"/>
            <p:cNvCxnSpPr>
              <a:stCxn id="94" idx="0"/>
              <a:endCxn id="103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8068"/>
            <p:cNvCxnSpPr>
              <a:stCxn id="91" idx="0"/>
              <a:endCxn id="103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28067"/>
            <p:cNvCxnSpPr>
              <a:stCxn id="99" idx="0"/>
              <a:endCxn id="103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28063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8064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28065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28066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807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28072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28074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8076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8078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йд – фрагмент презентации, в пределах которого производится работа над ее объ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84280"/>
          <a:ext cx="8642160" cy="527688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ара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значение параме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путем установки шаблона. Является единым для всей презен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Цвет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(широкая палитра). В пределах одного слайда изменять нельз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пере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арактеризует переход от одного слайда к другому («по кнопке» или «автоматический»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личие или отсутствие звукового сопровожд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Эффекты ани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ъект может прилетать, появляться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ы в приложе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205000"/>
            <a:ext cx="8611200" cy="3587040"/>
            <a:chOff x="179280" y="2205000"/>
            <a:chExt cx="8611200" cy="3587040"/>
          </a:xfrm>
        </p:grpSpPr>
        <p:cxnSp>
          <p:nvCxnSpPr>
            <p:cNvPr id="110" name="_s13210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7320240" y="4381200"/>
              <a:ext cx="423720" cy="55404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32104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6231600" y="3846600"/>
              <a:ext cx="423720" cy="1623240"/>
            </a:xfrm>
            <a:prstGeom prst="bentConnector3">
              <a:avLst>
                <a:gd name="adj1" fmla="val 330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32105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2405520" y="3893760"/>
              <a:ext cx="423720" cy="152892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32106"/>
            <p:cNvCxnSpPr/>
            <p:nvPr/>
          </p:nvCxnSpPr>
          <p:spPr>
            <a:xfrm flipH="1" flipV="1" rot="5400000">
              <a:off x="4329000" y="1640160"/>
              <a:ext cx="162720" cy="632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2107"/>
            <p:cNvCxnSpPr>
              <a:stCxn id="112" idx="0"/>
              <a:endCxn id="120" idx="2"/>
            </p:cNvCxnSpPr>
            <p:nvPr/>
          </p:nvCxnSpPr>
          <p:spPr>
            <a:xfrm flipV="1" rot="16200000">
              <a:off x="5679720" y="1973160"/>
              <a:ext cx="448920" cy="27046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2108"/>
            <p:cNvCxnSpPr>
              <a:stCxn id="122" idx="0"/>
              <a:endCxn id="120" idx="2"/>
            </p:cNvCxnSpPr>
            <p:nvPr/>
          </p:nvCxnSpPr>
          <p:spPr>
            <a:xfrm flipV="1">
              <a:off x="4552560" y="310104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32109"/>
            <p:cNvCxnSpPr>
              <a:stCxn id="117" idx="0"/>
              <a:endCxn id="120" idx="2"/>
            </p:cNvCxnSpPr>
            <p:nvPr/>
          </p:nvCxnSpPr>
          <p:spPr>
            <a:xfrm flipH="1" flipV="1" rot="5400000">
              <a:off x="2977920" y="1974960"/>
              <a:ext cx="448920" cy="27010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132110"/>
            <p:cNvSpPr/>
            <p:nvPr/>
          </p:nvSpPr>
          <p:spPr>
            <a:xfrm>
              <a:off x="3780720" y="220500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Инструмен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2111"/>
            <p:cNvSpPr/>
            <p:nvPr/>
          </p:nvSpPr>
          <p:spPr>
            <a:xfrm>
              <a:off x="108000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2112"/>
            <p:cNvSpPr/>
            <p:nvPr/>
          </p:nvSpPr>
          <p:spPr>
            <a:xfrm>
              <a:off x="378072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Контекстное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32113"/>
            <p:cNvSpPr/>
            <p:nvPr/>
          </p:nvSpPr>
          <p:spPr>
            <a:xfrm>
              <a:off x="648288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32114"/>
            <p:cNvSpPr/>
            <p:nvPr/>
          </p:nvSpPr>
          <p:spPr>
            <a:xfrm>
              <a:off x="179280" y="4895280"/>
              <a:ext cx="20318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32115"/>
            <p:cNvSpPr/>
            <p:nvPr/>
          </p:nvSpPr>
          <p:spPr>
            <a:xfrm>
              <a:off x="2349000" y="4870080"/>
              <a:ext cx="2066040" cy="89388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32116"/>
            <p:cNvSpPr/>
            <p:nvPr/>
          </p:nvSpPr>
          <p:spPr>
            <a:xfrm>
              <a:off x="4622400" y="4870080"/>
              <a:ext cx="201924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аним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32117"/>
            <p:cNvSpPr/>
            <p:nvPr/>
          </p:nvSpPr>
          <p:spPr>
            <a:xfrm>
              <a:off x="6828120" y="4870080"/>
              <a:ext cx="196236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88000" y="1989000"/>
            <a:ext cx="3132000" cy="3097440"/>
            <a:chOff x="4788000" y="1989000"/>
            <a:chExt cx="3132000" cy="3097440"/>
          </a:xfrm>
        </p:grpSpPr>
        <p:sp>
          <p:nvSpPr>
            <p:cNvPr id="128" name=""/>
            <p:cNvSpPr/>
            <p:nvPr/>
          </p:nvSpPr>
          <p:spPr>
            <a:xfrm>
              <a:off x="4788000" y="4437000"/>
              <a:ext cx="2484360" cy="64944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ласть зада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43640" y="1989000"/>
              <a:ext cx="1476360" cy="2448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475920"/>
            <a:ext cx="3672000" cy="1512720"/>
            <a:chOff x="3564000" y="475920"/>
            <a:chExt cx="3672000" cy="1512720"/>
          </a:xfrm>
        </p:grpSpPr>
        <p:sp>
          <p:nvSpPr>
            <p:cNvPr id="131" name=""/>
            <p:cNvSpPr/>
            <p:nvPr/>
          </p:nvSpPr>
          <p:spPr>
            <a:xfrm>
              <a:off x="5367960" y="1272240"/>
              <a:ext cx="1868040" cy="71640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64000" y="475920"/>
              <a:ext cx="2448720" cy="79596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00000" y="836640"/>
            <a:ext cx="4246560" cy="1944360"/>
            <a:chOff x="2700000" y="836640"/>
            <a:chExt cx="4246560" cy="1944360"/>
          </a:xfrm>
        </p:grpSpPr>
        <p:sp>
          <p:nvSpPr>
            <p:cNvPr id="134" name=""/>
            <p:cNvSpPr/>
            <p:nvPr/>
          </p:nvSpPr>
          <p:spPr>
            <a:xfrm>
              <a:off x="4786560" y="2198160"/>
              <a:ext cx="2160000" cy="58284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00000" y="836640"/>
              <a:ext cx="2385000" cy="13615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6920" y="4221000"/>
            <a:ext cx="2735280" cy="2015640"/>
            <a:chOff x="1186920" y="4221000"/>
            <a:chExt cx="2735280" cy="2015640"/>
          </a:xfrm>
        </p:grpSpPr>
        <p:sp>
          <p:nvSpPr>
            <p:cNvPr id="137" name=""/>
            <p:cNvSpPr/>
            <p:nvPr/>
          </p:nvSpPr>
          <p:spPr>
            <a:xfrm>
              <a:off x="1718640" y="4221000"/>
              <a:ext cx="2203560" cy="67176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86920" y="4818240"/>
              <a:ext cx="1444680" cy="14184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0920" y="1268280"/>
            <a:ext cx="3349800" cy="1081080"/>
            <a:chOff x="610920" y="1268280"/>
            <a:chExt cx="3349800" cy="1081080"/>
          </a:xfrm>
        </p:grpSpPr>
        <p:sp>
          <p:nvSpPr>
            <p:cNvPr id="140" name=""/>
            <p:cNvSpPr/>
            <p:nvPr/>
          </p:nvSpPr>
          <p:spPr>
            <a:xfrm>
              <a:off x="1476360" y="1700280"/>
              <a:ext cx="2484360" cy="64908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руктур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0920" y="1268280"/>
              <a:ext cx="1081080" cy="432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47640" y="2276640"/>
            <a:ext cx="64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1:16:02Z</dcterms:created>
  <dc:creator>Отдел образования Администрации Парфинского района</dc:creator>
  <dc:description/>
  <dc:language>en-US</dc:language>
  <cp:lastModifiedBy>Компьютер</cp:lastModifiedBy>
  <dcterms:modified xsi:type="dcterms:W3CDTF">2007-12-23T11:08:56Z</dcterms:modified>
  <cp:revision>95</cp:revision>
  <dc:subject/>
  <dc:title>Презентация</dc:title>
</cp:coreProperties>
</file>