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applause.wav" ContentType="audio/x-wav"/>
  <Override PartName="/ppt/media/wind.wav" ContentType="audio/x-wav"/>
  <Override PartName="/ppt/media/bomb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792-E63D-4405-AA26-3DC9759C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1E6-AEDD-4541-9360-E7A49E81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8C7-6999-4EF7-9734-840E9BD3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67F-32A7-443B-B730-B4A43B20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5DEB-671F-440E-8562-D7D94475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D020-75F9-4A59-82A6-B850578B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7DB2-E389-40E3-8410-DDE7CA7B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36EB-8B15-4C8A-B11D-0DF02643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6D72-1EE7-4F87-9E1E-8DC163E2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75E1-BB57-409B-B1AD-EDC8C3CA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6109-662C-461E-A520-07AB2C8A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C8B-DD6E-460C-98D3-A0BB64DF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23B7-A964-4595-84B0-2CAFC59C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AEEA-FCCC-479A-A934-EB92851C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4A38-FB23-4539-8B51-42A1F714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17C9-FF1A-4A55-9367-580AD275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C303-7DD3-48F8-8D06-B777B8CA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F62-ACCC-4448-9FF8-9B21F866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1A1-045D-43FE-B734-E370DE19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003-1915-4638-9E44-D32FE547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DEB-B2B9-42E6-BF6B-1F9B470F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7C8-5518-41A5-AF5A-F8EBE553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1C5-0C95-412F-A610-CD21D4D8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025-68A3-4CEE-A07F-0605A219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768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878A-A5C4-458E-927A-F0837A439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F166-074F-4F72-AB3D-C03693726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468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586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ставление о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85760" y="188640"/>
            <a:ext cx="80582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C4E7-FD09-449F-B540-7640E2D4B7F3}" type="datetime2">
              <a:rPr b="0" lang="en-US" sz="1800" spc="-1" strike="noStrike">
                <a:solidFill>
                  <a:srgbClr val="003300"/>
                </a:solidFill>
                <a:latin typeface="Verdana"/>
              </a:rPr>
              <a:t>Thursday, July 30, 2026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зучив эту тему, вы узнае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Зачем необходимо прикладное приложение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ы возможности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 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по подготовке презентаци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а область применения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С какими объектами работает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 создать слайд и настроить интерфейс прилож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ы в приложени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Презентация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– это система взаимосвязных сложных объектов, которые в свою очередь состоят из совокупностей более прост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2924280"/>
            <a:ext cx="9143640" cy="3587040"/>
            <a:chOff x="0" y="2924280"/>
            <a:chExt cx="9143640" cy="3587040"/>
          </a:xfrm>
        </p:grpSpPr>
        <p:cxnSp>
          <p:nvCxnSpPr>
            <p:cNvPr id="89" name="_s128079"/>
            <p:cNvCxnSpPr>
              <a:stCxn id="90" idx="0"/>
              <a:endCxn id="91" idx="2"/>
            </p:cNvCxnSpPr>
            <p:nvPr/>
          </p:nvCxnSpPr>
          <p:spPr>
            <a:xfrm flipV="1" rot="16200000">
              <a:off x="4347000" y="5388840"/>
              <a:ext cx="448920" cy="2160"/>
            </a:xfrm>
            <a:prstGeom prst="bentConnector3">
              <a:avLst>
                <a:gd name="adj1" fmla="val 255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" name="_s128077"/>
            <p:cNvCxnSpPr>
              <a:stCxn id="93" idx="0"/>
              <a:endCxn id="94" idx="2"/>
            </p:cNvCxnSpPr>
            <p:nvPr/>
          </p:nvCxnSpPr>
          <p:spPr>
            <a:xfrm flipV="1" rot="16200000">
              <a:off x="7642080" y="4920120"/>
              <a:ext cx="448920" cy="939960"/>
            </a:xfrm>
            <a:prstGeom prst="bentConnector3">
              <a:avLst>
                <a:gd name="adj1" fmla="val 36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128075"/>
            <p:cNvCxnSpPr>
              <a:stCxn id="96" idx="0"/>
              <a:endCxn id="94" idx="2"/>
            </p:cNvCxnSpPr>
            <p:nvPr/>
          </p:nvCxnSpPr>
          <p:spPr>
            <a:xfrm flipH="1" flipV="1" rot="5400000">
              <a:off x="6701040" y="4918320"/>
              <a:ext cx="448920" cy="943920"/>
            </a:xfrm>
            <a:prstGeom prst="bentConnector3">
              <a:avLst>
                <a:gd name="adj1" fmla="val 371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128073"/>
            <p:cNvCxnSpPr>
              <a:stCxn id="98" idx="0"/>
              <a:endCxn id="99" idx="2"/>
            </p:cNvCxnSpPr>
            <p:nvPr/>
          </p:nvCxnSpPr>
          <p:spPr>
            <a:xfrm flipV="1" rot="16200000">
              <a:off x="1995120" y="4920120"/>
              <a:ext cx="448920" cy="939960"/>
            </a:xfrm>
            <a:prstGeom prst="bentConnector3">
              <a:avLst>
                <a:gd name="adj1" fmla="val 354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28071"/>
            <p:cNvCxnSpPr>
              <a:stCxn id="101" idx="0"/>
            </p:cNvCxnSpPr>
            <p:nvPr/>
          </p:nvCxnSpPr>
          <p:spPr>
            <a:xfrm flipH="1" flipV="1" rot="5400000">
              <a:off x="4030920" y="2227320"/>
              <a:ext cx="162720" cy="6611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28069"/>
            <p:cNvCxnSpPr>
              <a:stCxn id="94" idx="0"/>
              <a:endCxn id="103" idx="2"/>
            </p:cNvCxnSpPr>
            <p:nvPr/>
          </p:nvCxnSpPr>
          <p:spPr>
            <a:xfrm flipV="1" rot="16200000">
              <a:off x="5759640" y="2631600"/>
              <a:ext cx="448920" cy="282636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128068"/>
            <p:cNvCxnSpPr>
              <a:stCxn id="91" idx="0"/>
              <a:endCxn id="103" idx="2"/>
            </p:cNvCxnSpPr>
            <p:nvPr/>
          </p:nvCxnSpPr>
          <p:spPr>
            <a:xfrm flipV="1">
              <a:off x="4570920" y="382032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128067"/>
            <p:cNvCxnSpPr>
              <a:stCxn id="99" idx="0"/>
              <a:endCxn id="103" idx="2"/>
            </p:cNvCxnSpPr>
            <p:nvPr/>
          </p:nvCxnSpPr>
          <p:spPr>
            <a:xfrm flipH="1" flipV="1" rot="5400000">
              <a:off x="2935440" y="2633400"/>
              <a:ext cx="448920" cy="282312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" name="_s128063"/>
            <p:cNvSpPr/>
            <p:nvPr/>
          </p:nvSpPr>
          <p:spPr>
            <a:xfrm>
              <a:off x="3763800" y="292428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28064"/>
            <p:cNvSpPr/>
            <p:nvPr/>
          </p:nvSpPr>
          <p:spPr>
            <a:xfrm>
              <a:off x="9414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128065"/>
            <p:cNvSpPr/>
            <p:nvPr/>
          </p:nvSpPr>
          <p:spPr>
            <a:xfrm>
              <a:off x="37638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28066"/>
            <p:cNvSpPr/>
            <p:nvPr/>
          </p:nvSpPr>
          <p:spPr>
            <a:xfrm>
              <a:off x="658872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28070"/>
            <p:cNvSpPr/>
            <p:nvPr/>
          </p:nvSpPr>
          <p:spPr>
            <a:xfrm>
              <a:off x="0" y="561456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Текс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28072"/>
            <p:cNvSpPr/>
            <p:nvPr/>
          </p:nvSpPr>
          <p:spPr>
            <a:xfrm>
              <a:off x="1882800" y="5614560"/>
              <a:ext cx="1613880" cy="89316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уно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28074"/>
            <p:cNvSpPr/>
            <p:nvPr/>
          </p:nvSpPr>
          <p:spPr>
            <a:xfrm>
              <a:off x="56469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Аним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28076"/>
            <p:cNvSpPr/>
            <p:nvPr/>
          </p:nvSpPr>
          <p:spPr>
            <a:xfrm>
              <a:off x="75297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Зву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28078"/>
            <p:cNvSpPr/>
            <p:nvPr/>
          </p:nvSpPr>
          <p:spPr>
            <a:xfrm>
              <a:off x="3765600" y="5614560"/>
              <a:ext cx="16120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Видеороли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(клип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9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йд – фрагмент презентации, в пределах которого производится работа над ее объек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484280"/>
          <a:ext cx="8642160" cy="5276880"/>
        </p:xfrm>
        <a:graphic>
          <a:graphicData uri="http://schemas.openxmlformats.org/drawingml/2006/table">
            <a:tbl>
              <a:tblPr/>
              <a:tblGrid>
                <a:gridCol w="3168720"/>
                <a:gridCol w="547344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Пара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значение парамет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путем установки шаблона. Является единым для всей презен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Цвет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(широкая палитра). В пределах одного слайда изменять нельз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перех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Характеризует переход от одного слайда к другому («по кнопке» или «автоматический»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Зву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личие или отсутствие звукового сопровожд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Эффекты ани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Объект может прилетать, появляться и т.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струменты в приложени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9280" y="2205000"/>
            <a:ext cx="8611200" cy="3587040"/>
            <a:chOff x="179280" y="2205000"/>
            <a:chExt cx="8611200" cy="3587040"/>
          </a:xfrm>
        </p:grpSpPr>
        <p:cxnSp>
          <p:nvCxnSpPr>
            <p:cNvPr id="110" name="_s132103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7320240" y="4381200"/>
              <a:ext cx="423720" cy="55404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32104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6231600" y="3846600"/>
              <a:ext cx="423720" cy="1623240"/>
            </a:xfrm>
            <a:prstGeom prst="bentConnector3">
              <a:avLst>
                <a:gd name="adj1" fmla="val 330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32105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2405520" y="3893760"/>
              <a:ext cx="423720" cy="152892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32106"/>
            <p:cNvCxnSpPr/>
            <p:nvPr/>
          </p:nvCxnSpPr>
          <p:spPr>
            <a:xfrm flipH="1" flipV="1" rot="5400000">
              <a:off x="4329000" y="1640160"/>
              <a:ext cx="162720" cy="6329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32107"/>
            <p:cNvCxnSpPr>
              <a:stCxn id="112" idx="0"/>
              <a:endCxn id="120" idx="2"/>
            </p:cNvCxnSpPr>
            <p:nvPr/>
          </p:nvCxnSpPr>
          <p:spPr>
            <a:xfrm flipV="1" rot="16200000">
              <a:off x="5679720" y="1973160"/>
              <a:ext cx="448920" cy="27046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32108"/>
            <p:cNvCxnSpPr>
              <a:stCxn id="122" idx="0"/>
              <a:endCxn id="120" idx="2"/>
            </p:cNvCxnSpPr>
            <p:nvPr/>
          </p:nvCxnSpPr>
          <p:spPr>
            <a:xfrm flipV="1">
              <a:off x="4552560" y="310104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32109"/>
            <p:cNvCxnSpPr>
              <a:stCxn id="117" idx="0"/>
              <a:endCxn id="120" idx="2"/>
            </p:cNvCxnSpPr>
            <p:nvPr/>
          </p:nvCxnSpPr>
          <p:spPr>
            <a:xfrm flipH="1" flipV="1" rot="5400000">
              <a:off x="2977920" y="1974960"/>
              <a:ext cx="448920" cy="27010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0" name="_s132110"/>
            <p:cNvSpPr/>
            <p:nvPr/>
          </p:nvSpPr>
          <p:spPr>
            <a:xfrm>
              <a:off x="3780720" y="220500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Инструмент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32111"/>
            <p:cNvSpPr/>
            <p:nvPr/>
          </p:nvSpPr>
          <p:spPr>
            <a:xfrm>
              <a:off x="108000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32112"/>
            <p:cNvSpPr/>
            <p:nvPr/>
          </p:nvSpPr>
          <p:spPr>
            <a:xfrm>
              <a:off x="378072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Контекстное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32113"/>
            <p:cNvSpPr/>
            <p:nvPr/>
          </p:nvSpPr>
          <p:spPr>
            <a:xfrm>
              <a:off x="648288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32114"/>
            <p:cNvSpPr/>
            <p:nvPr/>
          </p:nvSpPr>
          <p:spPr>
            <a:xfrm>
              <a:off x="179280" y="4895280"/>
              <a:ext cx="20318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32115"/>
            <p:cNvSpPr/>
            <p:nvPr/>
          </p:nvSpPr>
          <p:spPr>
            <a:xfrm>
              <a:off x="2349000" y="4870080"/>
              <a:ext cx="2066040" cy="89388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32116"/>
            <p:cNvSpPr/>
            <p:nvPr/>
          </p:nvSpPr>
          <p:spPr>
            <a:xfrm>
              <a:off x="4622400" y="4870080"/>
              <a:ext cx="201924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анима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32117"/>
            <p:cNvSpPr/>
            <p:nvPr/>
          </p:nvSpPr>
          <p:spPr>
            <a:xfrm>
              <a:off x="6828120" y="4870080"/>
              <a:ext cx="196236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4788000" y="1989000"/>
            <a:ext cx="3132000" cy="3097440"/>
            <a:chOff x="4788000" y="1989000"/>
            <a:chExt cx="3132000" cy="3097440"/>
          </a:xfrm>
        </p:grpSpPr>
        <p:sp>
          <p:nvSpPr>
            <p:cNvPr id="128" name=""/>
            <p:cNvSpPr/>
            <p:nvPr/>
          </p:nvSpPr>
          <p:spPr>
            <a:xfrm>
              <a:off x="4788000" y="4437000"/>
              <a:ext cx="2484360" cy="64944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Область зада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443640" y="1989000"/>
              <a:ext cx="1476360" cy="2448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564000" y="475920"/>
            <a:ext cx="3672000" cy="1512720"/>
            <a:chOff x="3564000" y="475920"/>
            <a:chExt cx="3672000" cy="1512720"/>
          </a:xfrm>
        </p:grpSpPr>
        <p:sp>
          <p:nvSpPr>
            <p:cNvPr id="131" name=""/>
            <p:cNvSpPr/>
            <p:nvPr/>
          </p:nvSpPr>
          <p:spPr>
            <a:xfrm>
              <a:off x="5367960" y="1272240"/>
              <a:ext cx="1868040" cy="71640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564000" y="475920"/>
              <a:ext cx="2448720" cy="79596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00000" y="836640"/>
            <a:ext cx="4246560" cy="1944360"/>
            <a:chOff x="2700000" y="836640"/>
            <a:chExt cx="4246560" cy="1944360"/>
          </a:xfrm>
        </p:grpSpPr>
        <p:sp>
          <p:nvSpPr>
            <p:cNvPr id="134" name=""/>
            <p:cNvSpPr/>
            <p:nvPr/>
          </p:nvSpPr>
          <p:spPr>
            <a:xfrm>
              <a:off x="4786560" y="2198160"/>
              <a:ext cx="2160000" cy="582840"/>
            </a:xfrm>
            <a:prstGeom prst="rect">
              <a:avLst/>
            </a:prstGeom>
            <a:solidFill>
              <a:srgbClr val="00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700000" y="836640"/>
              <a:ext cx="2385000" cy="136152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86920" y="4221000"/>
            <a:ext cx="2735280" cy="2015640"/>
            <a:chOff x="1186920" y="4221000"/>
            <a:chExt cx="2735280" cy="2015640"/>
          </a:xfrm>
        </p:grpSpPr>
        <p:sp>
          <p:nvSpPr>
            <p:cNvPr id="137" name=""/>
            <p:cNvSpPr/>
            <p:nvPr/>
          </p:nvSpPr>
          <p:spPr>
            <a:xfrm>
              <a:off x="1718640" y="4221000"/>
              <a:ext cx="2203560" cy="67176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86920" y="4818240"/>
              <a:ext cx="1444680" cy="14184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10920" y="1268280"/>
            <a:ext cx="3349800" cy="1081080"/>
            <a:chOff x="610920" y="1268280"/>
            <a:chExt cx="3349800" cy="1081080"/>
          </a:xfrm>
        </p:grpSpPr>
        <p:sp>
          <p:nvSpPr>
            <p:cNvPr id="140" name=""/>
            <p:cNvSpPr/>
            <p:nvPr/>
          </p:nvSpPr>
          <p:spPr>
            <a:xfrm>
              <a:off x="1476360" y="1700280"/>
              <a:ext cx="2484360" cy="64908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руктура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610920" y="1268280"/>
              <a:ext cx="1081080" cy="432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47640" y="2276640"/>
            <a:ext cx="64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1:16:02Z</dcterms:created>
  <dc:creator>Отдел образования Администрации Парфинского района</dc:creator>
  <dc:description/>
  <dc:language>en-US</dc:language>
  <cp:lastModifiedBy>Компьютер</cp:lastModifiedBy>
  <dcterms:modified xsi:type="dcterms:W3CDTF">2007-12-23T11:08:56Z</dcterms:modified>
  <cp:revision>95</cp:revision>
  <dc:subject/>
  <dc:title>Презентация</dc:title>
</cp:coreProperties>
</file>