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applause.wav" ContentType="audio/x-wav"/>
  <Override PartName="/ppt/media/wind.wav" ContentType="audio/x-wav"/>
  <Override PartName="/ppt/media/bomb.wav" ContentType="audio/x-wav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9A9A-4F34-481F-A1DA-9271351FE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88930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360" y="4188960"/>
            <a:ext cx="88930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07E7-BFB5-4704-AC3D-C0A74ECB6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360" y="418896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56880" y="418896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7422-FEFA-4D48-9642-057C25D3E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06720" y="148392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3800" y="148392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360" y="418896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06720" y="418896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3800" y="418896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8B5D-D244-4EAA-9EB5-8C80A19CA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E9033-D5BC-4315-8B45-AB7C926DF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-360" y="1483920"/>
            <a:ext cx="889308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FA5F2-E80D-4D00-9A1C-97722AB69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889308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3E05E-106A-49AF-A613-C62FD0004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C4BC0-BD73-4EFC-88A4-12334BC90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27D00-FA44-4C31-8D07-D27DCCDB1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889308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8E242-599E-494C-A00B-61F775FD4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-360" y="418896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A198F-4E44-4ED0-90B9-BB4BA8F4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360" y="1483920"/>
            <a:ext cx="889308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9419-FB4E-4503-942B-3A84CC961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56880" y="418896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06464-73F4-48AC-ABC8-4674BB58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-360" y="4188960"/>
            <a:ext cx="88930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85D05-B636-4ECF-8609-483C4BAF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88930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-360" y="4188960"/>
            <a:ext cx="88930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5276C-894A-4D7D-BDB2-157738183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-360" y="418896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56880" y="418896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02A0D-8E69-47C5-861E-E8CDFF5F1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06720" y="148392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3800" y="148392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-360" y="418896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06720" y="418896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3800" y="418896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5B86E-F563-44AE-8876-B418C09EB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889308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D87B-80DA-4F77-BEB8-CB7DC5B6E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3216-DAFE-488F-AD35-C3747187D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6853-D156-4FE8-A2EB-EF0E6A10E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889308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BC50-9DE4-41CD-B05C-B40A0D5B0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360" y="418896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22D1-B496-4BE8-8059-DA283BCD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6880" y="418896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4AF4-F2A5-421E-BF24-A0E43595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360" y="4188960"/>
            <a:ext cx="88930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9F2A-AAD9-4B42-98F2-B4F8B820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360" y="1483920"/>
            <a:ext cx="889308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768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96F64-4966-44D4-910F-A31FB0FE30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280" y="4653000"/>
            <a:ext cx="8155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3D866-333B-41E8-94D7-B49646CF17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914400" indent="4680" algn="ctr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d.wav"/><Relationship Id="rId3" Type="http://schemas.openxmlformats.org/officeDocument/2006/relationships/audio" Target="../media/wind.wav"/><Relationship Id="rId4" Type="http://schemas.openxmlformats.org/officeDocument/2006/relationships/audio" Target="../media/wind.wav"/><Relationship Id="rId5" Type="http://schemas.openxmlformats.org/officeDocument/2006/relationships/audio" Target="../media/wind.wav"/><Relationship Id="rId6" Type="http://schemas.openxmlformats.org/officeDocument/2006/relationships/audio" Target="../media/wind.wav"/><Relationship Id="rId7" Type="http://schemas.openxmlformats.org/officeDocument/2006/relationships/audio" Target="../media/wind.wav"/><Relationship Id="rId8" Type="http://schemas.openxmlformats.org/officeDocument/2006/relationships/audio" Target="../media/wind.wav"/><Relationship Id="rId9" Type="http://schemas.openxmlformats.org/officeDocument/2006/relationships/audio" Target="../media/wind.wav"/><Relationship Id="rId10" Type="http://schemas.openxmlformats.org/officeDocument/2006/relationships/audio" Target="../media/wind.wav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d.wav"/><Relationship Id="rId3" Type="http://schemas.openxmlformats.org/officeDocument/2006/relationships/audio" Target="../media/wind.wav"/><Relationship Id="rId4" Type="http://schemas.openxmlformats.org/officeDocument/2006/relationships/audio" Target="../media/wind.wav"/><Relationship Id="rId5" Type="http://schemas.openxmlformats.org/officeDocument/2006/relationships/audio" Target="../media/wind.wav"/><Relationship Id="rId6" Type="http://schemas.openxmlformats.org/officeDocument/2006/relationships/audio" Target="../media/wind.wav"/><Relationship Id="rId7" Type="http://schemas.openxmlformats.org/officeDocument/2006/relationships/audio" Target="../media/wind.wav"/><Relationship Id="rId8" Type="http://schemas.openxmlformats.org/officeDocument/2006/relationships/audio" Target="../media/wind.wav"/><Relationship Id="rId9" Type="http://schemas.openxmlformats.org/officeDocument/2006/relationships/audio" Target="../media/wind.wav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4000" y="4653000"/>
            <a:ext cx="858672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редставление о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085760" y="188640"/>
            <a:ext cx="80582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7989B-2B42-46E4-8D8C-6FA0ED97A0B3}" type="datetime2">
              <a:rPr b="0" lang="en-US" sz="1800" spc="-1" strike="noStrike">
                <a:solidFill>
                  <a:srgbClr val="003300"/>
                </a:solidFill>
                <a:latin typeface="Verdana"/>
              </a:rPr>
              <a:t>Wednesday, July 29, 2026</a:t>
            </a:fld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Изучив эту тему, вы узнаете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2204640"/>
            <a:ext cx="856908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Verdana"/>
              </a:rPr>
              <a:t>Зачем необходимо прикладное приложение </a:t>
            </a:r>
            <a:r>
              <a:rPr b="1" lang="en-US" sz="2400" spc="-1" strike="noStrike">
                <a:solidFill>
                  <a:srgbClr val="003300"/>
                </a:solidFill>
                <a:latin typeface="Verdana"/>
              </a:rPr>
              <a:t>Power Point</a:t>
            </a:r>
            <a:r>
              <a:rPr b="1" lang="ru-RU" sz="2400" spc="-1" strike="noStrike">
                <a:solidFill>
                  <a:srgbClr val="003300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Verdana"/>
              </a:rPr>
              <a:t>Каковы возможности </a:t>
            </a:r>
            <a:r>
              <a:rPr b="1" lang="en-US" sz="2400" spc="-1" strike="noStrike">
                <a:solidFill>
                  <a:srgbClr val="003300"/>
                </a:solidFill>
                <a:latin typeface="Verdana"/>
              </a:rPr>
              <a:t>Power Point </a:t>
            </a:r>
            <a:r>
              <a:rPr b="1" lang="ru-RU" sz="2400" spc="-1" strike="noStrike">
                <a:solidFill>
                  <a:srgbClr val="003300"/>
                </a:solidFill>
                <a:latin typeface="Verdana"/>
              </a:rPr>
              <a:t>по подготовке презентаций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Verdana"/>
              </a:rPr>
              <a:t>Какова область применения </a:t>
            </a:r>
            <a:r>
              <a:rPr b="1" lang="en-US" sz="2400" spc="-1" strike="noStrike">
                <a:solidFill>
                  <a:srgbClr val="003300"/>
                </a:solidFill>
                <a:latin typeface="Verdana"/>
              </a:rPr>
              <a:t>Power Point</a:t>
            </a:r>
            <a:r>
              <a:rPr b="1" lang="ru-RU" sz="2400" spc="-1" strike="noStrike">
                <a:solidFill>
                  <a:srgbClr val="003300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Verdana"/>
              </a:rPr>
              <a:t>С какими объектами работает </a:t>
            </a:r>
            <a:r>
              <a:rPr b="1" lang="en-US" sz="2400" spc="-1" strike="noStrike">
                <a:solidFill>
                  <a:srgbClr val="003300"/>
                </a:solidFill>
                <a:latin typeface="Verdana"/>
              </a:rPr>
              <a:t>Power Point</a:t>
            </a:r>
            <a:r>
              <a:rPr b="1" lang="ru-RU" sz="2400" spc="-1" strike="noStrike">
                <a:solidFill>
                  <a:srgbClr val="003300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Verdana"/>
              </a:rPr>
              <a:t>Как создать слайд и настроить интерфейс приложения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8713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бъекты в приложении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ower Poi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87138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Презентация 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– это система взаимосвязных сложных объектов, которые в свою очередь состоят из совокупностей более простых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0" y="2924280"/>
            <a:ext cx="9143640" cy="3587040"/>
            <a:chOff x="0" y="2924280"/>
            <a:chExt cx="9143640" cy="3587040"/>
          </a:xfrm>
        </p:grpSpPr>
        <p:cxnSp>
          <p:nvCxnSpPr>
            <p:cNvPr id="89" name="_s128079"/>
            <p:cNvCxnSpPr>
              <a:stCxn id="90" idx="0"/>
              <a:endCxn id="91" idx="2"/>
            </p:cNvCxnSpPr>
            <p:nvPr/>
          </p:nvCxnSpPr>
          <p:spPr>
            <a:xfrm flipV="1" rot="16200000">
              <a:off x="4347000" y="5388840"/>
              <a:ext cx="448920" cy="2160"/>
            </a:xfrm>
            <a:prstGeom prst="bentConnector3">
              <a:avLst>
                <a:gd name="adj1" fmla="val 255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2" name="_s128077"/>
            <p:cNvCxnSpPr>
              <a:stCxn id="93" idx="0"/>
              <a:endCxn id="94" idx="2"/>
            </p:cNvCxnSpPr>
            <p:nvPr/>
          </p:nvCxnSpPr>
          <p:spPr>
            <a:xfrm flipV="1" rot="16200000">
              <a:off x="7642080" y="4920120"/>
              <a:ext cx="448920" cy="939960"/>
            </a:xfrm>
            <a:prstGeom prst="bentConnector3">
              <a:avLst>
                <a:gd name="adj1" fmla="val 3683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5" name="_s128075"/>
            <p:cNvCxnSpPr>
              <a:stCxn id="96" idx="0"/>
              <a:endCxn id="94" idx="2"/>
            </p:cNvCxnSpPr>
            <p:nvPr/>
          </p:nvCxnSpPr>
          <p:spPr>
            <a:xfrm flipH="1" flipV="1" rot="5400000">
              <a:off x="6701040" y="4918320"/>
              <a:ext cx="448920" cy="943920"/>
            </a:xfrm>
            <a:prstGeom prst="bentConnector3">
              <a:avLst>
                <a:gd name="adj1" fmla="val 3715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7" name="_s128073"/>
            <p:cNvCxnSpPr>
              <a:stCxn id="98" idx="0"/>
              <a:endCxn id="99" idx="2"/>
            </p:cNvCxnSpPr>
            <p:nvPr/>
          </p:nvCxnSpPr>
          <p:spPr>
            <a:xfrm flipV="1" rot="16200000">
              <a:off x="1995120" y="4920120"/>
              <a:ext cx="448920" cy="939960"/>
            </a:xfrm>
            <a:prstGeom prst="bentConnector3">
              <a:avLst>
                <a:gd name="adj1" fmla="val 3547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0" name="_s128071"/>
            <p:cNvCxnSpPr>
              <a:stCxn id="101" idx="0"/>
            </p:cNvCxnSpPr>
            <p:nvPr/>
          </p:nvCxnSpPr>
          <p:spPr>
            <a:xfrm flipH="1" flipV="1" rot="5400000">
              <a:off x="4030920" y="2227320"/>
              <a:ext cx="162720" cy="66117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2" name="_s128069"/>
            <p:cNvCxnSpPr>
              <a:stCxn id="94" idx="0"/>
              <a:endCxn id="103" idx="2"/>
            </p:cNvCxnSpPr>
            <p:nvPr/>
          </p:nvCxnSpPr>
          <p:spPr>
            <a:xfrm flipV="1" rot="16200000">
              <a:off x="5759640" y="2631600"/>
              <a:ext cx="448920" cy="2826360"/>
            </a:xfrm>
            <a:prstGeom prst="bentConnector3">
              <a:avLst>
                <a:gd name="adj1" fmla="val 2536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4" name="_s128068"/>
            <p:cNvCxnSpPr>
              <a:stCxn id="91" idx="0"/>
              <a:endCxn id="103" idx="2"/>
            </p:cNvCxnSpPr>
            <p:nvPr/>
          </p:nvCxnSpPr>
          <p:spPr>
            <a:xfrm flipV="1">
              <a:off x="4570920" y="3820320"/>
              <a:ext cx="2160" cy="448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5" name="_s128067"/>
            <p:cNvCxnSpPr>
              <a:stCxn id="99" idx="0"/>
              <a:endCxn id="103" idx="2"/>
            </p:cNvCxnSpPr>
            <p:nvPr/>
          </p:nvCxnSpPr>
          <p:spPr>
            <a:xfrm flipH="1" flipV="1" rot="5400000">
              <a:off x="2935440" y="2633400"/>
              <a:ext cx="448920" cy="2823120"/>
            </a:xfrm>
            <a:prstGeom prst="bentConnector3">
              <a:avLst>
                <a:gd name="adj1" fmla="val 2536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3" name="_s128063"/>
            <p:cNvSpPr/>
            <p:nvPr/>
          </p:nvSpPr>
          <p:spPr>
            <a:xfrm>
              <a:off x="3763800" y="2924280"/>
              <a:ext cx="161388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Презентац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_s128064"/>
            <p:cNvSpPr/>
            <p:nvPr/>
          </p:nvSpPr>
          <p:spPr>
            <a:xfrm>
              <a:off x="941400" y="4269240"/>
              <a:ext cx="161388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Слайд 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_s128065"/>
            <p:cNvSpPr/>
            <p:nvPr/>
          </p:nvSpPr>
          <p:spPr>
            <a:xfrm>
              <a:off x="3763800" y="4269240"/>
              <a:ext cx="161388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Слайд 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_s128066"/>
            <p:cNvSpPr/>
            <p:nvPr/>
          </p:nvSpPr>
          <p:spPr>
            <a:xfrm>
              <a:off x="6588720" y="4269240"/>
              <a:ext cx="161388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Слайд …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_s128070"/>
            <p:cNvSpPr/>
            <p:nvPr/>
          </p:nvSpPr>
          <p:spPr>
            <a:xfrm>
              <a:off x="0" y="5614560"/>
              <a:ext cx="161388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Текс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_s128072"/>
            <p:cNvSpPr/>
            <p:nvPr/>
          </p:nvSpPr>
          <p:spPr>
            <a:xfrm>
              <a:off x="1882800" y="5614560"/>
              <a:ext cx="1613880" cy="893160"/>
            </a:xfrm>
            <a:prstGeom prst="roundRect">
              <a:avLst>
                <a:gd name="adj" fmla="val 22204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Рисуно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_s128074"/>
            <p:cNvSpPr/>
            <p:nvPr/>
          </p:nvSpPr>
          <p:spPr>
            <a:xfrm>
              <a:off x="5646960" y="5614560"/>
              <a:ext cx="1613880" cy="8931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Анимац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_s128076"/>
            <p:cNvSpPr/>
            <p:nvPr/>
          </p:nvSpPr>
          <p:spPr>
            <a:xfrm>
              <a:off x="7529760" y="5614560"/>
              <a:ext cx="1613880" cy="8931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Зву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_s128078"/>
            <p:cNvSpPr/>
            <p:nvPr/>
          </p:nvSpPr>
          <p:spPr>
            <a:xfrm>
              <a:off x="3765600" y="5614560"/>
              <a:ext cx="1612080" cy="8931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Видеороли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(клип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98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99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3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04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6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07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9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10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14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15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17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18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0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21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3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24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6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27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лайд – фрагмент презентации, в пределах которого производится работа над ее объект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50920" y="1484280"/>
          <a:ext cx="8642160" cy="5276880"/>
        </p:xfrm>
        <a:graphic>
          <a:graphicData uri="http://schemas.openxmlformats.org/drawingml/2006/table">
            <a:tbl>
              <a:tblPr/>
              <a:tblGrid>
                <a:gridCol w="3168720"/>
                <a:gridCol w="5473440"/>
              </a:tblGrid>
              <a:tr h="75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Парамет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Назначение параметр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Вид фо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Можно изменять путем установки шаблона. Является единым для всей презент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Цвет фо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Можно изменять (широкая палитра). В пределах одного слайда изменять нельзя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Вид перехо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Характеризует переход от одного слайда к другому («по кнопке» или «автоматический»)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Зву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Наличие или отсутствие звукового сопровождения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Эффекты аним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Объект может прилетать, появляться и т.д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струменты в приложении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wer Po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79280" y="2205000"/>
            <a:ext cx="8611200" cy="3587040"/>
            <a:chOff x="179280" y="2205000"/>
            <a:chExt cx="8611200" cy="3587040"/>
          </a:xfrm>
        </p:grpSpPr>
        <p:cxnSp>
          <p:nvCxnSpPr>
            <p:cNvPr id="110" name="_s132103"/>
            <p:cNvCxnSpPr>
              <a:stCxn id="111" idx="0"/>
              <a:endCxn id="112" idx="2"/>
            </p:cNvCxnSpPr>
            <p:nvPr/>
          </p:nvCxnSpPr>
          <p:spPr>
            <a:xfrm flipV="1" rot="16200000">
              <a:off x="7320240" y="4381200"/>
              <a:ext cx="423720" cy="554040"/>
            </a:xfrm>
            <a:prstGeom prst="bentConnector3">
              <a:avLst>
                <a:gd name="adj1" fmla="val 3375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32104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6231600" y="3846600"/>
              <a:ext cx="423720" cy="1623240"/>
            </a:xfrm>
            <a:prstGeom prst="bentConnector3">
              <a:avLst>
                <a:gd name="adj1" fmla="val 3307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32105"/>
            <p:cNvCxnSpPr>
              <a:stCxn id="116" idx="0"/>
              <a:endCxn id="117" idx="2"/>
            </p:cNvCxnSpPr>
            <p:nvPr/>
          </p:nvCxnSpPr>
          <p:spPr>
            <a:xfrm flipV="1" rot="16200000">
              <a:off x="2405520" y="3893760"/>
              <a:ext cx="423720" cy="1528920"/>
            </a:xfrm>
            <a:prstGeom prst="bentConnector3">
              <a:avLst>
                <a:gd name="adj1" fmla="val 3375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8" name="_s132106"/>
            <p:cNvCxnSpPr/>
            <p:nvPr/>
          </p:nvCxnSpPr>
          <p:spPr>
            <a:xfrm flipH="1" flipV="1" rot="5400000">
              <a:off x="4329000" y="1640160"/>
              <a:ext cx="162720" cy="6329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9" name="_s132107"/>
            <p:cNvCxnSpPr>
              <a:stCxn id="112" idx="0"/>
              <a:endCxn id="120" idx="2"/>
            </p:cNvCxnSpPr>
            <p:nvPr/>
          </p:nvCxnSpPr>
          <p:spPr>
            <a:xfrm flipV="1" rot="16200000">
              <a:off x="5679720" y="1973160"/>
              <a:ext cx="448920" cy="2704680"/>
            </a:xfrm>
            <a:prstGeom prst="bentConnector3">
              <a:avLst>
                <a:gd name="adj1" fmla="val 2536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1" name="_s132108"/>
            <p:cNvCxnSpPr>
              <a:stCxn id="122" idx="0"/>
              <a:endCxn id="120" idx="2"/>
            </p:cNvCxnSpPr>
            <p:nvPr/>
          </p:nvCxnSpPr>
          <p:spPr>
            <a:xfrm flipV="1">
              <a:off x="4552560" y="3101040"/>
              <a:ext cx="2160" cy="448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3" name="_s132109"/>
            <p:cNvCxnSpPr>
              <a:stCxn id="117" idx="0"/>
              <a:endCxn id="120" idx="2"/>
            </p:cNvCxnSpPr>
            <p:nvPr/>
          </p:nvCxnSpPr>
          <p:spPr>
            <a:xfrm flipH="1" flipV="1" rot="5400000">
              <a:off x="2977920" y="1974960"/>
              <a:ext cx="448920" cy="2701080"/>
            </a:xfrm>
            <a:prstGeom prst="bentConnector3">
              <a:avLst>
                <a:gd name="adj1" fmla="val 2536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20" name="_s132110"/>
            <p:cNvSpPr/>
            <p:nvPr/>
          </p:nvSpPr>
          <p:spPr>
            <a:xfrm>
              <a:off x="3780720" y="2205000"/>
              <a:ext cx="154404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Инструменты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_s132111"/>
            <p:cNvSpPr/>
            <p:nvPr/>
          </p:nvSpPr>
          <p:spPr>
            <a:xfrm>
              <a:off x="1080000" y="3549960"/>
              <a:ext cx="154404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Меню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_s132112"/>
            <p:cNvSpPr/>
            <p:nvPr/>
          </p:nvSpPr>
          <p:spPr>
            <a:xfrm>
              <a:off x="3780720" y="3549960"/>
              <a:ext cx="154404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Контекстное 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меню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_s132113"/>
            <p:cNvSpPr/>
            <p:nvPr/>
          </p:nvSpPr>
          <p:spPr>
            <a:xfrm>
              <a:off x="6482880" y="3549960"/>
              <a:ext cx="154404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Панель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_s132114"/>
            <p:cNvSpPr/>
            <p:nvPr/>
          </p:nvSpPr>
          <p:spPr>
            <a:xfrm>
              <a:off x="179280" y="4895280"/>
              <a:ext cx="203184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Панель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стандартная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32115"/>
            <p:cNvSpPr/>
            <p:nvPr/>
          </p:nvSpPr>
          <p:spPr>
            <a:xfrm>
              <a:off x="2349000" y="4870080"/>
              <a:ext cx="2066040" cy="893880"/>
            </a:xfrm>
            <a:prstGeom prst="roundRect">
              <a:avLst>
                <a:gd name="adj" fmla="val 22204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Панель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рисования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32116"/>
            <p:cNvSpPr/>
            <p:nvPr/>
          </p:nvSpPr>
          <p:spPr>
            <a:xfrm>
              <a:off x="4622400" y="4870080"/>
              <a:ext cx="2019240" cy="8938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Панель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анимации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_s132117"/>
            <p:cNvSpPr/>
            <p:nvPr/>
          </p:nvSpPr>
          <p:spPr>
            <a:xfrm>
              <a:off x="6828120" y="4870080"/>
              <a:ext cx="1962360" cy="8938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Панель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форматирования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4500720" y="4437000"/>
            <a:ext cx="0" cy="28728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6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6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7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7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7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7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7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8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8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85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8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8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9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9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9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7" name=""/>
          <p:cNvGrpSpPr/>
          <p:nvPr/>
        </p:nvGrpSpPr>
        <p:grpSpPr>
          <a:xfrm>
            <a:off x="4788000" y="1989000"/>
            <a:ext cx="3132000" cy="3097440"/>
            <a:chOff x="4788000" y="1989000"/>
            <a:chExt cx="3132000" cy="3097440"/>
          </a:xfrm>
        </p:grpSpPr>
        <p:sp>
          <p:nvSpPr>
            <p:cNvPr id="128" name=""/>
            <p:cNvSpPr/>
            <p:nvPr/>
          </p:nvSpPr>
          <p:spPr>
            <a:xfrm>
              <a:off x="4788000" y="4437000"/>
              <a:ext cx="2484360" cy="649440"/>
            </a:xfrm>
            <a:prstGeom prst="rect">
              <a:avLst/>
            </a:prstGeom>
            <a:solidFill>
              <a:srgbClr val="003300"/>
            </a:solidFill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Область задач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6443640" y="1989000"/>
              <a:ext cx="1476360" cy="2448000"/>
            </a:xfrm>
            <a:prstGeom prst="line">
              <a:avLst/>
            </a:prstGeom>
            <a:ln cap="sq" w="2844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564000" y="475920"/>
            <a:ext cx="3672000" cy="1512720"/>
            <a:chOff x="3564000" y="475920"/>
            <a:chExt cx="3672000" cy="1512720"/>
          </a:xfrm>
        </p:grpSpPr>
        <p:sp>
          <p:nvSpPr>
            <p:cNvPr id="131" name=""/>
            <p:cNvSpPr/>
            <p:nvPr/>
          </p:nvSpPr>
          <p:spPr>
            <a:xfrm>
              <a:off x="5367960" y="1272240"/>
              <a:ext cx="1868040" cy="716400"/>
            </a:xfrm>
            <a:prstGeom prst="rect">
              <a:avLst/>
            </a:prstGeom>
            <a:solidFill>
              <a:srgbClr val="003300"/>
            </a:solidFill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Панель 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Стандартна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 flipV="1">
              <a:off x="3564000" y="475920"/>
              <a:ext cx="2448720" cy="795960"/>
            </a:xfrm>
            <a:prstGeom prst="line">
              <a:avLst/>
            </a:prstGeom>
            <a:ln cap="sq" w="2844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700000" y="836640"/>
            <a:ext cx="4246560" cy="1944360"/>
            <a:chOff x="2700000" y="836640"/>
            <a:chExt cx="4246560" cy="1944360"/>
          </a:xfrm>
        </p:grpSpPr>
        <p:sp>
          <p:nvSpPr>
            <p:cNvPr id="134" name=""/>
            <p:cNvSpPr/>
            <p:nvPr/>
          </p:nvSpPr>
          <p:spPr>
            <a:xfrm>
              <a:off x="4786560" y="2198160"/>
              <a:ext cx="2160000" cy="582840"/>
            </a:xfrm>
            <a:prstGeom prst="rect">
              <a:avLst/>
            </a:prstGeom>
            <a:solidFill>
              <a:srgbClr val="00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Панель 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Форматирован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2700000" y="836640"/>
              <a:ext cx="2385000" cy="1361520"/>
            </a:xfrm>
            <a:prstGeom prst="line">
              <a:avLst/>
            </a:prstGeom>
            <a:ln cap="sq" w="2844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186920" y="4221000"/>
            <a:ext cx="2735280" cy="2015640"/>
            <a:chOff x="1186920" y="4221000"/>
            <a:chExt cx="2735280" cy="2015640"/>
          </a:xfrm>
        </p:grpSpPr>
        <p:sp>
          <p:nvSpPr>
            <p:cNvPr id="137" name=""/>
            <p:cNvSpPr/>
            <p:nvPr/>
          </p:nvSpPr>
          <p:spPr>
            <a:xfrm>
              <a:off x="1718640" y="4221000"/>
              <a:ext cx="2203560" cy="671760"/>
            </a:xfrm>
            <a:prstGeom prst="rect">
              <a:avLst/>
            </a:prstGeom>
            <a:solidFill>
              <a:srgbClr val="003300"/>
            </a:solidFill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Панель 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Рисован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186920" y="4818240"/>
              <a:ext cx="1444680" cy="1418400"/>
            </a:xfrm>
            <a:prstGeom prst="line">
              <a:avLst/>
            </a:prstGeom>
            <a:ln cap="sq" w="2844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10920" y="1268280"/>
            <a:ext cx="3349800" cy="1081080"/>
            <a:chOff x="610920" y="1268280"/>
            <a:chExt cx="3349800" cy="1081080"/>
          </a:xfrm>
        </p:grpSpPr>
        <p:sp>
          <p:nvSpPr>
            <p:cNvPr id="140" name=""/>
            <p:cNvSpPr/>
            <p:nvPr/>
          </p:nvSpPr>
          <p:spPr>
            <a:xfrm>
              <a:off x="1476360" y="1700280"/>
              <a:ext cx="2484360" cy="649080"/>
            </a:xfrm>
            <a:prstGeom prst="rect">
              <a:avLst/>
            </a:prstGeom>
            <a:solidFill>
              <a:srgbClr val="003300"/>
            </a:solidFill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Структура 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презентаци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 flipV="1">
              <a:off x="610920" y="1268280"/>
              <a:ext cx="1081080" cy="432000"/>
            </a:xfrm>
            <a:prstGeom prst="line">
              <a:avLst/>
            </a:prstGeom>
            <a:ln cap="sq" w="2844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547640" y="2276640"/>
            <a:ext cx="6409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Спасибо за внимание!!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zoom dir="out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1:16:02Z</dcterms:created>
  <dc:creator>Отдел образования Администрации Парфинского района</dc:creator>
  <dc:description/>
  <dc:language>en-US</dc:language>
  <cp:lastModifiedBy>Компьютер</cp:lastModifiedBy>
  <dcterms:modified xsi:type="dcterms:W3CDTF">2007-12-23T11:08:56Z</dcterms:modified>
  <cp:revision>95</cp:revision>
  <dc:subject/>
  <dc:title>Презентация</dc:title>
</cp:coreProperties>
</file>