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22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8A0B-591D-467C-A07F-B8268763A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FB49-566C-485B-9300-7989996E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18C2-21F0-40B4-8B10-4CE0EF228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A097-7880-471D-8C6F-46ABD9483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FA8F-1358-4C54-A6DF-49EF235B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4F28-B46F-47B9-9EDD-25D01167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6441-3E16-4BED-95BC-81F15C05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4D6A-009F-4627-9675-B5DEEB75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BC12-BC16-4EA8-A33D-D7F916DC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8862-8A90-4D21-92B7-F2D1322C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4A6C-D1E1-4E0F-BBA0-68161FD0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328E-14AB-483C-8183-5CD4C149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30BE-0764-49F7-A204-6594EB416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Georgia"/>
              </a:rPr>
              <a:t>Компьютерные</a:t>
            </a:r>
            <a:r>
              <a:rPr b="1" lang="en-US" sz="5400" spc="-1" strike="noStrike">
                <a:solidFill>
                  <a:srgbClr val="0000cc"/>
                </a:solidFill>
                <a:latin typeface="Georgia"/>
              </a:rPr>
              <a:t> </a:t>
            </a:r>
            <a:r>
              <a:rPr b="1" lang="en-US" sz="5400" spc="-1" strike="noStrike">
                <a:solidFill>
                  <a:srgbClr val="0000cc"/>
                </a:solidFill>
                <a:latin typeface="Georgia"/>
              </a:rPr>
              <a:t>сет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eorgia"/>
              </a:rPr>
              <a:t>Локальная с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50920" y="1052640"/>
            <a:ext cx="8713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На рабочей стан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устанавливается клиентское П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операционная система для рабочих станц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клиентская часть прикладного ПО и 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ПО сетей с выделенным серве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Windows XP" descr=""/>
          <p:cNvPicPr/>
          <p:nvPr/>
        </p:nvPicPr>
        <p:blipFill>
          <a:blip r:embed="rId2">
            <a:lum bright="12000"/>
          </a:blip>
          <a:srcRect l="68876" t="51791" r="3617" b="19390"/>
          <a:stretch/>
        </p:blipFill>
        <p:spPr>
          <a:xfrm>
            <a:off x="555480" y="3768840"/>
            <a:ext cx="2803680" cy="2197080"/>
          </a:xfrm>
          <a:prstGeom prst="rect">
            <a:avLst/>
          </a:prstGeom>
          <a:ln w="0">
            <a:noFill/>
          </a:ln>
        </p:spPr>
      </p:pic>
      <p:pic>
        <p:nvPicPr>
          <p:cNvPr id="82" name="WINLOGO" descr=""/>
          <p:cNvPicPr/>
          <p:nvPr/>
        </p:nvPicPr>
        <p:blipFill>
          <a:blip r:embed="rId3"/>
          <a:stretch/>
        </p:blipFill>
        <p:spPr>
          <a:xfrm>
            <a:off x="3668760" y="4224240"/>
            <a:ext cx="2887560" cy="785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149880" y="4959360"/>
            <a:ext cx="206856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50920" y="1900080"/>
            <a:ext cx="8713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    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Наиболее распространены следующие способы соединения компьютер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шина (как правило используется для одноранговых сетей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звезда (используется для любых локальных сете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Аппаратное обеспечени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Тип соединения - «шин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3640" y="4941720"/>
            <a:ext cx="86072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Кабель проходит от одного компьютера к другому, соединяя компьютеры и периферийные устр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шина" descr=""/>
          <p:cNvPicPr/>
          <p:nvPr/>
        </p:nvPicPr>
        <p:blipFill>
          <a:blip r:embed="rId2"/>
          <a:srcRect l="0" t="0" r="0" b="18341"/>
          <a:stretch/>
        </p:blipFill>
        <p:spPr>
          <a:xfrm>
            <a:off x="755640" y="596880"/>
            <a:ext cx="7210440" cy="4319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258920" y="3141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63640" y="3141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08360" y="3141720"/>
            <a:ext cx="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4000" y="3141720"/>
            <a:ext cx="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84720" y="2421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2565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84720" y="2924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227640" y="2133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Тип соединения - «звезд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5120" y="5308560"/>
            <a:ext cx="89488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К каждому компьютеру подходит отдельный кабель из одного центрального у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31840" y="1355760"/>
            <a:ext cx="8912160" cy="3354480"/>
            <a:chOff x="231840" y="1355760"/>
            <a:chExt cx="8912160" cy="3354480"/>
          </a:xfrm>
        </p:grpSpPr>
        <p:pic>
          <p:nvPicPr>
            <p:cNvPr id="100" name="локальная сеть2" descr=""/>
            <p:cNvPicPr/>
            <p:nvPr/>
          </p:nvPicPr>
          <p:blipFill>
            <a:blip r:embed="rId2"/>
            <a:srcRect l="0" t="0" r="0" b="31996"/>
            <a:stretch/>
          </p:blipFill>
          <p:spPr>
            <a:xfrm>
              <a:off x="231840" y="1355760"/>
              <a:ext cx="8912160" cy="335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 flipV="1">
              <a:off x="1368360" y="2388960"/>
              <a:ext cx="3030480" cy="61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3114720" y="2387520"/>
              <a:ext cx="1431720" cy="69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flipV="1">
              <a:off x="4626000" y="2399760"/>
              <a:ext cx="147600" cy="10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4642920" y="2412360"/>
              <a:ext cx="1241640" cy="64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5143320" y="1599480"/>
              <a:ext cx="111600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986360" y="2375640"/>
              <a:ext cx="2182680" cy="84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54920" y="1491840"/>
              <a:ext cx="31680" cy="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6920" y="3430440"/>
            <a:ext cx="894708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контроллер сети" descr=""/>
          <p:cNvPicPr/>
          <p:nvPr/>
        </p:nvPicPr>
        <p:blipFill>
          <a:blip r:embed="rId2"/>
          <a:stretch/>
        </p:blipFill>
        <p:spPr>
          <a:xfrm>
            <a:off x="1954080" y="3576600"/>
            <a:ext cx="5247000" cy="300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203040" y="1052640"/>
            <a:ext cx="8642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Для организации локальной сети необходимо установить в каждый ПК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сетевую плату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и соединить в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компьютеры с помощью специального кабеля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0680" y="1052640"/>
            <a:ext cx="4897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Иногда необходимые для связи компьютеров компоненты уже установлены на системной плате и тогда отдельная сетевая плата не нуж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3440" y="4654440"/>
            <a:ext cx="8939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В этом случае гнездо для сетевого кабеля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расположено на задней стенке системного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бл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249880" y="1557360"/>
            <a:ext cx="361152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861840"/>
            <a:ext cx="8229600" cy="55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Каб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C-cable" descr=""/>
          <p:cNvPicPr/>
          <p:nvPr/>
        </p:nvPicPr>
        <p:blipFill>
          <a:blip r:embed="rId2"/>
          <a:stretch/>
        </p:blipFill>
        <p:spPr>
          <a:xfrm>
            <a:off x="244440" y="1649520"/>
            <a:ext cx="3487680" cy="2778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046400" y="1484280"/>
            <a:ext cx="477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Коаксиальный кабель –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скорость передачи до 10 Мбит/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0960" y="4994280"/>
            <a:ext cx="51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Витая пара -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скорость передачи до 100 Мбит/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витая пара" descr=""/>
          <p:cNvPicPr/>
          <p:nvPr/>
        </p:nvPicPr>
        <p:blipFill>
          <a:blip r:embed="rId3"/>
          <a:stretch/>
        </p:blipFill>
        <p:spPr>
          <a:xfrm>
            <a:off x="5511960" y="3957480"/>
            <a:ext cx="335592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119700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Разъёмы для кабел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2080" y="4278240"/>
            <a:ext cx="26636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для коаксиального кабел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259680" y="3649680"/>
            <a:ext cx="2663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для витой па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наконечник для вп" descr=""/>
          <p:cNvPicPr/>
          <p:nvPr/>
        </p:nvPicPr>
        <p:blipFill>
          <a:blip r:embed="rId2"/>
          <a:stretch/>
        </p:blipFill>
        <p:spPr>
          <a:xfrm>
            <a:off x="5761080" y="2347920"/>
            <a:ext cx="2609640" cy="1014480"/>
          </a:xfrm>
          <a:prstGeom prst="rect">
            <a:avLst/>
          </a:prstGeom>
          <a:ln w="0">
            <a:noFill/>
          </a:ln>
        </p:spPr>
      </p:pic>
      <p:pic>
        <p:nvPicPr>
          <p:cNvPr id="127" name="наконечник для к" descr=""/>
          <p:cNvPicPr/>
          <p:nvPr/>
        </p:nvPicPr>
        <p:blipFill>
          <a:blip r:embed="rId3"/>
          <a:stretch/>
        </p:blipFill>
        <p:spPr>
          <a:xfrm>
            <a:off x="419040" y="1708200"/>
            <a:ext cx="2898720" cy="1892160"/>
          </a:xfrm>
          <a:prstGeom prst="rect">
            <a:avLst/>
          </a:prstGeom>
          <a:ln w="0">
            <a:noFill/>
          </a:ln>
        </p:spPr>
      </p:pic>
      <p:pic>
        <p:nvPicPr>
          <p:cNvPr id="128" name="наконечник для к_1" descr=""/>
          <p:cNvPicPr/>
          <p:nvPr/>
        </p:nvPicPr>
        <p:blipFill>
          <a:blip r:embed="rId4"/>
          <a:stretch/>
        </p:blipFill>
        <p:spPr>
          <a:xfrm rot="19051800">
            <a:off x="2715840" y="3571560"/>
            <a:ext cx="27878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4200" y="3530520"/>
            <a:ext cx="8653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Концентраторы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HUB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или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Switch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- служат для соединения компьютеров в се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Концентратор</a:t>
            </a: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может иметь различное количество портов подключения (обычно от 8 до 32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84640" y="871560"/>
            <a:ext cx="5859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Comic Sans MS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HAB1" descr=""/>
          <p:cNvPicPr/>
          <p:nvPr/>
        </p:nvPicPr>
        <p:blipFill>
          <a:blip r:embed="rId2"/>
          <a:stretch/>
        </p:blipFill>
        <p:spPr>
          <a:xfrm>
            <a:off x="2076480" y="1278000"/>
            <a:ext cx="449424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6240" y="1344600"/>
            <a:ext cx="865332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Общая скорость соединения в сети при использовании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HUB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определяется скоростью самой медленной сетевой пла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Для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Switch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скорость соединения любой пары компьютеров определяется скоростью самой медленной сетевой платы в паре (групп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84640" y="871560"/>
            <a:ext cx="5859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Comic Sans MS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60000" y="1463760"/>
            <a:ext cx="48243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Georgia"/>
              </a:rPr>
              <a:t>Компьютерная сеть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 – соединение компьютеров для обмена информацией и совместного использования ресурсов (принтер, модем, дисковая память и т.д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img123" descr=""/>
          <p:cNvPicPr/>
          <p:nvPr/>
        </p:nvPicPr>
        <p:blipFill>
          <a:blip r:embed="rId2"/>
          <a:stretch/>
        </p:blipFill>
        <p:spPr>
          <a:xfrm>
            <a:off x="5126040" y="1790640"/>
            <a:ext cx="3502080" cy="27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Программное обеспечени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2880" y="1639800"/>
            <a:ext cx="8555040" cy="42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Для работы в локальной сети необходимо специальное сетевое программное обеспе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В операционной системе </a:t>
            </a: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Wind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уже имеется всё необходимое для установки се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Windows XP" descr=""/>
          <p:cNvPicPr/>
          <p:nvPr/>
        </p:nvPicPr>
        <p:blipFill>
          <a:blip r:embed="rId2">
            <a:lum bright="12000"/>
          </a:blip>
          <a:srcRect l="68862" t="51752" r="3588" b="19409"/>
          <a:stretch/>
        </p:blipFill>
        <p:spPr>
          <a:xfrm>
            <a:off x="5235480" y="4572000"/>
            <a:ext cx="2210040" cy="1657440"/>
          </a:xfrm>
          <a:prstGeom prst="rect">
            <a:avLst/>
          </a:prstGeom>
          <a:ln w="0">
            <a:noFill/>
          </a:ln>
        </p:spPr>
      </p:pic>
      <p:pic>
        <p:nvPicPr>
          <p:cNvPr id="139" name="WINLOGO" descr=""/>
          <p:cNvPicPr/>
          <p:nvPr/>
        </p:nvPicPr>
        <p:blipFill>
          <a:blip r:embed="rId3"/>
          <a:stretch/>
        </p:blipFill>
        <p:spPr>
          <a:xfrm>
            <a:off x="1584360" y="5402160"/>
            <a:ext cx="259236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Программное обеспечени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1125360"/>
            <a:ext cx="8148600" cy="47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Для организации локальной сети необходим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определить имя </a:t>
            </a:r>
            <a:r>
              <a:rPr b="1" lang="ru-RU" sz="3200" spc="-1" strike="noStrike">
                <a:solidFill>
                  <a:srgbClr val="333399"/>
                </a:solidFill>
                <a:latin typeface="Comic Sans MS"/>
              </a:rPr>
              <a:t>Рабочей группы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присвоить каждому компьютеру уникальное в данной Рабочей группе имя и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IP-</a:t>
            </a:r>
            <a:r>
              <a:rPr b="1" lang="ru-RU" sz="3200" spc="-1" strike="noStrike">
                <a:solidFill>
                  <a:srgbClr val="333399"/>
                </a:solidFill>
                <a:latin typeface="Comic Sans MS"/>
              </a:rPr>
              <a:t>адрес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, а также установить адрес маски подсети (в некоторых случаях явный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IP-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адрес и адрес маски подсети можно не устанавливать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Georgia"/>
              </a:rPr>
              <a:t>Программное обеспечени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414520"/>
            <a:ext cx="4356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Данное ок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используется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для устано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имени компьюте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и Рабочей груп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559400" y="1658880"/>
            <a:ext cx="40003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14760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Georgia"/>
              </a:rPr>
              <a:t>Программное обеспечени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2" descr=""/>
          <p:cNvPicPr/>
          <p:nvPr/>
        </p:nvPicPr>
        <p:blipFill>
          <a:blip r:embed="rId2"/>
          <a:stretch/>
        </p:blipFill>
        <p:spPr>
          <a:xfrm>
            <a:off x="171360" y="1028880"/>
            <a:ext cx="4121280" cy="4727520"/>
          </a:xfrm>
          <a:prstGeom prst="rect">
            <a:avLst/>
          </a:prstGeom>
          <a:ln w="0">
            <a:noFill/>
          </a:ln>
        </p:spPr>
      </p:pic>
      <p:pic>
        <p:nvPicPr>
          <p:cNvPr id="147" name="3" descr=""/>
          <p:cNvPicPr/>
          <p:nvPr/>
        </p:nvPicPr>
        <p:blipFill>
          <a:blip r:embed="rId3"/>
          <a:stretch/>
        </p:blipFill>
        <p:spPr>
          <a:xfrm>
            <a:off x="4392720" y="1012680"/>
            <a:ext cx="4529160" cy="4737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98520" y="5816520"/>
            <a:ext cx="829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Данные окна используются для устан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явного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IP-</a:t>
            </a: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адреса и параметров маски подс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32200" y="3452760"/>
            <a:ext cx="172800" cy="378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878280" y="3373560"/>
            <a:ext cx="709560" cy="4572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4" descr=""/>
          <p:cNvPicPr/>
          <p:nvPr/>
        </p:nvPicPr>
        <p:blipFill>
          <a:blip r:embed="rId2"/>
          <a:stretch/>
        </p:blipFill>
        <p:spPr>
          <a:xfrm>
            <a:off x="4118040" y="888840"/>
            <a:ext cx="4734000" cy="522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44600" y="1886040"/>
            <a:ext cx="36129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Данное ок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используется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для устано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уровня доступ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к локальным ресурсам компьют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9540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Режимы доступа к ресурсам с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95200" y="941400"/>
            <a:ext cx="853776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Georgia"/>
              </a:rPr>
              <a:t>Локальный ресурс.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 Запрещается доступ к ресурсам компьютера пользователям сети. Для обеспечения доступности локальных ресурсов нужно установить переключатель в положение Общий ресур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5200" y="3173400"/>
            <a:ext cx="8537760" cy="32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Georgia"/>
              </a:rPr>
              <a:t>Общий ресурс.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 Позволяет использовать ресурсы компьютера (дисковую память и периферийные устройства - принтер, модем) пользователям сети. Для этого, нужно разрешить </a:t>
            </a:r>
            <a:r>
              <a:rPr b="1" lang="en-US" sz="2800" spc="-1" strike="noStrike">
                <a:solidFill>
                  <a:srgbClr val="333399"/>
                </a:solidFill>
                <a:latin typeface="Georgia"/>
              </a:rPr>
              <a:t>Открытие общего доступа к папке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. При этом требуется определить уровень доступ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9540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eorgia"/>
              </a:rPr>
              <a:t>Режимы доступа к ресурсам с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9540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eorgia"/>
              </a:rPr>
              <a:t>Режимы доступа к ресурсам с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5200" y="790560"/>
            <a:ext cx="8537760" cy="57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Georgia"/>
              </a:rPr>
              <a:t>Только чт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Позволяет пользователям сети открывать или копировать файлы и пап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Georgia"/>
              </a:rPr>
              <a:t>Полный  досту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Позволяет пользователям сети выполнять все операции над файлами, папками (переносить, удалять, редактировать, переименовать и т.п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Georgia"/>
              </a:rPr>
              <a:t>Доступ, определяемый паро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Данный режим предоставляет разным категориям пользователей различные права доступа, например, только чтение или полный досту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Georgia"/>
              </a:rPr>
              <a:t>Локальная с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1880" y="1347840"/>
            <a:ext cx="875484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0000cc"/>
                </a:solidFill>
                <a:latin typeface="Georgia"/>
              </a:rPr>
              <a:t>Локальная сеть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 объединяет компьютеры установленные в одном помещении (учебный класс, офис и т.п.), в одном здании или в нескольких близко расположенных здан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    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Обычно компьютеры локальной сети  расположены на расстоянии не более одного километра. При увеличении расстояния используется специальное оборуд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0840" y="7192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Georgia"/>
              </a:rPr>
              <a:t>Локальная с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3040" y="2099880"/>
            <a:ext cx="741996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Локальные сети по способу взаимодействия компьютеров подразделяются н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однорангов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сети с выделенным серве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Одноранговая локальная с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4365360"/>
            <a:ext cx="8362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В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одноранговой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локальной сети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 все компьютеры равноправны. Общие устройства могут быть подключены к любому компьютеру в се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844560" y="1650960"/>
            <a:ext cx="7732800" cy="2322720"/>
            <a:chOff x="844560" y="1650960"/>
            <a:chExt cx="7732800" cy="2322720"/>
          </a:xfrm>
        </p:grpSpPr>
        <p:sp>
          <p:nvSpPr>
            <p:cNvPr id="52" name=""/>
            <p:cNvSpPr/>
            <p:nvPr/>
          </p:nvSpPr>
          <p:spPr>
            <a:xfrm flipH="1">
              <a:off x="1834560" y="1989000"/>
              <a:ext cx="259164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491640" y="1989000"/>
              <a:ext cx="100800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4570920" y="1988640"/>
              <a:ext cx="215640" cy="10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642560" y="1989000"/>
              <a:ext cx="12236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42560" y="1989000"/>
              <a:ext cx="30236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локальная сеть1" descr=""/>
            <p:cNvPicPr/>
            <p:nvPr/>
          </p:nvPicPr>
          <p:blipFill>
            <a:blip r:embed="rId2"/>
            <a:stretch/>
          </p:blipFill>
          <p:spPr>
            <a:xfrm>
              <a:off x="844560" y="1650960"/>
              <a:ext cx="7732800" cy="23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Сеть с выделенным серве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58920" y="5516280"/>
            <a:ext cx="8493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Структура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сети с выделенным серве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74600" y="2008080"/>
            <a:ext cx="8629560" cy="3133800"/>
            <a:chOff x="174600" y="2008080"/>
            <a:chExt cx="8629560" cy="3133800"/>
          </a:xfrm>
        </p:grpSpPr>
        <p:pic>
          <p:nvPicPr>
            <p:cNvPr id="61" name="локальная сеть2" descr=""/>
            <p:cNvPicPr/>
            <p:nvPr/>
          </p:nvPicPr>
          <p:blipFill>
            <a:blip r:embed="rId2"/>
            <a:srcRect l="0" t="0" r="0" b="31996"/>
            <a:stretch/>
          </p:blipFill>
          <p:spPr>
            <a:xfrm>
              <a:off x="174600" y="2008080"/>
              <a:ext cx="8629560" cy="3133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" name=""/>
            <p:cNvGrpSpPr/>
            <p:nvPr/>
          </p:nvGrpSpPr>
          <p:grpSpPr>
            <a:xfrm>
              <a:off x="1407960" y="2144880"/>
              <a:ext cx="5843520" cy="1856880"/>
              <a:chOff x="1407960" y="2144880"/>
              <a:chExt cx="5843520" cy="1856880"/>
            </a:xfrm>
          </p:grpSpPr>
          <p:sp>
            <p:nvSpPr>
              <p:cNvPr id="63" name=""/>
              <p:cNvSpPr/>
              <p:nvPr/>
            </p:nvSpPr>
            <p:spPr>
              <a:xfrm flipV="1">
                <a:off x="1407960" y="3021480"/>
                <a:ext cx="2759040" cy="60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2925720" y="3020040"/>
                <a:ext cx="1388880" cy="54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 flipV="1">
                <a:off x="4394160" y="3031560"/>
                <a:ext cx="133200" cy="97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flipV="1">
                <a:off x="4411080" y="3044520"/>
                <a:ext cx="1241640" cy="57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V="1">
                <a:off x="4868640" y="2250360"/>
                <a:ext cx="1158840" cy="47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754520" y="3009240"/>
                <a:ext cx="2496960" cy="93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23080" y="2144880"/>
                <a:ext cx="316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Сеть с выделенным серве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317680" y="1238040"/>
            <a:ext cx="669456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Сервер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(от англ.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server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- обслуживающее устройство) - компьютер, распределяющий ресурсы между пользователями се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3645000"/>
            <a:ext cx="89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В сервере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установлен мощный процессор, большая оперативная и дисковая память, хранится основная часть программного обеспечения и данных сети, которыми могут воспользоваться все пользователи сети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660240" y="4246560"/>
            <a:ext cx="44640" cy="712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сервер" descr=""/>
          <p:cNvPicPr/>
          <p:nvPr/>
        </p:nvPicPr>
        <p:blipFill>
          <a:blip r:embed="rId2"/>
          <a:stretch/>
        </p:blipFill>
        <p:spPr>
          <a:xfrm>
            <a:off x="0" y="1450800"/>
            <a:ext cx="278280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Сеть с выделенным серве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1341360"/>
            <a:ext cx="842472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В качестве рабочих станций обычно используются менее производительные компьютеры с меньшей дисковой и оперативной  памятью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50920" y="1052640"/>
            <a:ext cx="842472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В </a:t>
            </a:r>
            <a:r>
              <a:rPr b="1" lang="ru-RU" sz="3000" spc="-1" strike="noStrike">
                <a:solidFill>
                  <a:srgbClr val="333399"/>
                </a:solidFill>
                <a:latin typeface="Comic Sans MS"/>
              </a:rPr>
              <a:t>сетях с выделенным сервером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реализуется </a:t>
            </a:r>
            <a:r>
              <a:rPr b="1" lang="ru-RU" sz="3000" spc="-1" strike="noStrike">
                <a:solidFill>
                  <a:srgbClr val="333399"/>
                </a:solidFill>
                <a:latin typeface="Comic Sans MS"/>
              </a:rPr>
              <a:t>клиент-серверная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технолог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99"/>
                </a:solidFill>
                <a:latin typeface="Comic Sans MS"/>
              </a:rPr>
              <a:t>На сервере устанавливается серверное ПО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серверная операционная систем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333399"/>
                </a:solidFill>
                <a:latin typeface="Comic Sans MS"/>
              </a:rPr>
              <a:t>WEB-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сервер (организация Интранет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прокси-сервер (обеспечение работы с Интернет рабочих станций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файл-сервер (обеспечение совместного доступа к файлам) и т.п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ПО сетей с выделенным сервер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8:21:21Z</dcterms:created>
  <dc:creator>Огарков А.</dc:creator>
  <dc:description/>
  <dc:language>en-US</dc:language>
  <cp:lastModifiedBy>Компьютер</cp:lastModifiedBy>
  <dcterms:modified xsi:type="dcterms:W3CDTF">2008-04-19T05:11:33Z</dcterms:modified>
  <cp:revision>34</cp:revision>
  <dc:subject/>
  <dc:title>Компьютерные сети</dc:title>
</cp:coreProperties>
</file>