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4D7-9DA4-4430-9700-718DE43C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A19-68E0-4426-9071-3F838BAF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550-CE0B-4F06-AD51-265A697B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6F3-1696-482C-B689-5E844C7B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83E-9EC0-416D-9FF8-75BBA28A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37F-E0EA-47D7-8E69-34CD57CF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CE6-38EA-4C83-914F-214B5E28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F52-263A-40CE-8420-6B0247B2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826-92AD-47AA-B0B8-A13A43FE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7A9-A773-4E74-9BFF-E078FBA4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717-C4CC-49E3-B79C-6B1D4665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D6E-36D9-4099-868D-F3160612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A501-DCDF-4E98-9A75-2693B792C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Компьютерные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се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105264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На рабочей ста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устанавливается клиентское П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операционная система для рабочих стан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лиентская часть прикладного ПО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indows XP" descr=""/>
          <p:cNvPicPr/>
          <p:nvPr/>
        </p:nvPicPr>
        <p:blipFill>
          <a:blip r:embed="rId2">
            <a:lum bright="12000"/>
          </a:blip>
          <a:srcRect l="68876" t="51791" r="3617" b="19390"/>
          <a:stretch/>
        </p:blipFill>
        <p:spPr>
          <a:xfrm>
            <a:off x="555480" y="3768840"/>
            <a:ext cx="2803680" cy="2197080"/>
          </a:xfrm>
          <a:prstGeom prst="rect">
            <a:avLst/>
          </a:prstGeom>
          <a:ln w="0">
            <a:noFill/>
          </a:ln>
        </p:spPr>
      </p:pic>
      <p:pic>
        <p:nvPicPr>
          <p:cNvPr id="82" name="WINLOGO" descr=""/>
          <p:cNvPicPr/>
          <p:nvPr/>
        </p:nvPicPr>
        <p:blipFill>
          <a:blip r:embed="rId3"/>
          <a:stretch/>
        </p:blipFill>
        <p:spPr>
          <a:xfrm>
            <a:off x="3668760" y="4224240"/>
            <a:ext cx="288756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149880" y="4959360"/>
            <a:ext cx="20685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190008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аиболее распространены следующие способы соединения компьют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шина (как правило используется для одноранговых се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звезда (используется для любых локальных сет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Аппарат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ши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6072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абель проходит от одного компьютера к другому, соединяя компьютеры и периферийные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шина" descr=""/>
          <p:cNvPicPr/>
          <p:nvPr/>
        </p:nvPicPr>
        <p:blipFill>
          <a:blip r:embed="rId2"/>
          <a:srcRect l="0" t="0" r="0" b="18341"/>
          <a:stretch/>
        </p:blipFill>
        <p:spPr>
          <a:xfrm>
            <a:off x="755640" y="596880"/>
            <a:ext cx="7210440" cy="4319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8920" y="3141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42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213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звез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5120" y="5308560"/>
            <a:ext cx="89488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каждому компьютеру подходит отдельный кабель из одного центрального у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1840" y="1355760"/>
            <a:ext cx="8912160" cy="3354480"/>
            <a:chOff x="231840" y="1355760"/>
            <a:chExt cx="8912160" cy="3354480"/>
          </a:xfrm>
        </p:grpSpPr>
        <p:pic>
          <p:nvPicPr>
            <p:cNvPr id="100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231840" y="1355760"/>
              <a:ext cx="891216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flipV="1">
              <a:off x="1368360" y="2388960"/>
              <a:ext cx="303048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114720" y="2387520"/>
              <a:ext cx="1431720" cy="69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626000" y="2399760"/>
              <a:ext cx="147600" cy="10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642920" y="2412360"/>
              <a:ext cx="1241640" cy="6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143320" y="1599480"/>
              <a:ext cx="111600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86360" y="2375640"/>
              <a:ext cx="2182680" cy="8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54920" y="1491840"/>
              <a:ext cx="3168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6920" y="3430440"/>
            <a:ext cx="8947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контроллер сети" descr=""/>
          <p:cNvPicPr/>
          <p:nvPr/>
        </p:nvPicPr>
        <p:blipFill>
          <a:blip r:embed="rId2"/>
          <a:stretch/>
        </p:blipFill>
        <p:spPr>
          <a:xfrm>
            <a:off x="1954080" y="3576600"/>
            <a:ext cx="52470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03040" y="1052640"/>
            <a:ext cx="864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 установить в каждый П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сетевую плату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 соединить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омпьютеры с помощью специального кабеля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680" y="1052640"/>
            <a:ext cx="489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ногда необходимые для связи компьютеров компоненты уже установлены на системной плате и тогда отдельная сетевая плата не нуж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3440" y="4654440"/>
            <a:ext cx="893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этом случае гнездо для сетевого кабел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расположено на задней стенке системного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49880" y="1557360"/>
            <a:ext cx="3611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61840"/>
            <a:ext cx="822960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б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C-cable" descr=""/>
          <p:cNvPicPr/>
          <p:nvPr/>
        </p:nvPicPr>
        <p:blipFill>
          <a:blip r:embed="rId2"/>
          <a:stretch/>
        </p:blipFill>
        <p:spPr>
          <a:xfrm>
            <a:off x="244440" y="1649520"/>
            <a:ext cx="3487680" cy="2778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46400" y="1484280"/>
            <a:ext cx="477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Коаксиальный кабель –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960" y="4994280"/>
            <a:ext cx="51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Витая пара -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витая пара" descr=""/>
          <p:cNvPicPr/>
          <p:nvPr/>
        </p:nvPicPr>
        <p:blipFill>
          <a:blip r:embed="rId3"/>
          <a:stretch/>
        </p:blipFill>
        <p:spPr>
          <a:xfrm>
            <a:off x="5511960" y="3957480"/>
            <a:ext cx="33559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197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Разъёмы для каб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080" y="4278240"/>
            <a:ext cx="266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коаксиального каб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59680" y="3649680"/>
            <a:ext cx="266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витой па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наконечник для вп" descr=""/>
          <p:cNvPicPr/>
          <p:nvPr/>
        </p:nvPicPr>
        <p:blipFill>
          <a:blip r:embed="rId2"/>
          <a:stretch/>
        </p:blipFill>
        <p:spPr>
          <a:xfrm>
            <a:off x="5761080" y="2347920"/>
            <a:ext cx="2609640" cy="1014480"/>
          </a:xfrm>
          <a:prstGeom prst="rect">
            <a:avLst/>
          </a:prstGeom>
          <a:ln w="0">
            <a:noFill/>
          </a:ln>
        </p:spPr>
      </p:pic>
      <p:pic>
        <p:nvPicPr>
          <p:cNvPr id="127" name="наконечник для к" descr=""/>
          <p:cNvPicPr/>
          <p:nvPr/>
        </p:nvPicPr>
        <p:blipFill>
          <a:blip r:embed="rId3"/>
          <a:stretch/>
        </p:blipFill>
        <p:spPr>
          <a:xfrm>
            <a:off x="419040" y="1708200"/>
            <a:ext cx="289872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наконечник для к_1" descr=""/>
          <p:cNvPicPr/>
          <p:nvPr/>
        </p:nvPicPr>
        <p:blipFill>
          <a:blip r:embed="rId4"/>
          <a:stretch/>
        </p:blipFill>
        <p:spPr>
          <a:xfrm rot="19051800">
            <a:off x="2715840" y="3571560"/>
            <a:ext cx="2787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3530520"/>
            <a:ext cx="865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Концентраторы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л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- служат для соединения компьютеров в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онцентратор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может иметь различное количество портов подключения (обычно от 8 до 3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HAB1" descr=""/>
          <p:cNvPicPr/>
          <p:nvPr/>
        </p:nvPicPr>
        <p:blipFill>
          <a:blip r:embed="rId2"/>
          <a:stretch/>
        </p:blipFill>
        <p:spPr>
          <a:xfrm>
            <a:off x="2076480" y="1278000"/>
            <a:ext cx="44942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6240" y="1344600"/>
            <a:ext cx="86533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бщая скорость соединения в сети при использовани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определяется скоростью самой медленной сетевой пл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орость соединения любой пары компьютеров определяется скоростью самой медленной сетевой платы в паре (груп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60000" y="1463760"/>
            <a:ext cx="48243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Компьютер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– соединение компьютеров для обмена информацией и совместного использования ресурсов (принтер, модем, дисковая память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g123" descr=""/>
          <p:cNvPicPr/>
          <p:nvPr/>
        </p:nvPicPr>
        <p:blipFill>
          <a:blip r:embed="rId2"/>
          <a:stretch/>
        </p:blipFill>
        <p:spPr>
          <a:xfrm>
            <a:off x="5126040" y="1790640"/>
            <a:ext cx="35020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2880" y="1639800"/>
            <a:ext cx="855504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работы в локальной сети необходимо специальное сетевое 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операционной системе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же имеется всё необходимое для установк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Windows XP" descr=""/>
          <p:cNvPicPr/>
          <p:nvPr/>
        </p:nvPicPr>
        <p:blipFill>
          <a:blip r:embed="rId2">
            <a:lum bright="12000"/>
          </a:blip>
          <a:srcRect l="68862" t="51752" r="3588" b="19409"/>
          <a:stretch/>
        </p:blipFill>
        <p:spPr>
          <a:xfrm>
            <a:off x="5235480" y="4572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39" name="WINLOGO" descr=""/>
          <p:cNvPicPr/>
          <p:nvPr/>
        </p:nvPicPr>
        <p:blipFill>
          <a:blip r:embed="rId3"/>
          <a:stretch/>
        </p:blipFill>
        <p:spPr>
          <a:xfrm>
            <a:off x="1584360" y="5402160"/>
            <a:ext cx="25923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125360"/>
            <a:ext cx="81486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пределить имя 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абочей группы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присвоить каждому компьютеру уникальное в данной Рабочей группе имя 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адрес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, а также установить адрес маски подсети (в некоторых случаях явный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адрес и адрес маски подсети можно не устанавлив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414520"/>
            <a:ext cx="435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мени компьют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 Рабоч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59400" y="1658880"/>
            <a:ext cx="40003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476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2" descr=""/>
          <p:cNvPicPr/>
          <p:nvPr/>
        </p:nvPicPr>
        <p:blipFill>
          <a:blip r:embed="rId2"/>
          <a:stretch/>
        </p:blipFill>
        <p:spPr>
          <a:xfrm>
            <a:off x="171360" y="1028880"/>
            <a:ext cx="4121280" cy="4727520"/>
          </a:xfrm>
          <a:prstGeom prst="rect">
            <a:avLst/>
          </a:prstGeom>
          <a:ln w="0">
            <a:noFill/>
          </a:ln>
        </p:spPr>
      </p:pic>
      <p:pic>
        <p:nvPicPr>
          <p:cNvPr id="147" name="3" descr=""/>
          <p:cNvPicPr/>
          <p:nvPr/>
        </p:nvPicPr>
        <p:blipFill>
          <a:blip r:embed="rId3"/>
          <a:stretch/>
        </p:blipFill>
        <p:spPr>
          <a:xfrm>
            <a:off x="4392720" y="1012680"/>
            <a:ext cx="4529160" cy="4737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8520" y="5816520"/>
            <a:ext cx="829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Данные окна используются для уста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явного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адреса и параметров маски под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32200" y="3452760"/>
            <a:ext cx="172800" cy="378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78280" y="3373560"/>
            <a:ext cx="70956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4" descr=""/>
          <p:cNvPicPr/>
          <p:nvPr/>
        </p:nvPicPr>
        <p:blipFill>
          <a:blip r:embed="rId2"/>
          <a:stretch/>
        </p:blipFill>
        <p:spPr>
          <a:xfrm>
            <a:off x="4118040" y="888840"/>
            <a:ext cx="4734000" cy="522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44600" y="1886040"/>
            <a:ext cx="3612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ровня досту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локальным ресурсам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5200" y="941400"/>
            <a:ext cx="85377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Локальны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Запрещается доступ к ресурсам компьютера пользователям сети. Для обеспечения доступности локальных ресурсов нужно установить переключатель в положение Общий рес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5200" y="3173400"/>
            <a:ext cx="853776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бщи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Позволяет использовать ресурсы компьютера (дисковую память и периферийные устройства - принтер, модем) пользователям сети. Для этого, нужно разрешить 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ткрытие общего доступа к папке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. При этом требуется определить уровень до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5200" y="790560"/>
            <a:ext cx="853776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Только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открывать или копировать файлы и па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Полный  дост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выполнять все операции над файлами, папками (переносить, удалять, редактировать, переименовать 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Доступ, определяемый паро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Данный режим предоставляет разным категориям пользователей различные права доступа, например, только чтение или полный дост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1880" y="1347840"/>
            <a:ext cx="875484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Локаль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объединяет компьютеры установленные в одном помещении (учебный класс, офис и т.п.), в одном здании или в нескольких близко расположенных зд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бычно компьютеры локальной сети  расположены на расстоянии не более одного километра. При увеличении расстояния используется специальное обору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0840" y="719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3040" y="2099880"/>
            <a:ext cx="7419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Локальные сети по способу взаимодействия компьютеров подразделяются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дноранг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сети с выделенным сер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одноранговой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локальной сети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все компьютеры равноправны. Общие устройства могут быть подключены к любому компьютеру в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44560" y="1650960"/>
            <a:ext cx="7732800" cy="2322720"/>
            <a:chOff x="844560" y="1650960"/>
            <a:chExt cx="7732800" cy="2322720"/>
          </a:xfrm>
        </p:grpSpPr>
        <p:sp>
          <p:nvSpPr>
            <p:cNvPr id="52" name=""/>
            <p:cNvSpPr/>
            <p:nvPr/>
          </p:nvSpPr>
          <p:spPr>
            <a:xfrm flipH="1">
              <a:off x="1834560" y="1989000"/>
              <a:ext cx="25916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491640" y="1989000"/>
              <a:ext cx="100800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4570920" y="1988640"/>
              <a:ext cx="21564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2560" y="1989000"/>
              <a:ext cx="12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2560" y="1989000"/>
              <a:ext cx="30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локальная сеть1" descr=""/>
            <p:cNvPicPr/>
            <p:nvPr/>
          </p:nvPicPr>
          <p:blipFill>
            <a:blip r:embed="rId2"/>
            <a:stretch/>
          </p:blipFill>
          <p:spPr>
            <a:xfrm>
              <a:off x="844560" y="1650960"/>
              <a:ext cx="7732800" cy="23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5516280"/>
            <a:ext cx="8493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труктур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ети с выделенным серв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4600" y="2008080"/>
            <a:ext cx="8629560" cy="3133800"/>
            <a:chOff x="174600" y="2008080"/>
            <a:chExt cx="8629560" cy="3133800"/>
          </a:xfrm>
        </p:grpSpPr>
        <p:pic>
          <p:nvPicPr>
            <p:cNvPr id="61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174600" y="2008080"/>
              <a:ext cx="86295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1407960" y="2144880"/>
              <a:ext cx="5843520" cy="1856880"/>
              <a:chOff x="1407960" y="2144880"/>
              <a:chExt cx="5843520" cy="185688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1407960" y="3021480"/>
                <a:ext cx="2759040" cy="6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925720" y="3020040"/>
                <a:ext cx="1388880" cy="54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4394160" y="3031560"/>
                <a:ext cx="133200" cy="9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4411080" y="3044520"/>
                <a:ext cx="1241640" cy="57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868640" y="2250360"/>
                <a:ext cx="115884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54520" y="3009240"/>
                <a:ext cx="2496960" cy="9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23080" y="2144880"/>
                <a:ext cx="316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17680" y="1238040"/>
            <a:ext cx="66945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Сервер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от англ.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rver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- обслуживающее устройство) - компьютер, распределяющий ресурсы между пользователями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3645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сервере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становлен мощный процессор, большая оперативная и дисковая память, хранится основная часть программного обеспечения и данных сети, которыми могут воспользоваться все пользователи сети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60240" y="4246560"/>
            <a:ext cx="44640" cy="71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ервер" descr=""/>
          <p:cNvPicPr/>
          <p:nvPr/>
        </p:nvPicPr>
        <p:blipFill>
          <a:blip r:embed="rId2"/>
          <a:stretch/>
        </p:blipFill>
        <p:spPr>
          <a:xfrm>
            <a:off x="0" y="1450800"/>
            <a:ext cx="27828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341360"/>
            <a:ext cx="8424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качестве рабочих станций обычно используются менее производительные компьютеры с меньшей дисковой и оперативной  память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1052640"/>
            <a:ext cx="8424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сетях с выделенным сервером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реализуется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клиент-серверная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технолог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На сервере устанавливается серверное П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ная операционная систе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Comic Sans MS"/>
              </a:rPr>
              <a:t>WEB-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 (организация Интранет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прокси-сервер (обеспечение работы с Интернет рабочих станци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файл-сервер (обеспечение совместного доступа к файлам)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8:21:21Z</dcterms:created>
  <dc:creator>Огарков А.</dc:creator>
  <dc:description/>
  <dc:language>en-US</dc:language>
  <cp:lastModifiedBy>Компьютер</cp:lastModifiedBy>
  <dcterms:modified xsi:type="dcterms:W3CDTF">2008-04-19T05:11:33Z</dcterms:modified>
  <cp:revision>34</cp:revision>
  <dc:subject/>
  <dc:title>Компьютерные сети</dc:title>
</cp:coreProperties>
</file>