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AC56-DDFC-4169-A8B4-B5BC9C12D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81FE-F968-424D-A41D-E1EBF10B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79D0-215F-4E52-AE83-B673B1D23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0378-CC1B-4D4C-842F-D1D49C3B2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B12A-D708-4005-9F3B-A2344046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C461-2E19-41C6-9993-AF601061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9BDB-EA57-450C-A49A-C25B30F2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EB15-440F-4FA0-9FAF-B8E1E4FE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E970-C5C5-4C1F-8B85-FF2AF749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CDBF-A6D8-42F2-B9BF-F1171A3F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EEBA-80B4-45DC-A536-BC389B23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A293-D614-49BD-B67A-CB7B6AA4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DC98-13C8-4998-A486-51884CCCD4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124000" y="5157720"/>
            <a:ext cx="34560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6633"/>
                </a:solidFill>
                <a:latin typeface="Monotype Corsiva"/>
              </a:rPr>
              <a:t>Обобщ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16000" y="476280"/>
            <a:ext cx="6192720" cy="43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исло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093000" y="3068640"/>
            <a:ext cx="239076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3300"/>
                </a:solidFill>
                <a:uFillTx/>
                <a:latin typeface="Arial"/>
              </a:rPr>
              <a:t>Кислоты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- </a:t>
            </a:r>
            <a:br>
              <a:rPr sz="4000"/>
            </a:b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электролиты,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при диссоциации которых образуются катионы водорода и анионы кислотных остатков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L       H</a:t>
            </a:r>
            <a:r>
              <a:rPr b="0" lang="en-US" sz="2800" spc="-1" strike="noStrike" baseline="5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CL</a:t>
            </a:r>
            <a:r>
              <a:rPr b="0" lang="en-US" sz="2800" spc="-1" strike="noStrike" baseline="50000">
                <a:solidFill>
                  <a:srgbClr val="000000"/>
                </a:solidFill>
                <a:latin typeface="Arial"/>
              </a:rPr>
              <a:t>-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3H</a:t>
            </a:r>
            <a:r>
              <a:rPr b="0" lang="en-US" sz="2800" spc="-1" strike="noStrike" baseline="5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50000">
                <a:solidFill>
                  <a:srgbClr val="000000"/>
                </a:solidFill>
                <a:latin typeface="Arial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724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4067280" y="4869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24360" y="5445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24360" y="5589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Классификация кисл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048760" y="1524960"/>
            <a:ext cx="4902120" cy="4119480"/>
            <a:chOff x="2048760" y="1524960"/>
            <a:chExt cx="4902120" cy="4119480"/>
          </a:xfrm>
        </p:grpSpPr>
        <p:cxnSp>
          <p:nvCxnSpPr>
            <p:cNvPr id="51" name="_s13346"/>
            <p:cNvCxnSpPr>
              <a:stCxn id="52" idx="1"/>
              <a:endCxn id="53" idx="2"/>
            </p:cNvCxnSpPr>
            <p:nvPr/>
          </p:nvCxnSpPr>
          <p:spPr>
            <a:xfrm rot="10800000">
              <a:off x="3061440" y="2050200"/>
              <a:ext cx="110160" cy="3453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13344"/>
            <p:cNvCxnSpPr>
              <a:stCxn id="55" idx="1"/>
              <a:endCxn id="53" idx="2"/>
            </p:cNvCxnSpPr>
            <p:nvPr/>
          </p:nvCxnSpPr>
          <p:spPr>
            <a:xfrm rot="10800000">
              <a:off x="3061440" y="2050200"/>
              <a:ext cx="110160" cy="3128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13342"/>
            <p:cNvCxnSpPr>
              <a:stCxn id="57" idx="1"/>
              <a:endCxn id="53" idx="2"/>
            </p:cNvCxnSpPr>
            <p:nvPr/>
          </p:nvCxnSpPr>
          <p:spPr>
            <a:xfrm rot="10800000">
              <a:off x="3061440" y="2050200"/>
              <a:ext cx="110160" cy="2800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13340"/>
            <p:cNvCxnSpPr>
              <a:stCxn id="59" idx="1"/>
              <a:endCxn id="53" idx="2"/>
            </p:cNvCxnSpPr>
            <p:nvPr/>
          </p:nvCxnSpPr>
          <p:spPr>
            <a:xfrm rot="10800000">
              <a:off x="3061440" y="2050200"/>
              <a:ext cx="110160" cy="2473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13338"/>
            <p:cNvCxnSpPr>
              <a:stCxn id="61" idx="1"/>
              <a:endCxn id="53" idx="2"/>
            </p:cNvCxnSpPr>
            <p:nvPr/>
          </p:nvCxnSpPr>
          <p:spPr>
            <a:xfrm rot="10800000">
              <a:off x="3061440" y="2050200"/>
              <a:ext cx="110160" cy="2146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13336"/>
            <p:cNvCxnSpPr>
              <a:stCxn id="63" idx="1"/>
              <a:endCxn id="53" idx="2"/>
            </p:cNvCxnSpPr>
            <p:nvPr/>
          </p:nvCxnSpPr>
          <p:spPr>
            <a:xfrm rot="10800000">
              <a:off x="3061440" y="2050200"/>
              <a:ext cx="110160" cy="1819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13334"/>
            <p:cNvCxnSpPr>
              <a:stCxn id="65" idx="1"/>
              <a:endCxn id="53" idx="2"/>
            </p:cNvCxnSpPr>
            <p:nvPr/>
          </p:nvCxnSpPr>
          <p:spPr>
            <a:xfrm rot="10800000">
              <a:off x="3061440" y="2050200"/>
              <a:ext cx="110160" cy="1494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13332"/>
            <p:cNvCxnSpPr>
              <a:stCxn id="67" idx="1"/>
              <a:endCxn id="53" idx="2"/>
            </p:cNvCxnSpPr>
            <p:nvPr/>
          </p:nvCxnSpPr>
          <p:spPr>
            <a:xfrm rot="10800000">
              <a:off x="3061440" y="2050200"/>
              <a:ext cx="110160" cy="1167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13330"/>
            <p:cNvCxnSpPr>
              <a:stCxn id="69" idx="1"/>
              <a:endCxn id="53" idx="2"/>
            </p:cNvCxnSpPr>
            <p:nvPr/>
          </p:nvCxnSpPr>
          <p:spPr>
            <a:xfrm rot="10800000">
              <a:off x="3061440" y="2050200"/>
              <a:ext cx="110160" cy="840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3326"/>
            <p:cNvCxnSpPr>
              <a:stCxn id="71" idx="1"/>
              <a:endCxn id="53" idx="2"/>
            </p:cNvCxnSpPr>
            <p:nvPr/>
          </p:nvCxnSpPr>
          <p:spPr>
            <a:xfrm rot="10800000">
              <a:off x="3061440" y="2050200"/>
              <a:ext cx="110160" cy="513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3324"/>
            <p:cNvCxnSpPr>
              <a:stCxn id="73" idx="1"/>
              <a:endCxn id="53" idx="2"/>
            </p:cNvCxnSpPr>
            <p:nvPr/>
          </p:nvCxnSpPr>
          <p:spPr>
            <a:xfrm rot="10800000">
              <a:off x="3061440" y="2050200"/>
              <a:ext cx="110160" cy="18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3" name="_s13320"/>
            <p:cNvSpPr/>
            <p:nvPr/>
          </p:nvSpPr>
          <p:spPr>
            <a:xfrm>
              <a:off x="2048760" y="1524960"/>
              <a:ext cx="2028600" cy="525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КИСЛОТЫ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3321"/>
            <p:cNvSpPr/>
            <p:nvPr/>
          </p:nvSpPr>
          <p:spPr>
            <a:xfrm>
              <a:off x="3171240" y="209628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КИСЛОРОДНЫЕ             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N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3323"/>
            <p:cNvSpPr/>
            <p:nvPr/>
          </p:nvSpPr>
          <p:spPr>
            <a:xfrm>
              <a:off x="3171240" y="2422800"/>
              <a:ext cx="3779640" cy="280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БЕСКИСЛОРОДНЫЕ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CL, HB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3329"/>
            <p:cNvSpPr/>
            <p:nvPr/>
          </p:nvSpPr>
          <p:spPr>
            <a:xfrm>
              <a:off x="3171240" y="274968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ОДНООСНОВНЫЕ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CL, HN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3331"/>
            <p:cNvSpPr/>
            <p:nvPr/>
          </p:nvSpPr>
          <p:spPr>
            <a:xfrm>
              <a:off x="3171240" y="3076200"/>
              <a:ext cx="3779640" cy="280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ДВУХОСНОВНЫЕ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3333"/>
            <p:cNvSpPr/>
            <p:nvPr/>
          </p:nvSpPr>
          <p:spPr>
            <a:xfrm>
              <a:off x="3171240" y="340308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ТРЕХОСНОВНЫЕ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  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ru-RU" sz="15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 baseline="-25000">
                  <a:solidFill>
                    <a:srgbClr val="000000"/>
                  </a:solidFill>
                  <a:latin typeface="Arial"/>
                </a:rPr>
                <a:t>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3335"/>
            <p:cNvSpPr/>
            <p:nvPr/>
          </p:nvSpPr>
          <p:spPr>
            <a:xfrm>
              <a:off x="3171240" y="372960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" rIns="9720" tIns="5040" bIns="5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СИЛЬНЫЕ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          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C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3337"/>
            <p:cNvSpPr/>
            <p:nvPr/>
          </p:nvSpPr>
          <p:spPr>
            <a:xfrm>
              <a:off x="3171240" y="4056480"/>
              <a:ext cx="3779640" cy="280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20" rIns="1152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СЛАБЫЕ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3339"/>
            <p:cNvSpPr/>
            <p:nvPr/>
          </p:nvSpPr>
          <p:spPr>
            <a:xfrm>
              <a:off x="3171240" y="438300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320" rIns="13320" tIns="6480" bIns="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РАСТВОРИМЫЕ            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N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ru-RU" sz="14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3341"/>
            <p:cNvSpPr/>
            <p:nvPr/>
          </p:nvSpPr>
          <p:spPr>
            <a:xfrm>
              <a:off x="3171240" y="470988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120" rIns="15120" tIns="7560" bIns="7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НЕРАСТВОРИМЫЕ        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i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3343"/>
            <p:cNvSpPr/>
            <p:nvPr/>
          </p:nvSpPr>
          <p:spPr>
            <a:xfrm>
              <a:off x="3171240" y="5036400"/>
              <a:ext cx="3779640" cy="280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560" rIns="1656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ЛЕТУЧИЕ                  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,  HC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3345"/>
            <p:cNvSpPr/>
            <p:nvPr/>
          </p:nvSpPr>
          <p:spPr>
            <a:xfrm>
              <a:off x="3171240" y="536328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7440" rIns="37440" tIns="18720" bIns="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НЕЛЕТУЧИЕ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Типичные реакции кисл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ислота + основание = соль + 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2 NaOH 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2O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2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ислота + оксид металла = соль + 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O + 2 HCL = Cu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O + 2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+ Cu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ислота + металл = водород + со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HCL +Zn = Zn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Z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Z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+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ия: - в ряду напряжений металл должен стоять до водо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 результате реакции должна получиться растворимая с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ислота + соль = новая кислота + новая с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ия: - в результате реакции должны получиться газ, осад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в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Ba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2H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+ 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= Ba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281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Формула кислоты эт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aOH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uC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HCL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S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Лакмус в растворе, полученном при взаимодействии оксида серы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V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 водо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синий                  в) фиолетов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красный              г) малинов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С раствором серной кислоты взаимодействуе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оксид магния      в) оксид фосф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оксид углерода   г) се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 Соляная кислота не взаимодействует с металл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алюминием         в) серебр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железом              г)  цин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 Пара ионов, которая может одновременно находится в раствор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i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в) Н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u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ОН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г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. Пара веществ взаимодействующих друг с друг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u Si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) 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 u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O  u N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) Н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  u  NaOH 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06:46:13Z</dcterms:created>
  <dc:creator>Alex</dc:creator>
  <dc:description/>
  <dc:language>en-US</dc:language>
  <cp:lastModifiedBy>Alex</cp:lastModifiedBy>
  <dcterms:modified xsi:type="dcterms:W3CDTF">2003-12-19T09:46:27Z</dcterms:modified>
  <cp:revision>17</cp:revision>
  <dc:subject/>
  <dc:title>КИСЛОТЫ</dc:title>
</cp:coreProperties>
</file>