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37A5-08E6-4E2E-AA7C-C82197D10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5213-AD53-4830-B23D-15D6E91A9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CA7B-8F7B-45C5-990E-3A8C92094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0BE9-4A9F-4F13-8AD8-4BEAA67FE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862B-7FEA-4639-8F18-7005DBE0D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FCC3-E6A6-49EC-B8B5-08791DFA8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FC9E-7A85-4B60-9BC5-C209ECAEF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7866-DE50-4BC1-B2FE-CE5282F26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1A27-9423-4344-9AEB-D7A855332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E195-B251-4F58-B079-C51075658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ADF4-4B8A-4898-AA8F-30B82AAF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1D12-1941-4428-91C4-7DB0DB67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72349-4C60-412B-8EC6-890E352362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124000" y="5157720"/>
            <a:ext cx="345600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6633"/>
                </a:solidFill>
                <a:latin typeface="Monotype Corsiva"/>
              </a:rPr>
              <a:t>Обобще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16000" y="476280"/>
            <a:ext cx="6192720" cy="43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ислот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093000" y="3068640"/>
            <a:ext cx="2390760" cy="28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3300"/>
                </a:solidFill>
                <a:uFillTx/>
                <a:latin typeface="Arial"/>
              </a:rPr>
              <a:t>Кислоты</a:t>
            </a: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- </a:t>
            </a:r>
            <a:br>
              <a:rPr sz="4000"/>
            </a:b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электролиты,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при диссоциации которых образуются катионы водорода и анионы кислотных остатков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CL       H</a:t>
            </a:r>
            <a:r>
              <a:rPr b="0" lang="en-US" sz="2800" spc="-1" strike="noStrike" baseline="5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CL</a:t>
            </a:r>
            <a:r>
              <a:rPr b="0" lang="en-US" sz="2800" spc="-1" strike="noStrike" baseline="50000">
                <a:solidFill>
                  <a:srgbClr val="000000"/>
                </a:solidFill>
                <a:latin typeface="Arial"/>
              </a:rPr>
              <a:t>-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3H</a:t>
            </a:r>
            <a:r>
              <a:rPr b="0" lang="en-US" sz="2800" spc="-1" strike="noStrike" baseline="5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P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50000">
                <a:solidFill>
                  <a:srgbClr val="000000"/>
                </a:solidFill>
                <a:latin typeface="Arial"/>
              </a:rPr>
              <a:t>3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7242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4067280" y="4869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24360" y="5445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24360" y="5589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Классификация кисл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048760" y="1524960"/>
            <a:ext cx="4902120" cy="4119480"/>
            <a:chOff x="2048760" y="1524960"/>
            <a:chExt cx="4902120" cy="4119480"/>
          </a:xfrm>
        </p:grpSpPr>
        <p:cxnSp>
          <p:nvCxnSpPr>
            <p:cNvPr id="51" name="_s13346"/>
            <p:cNvCxnSpPr>
              <a:stCxn id="52" idx="1"/>
              <a:endCxn id="53" idx="2"/>
            </p:cNvCxnSpPr>
            <p:nvPr/>
          </p:nvCxnSpPr>
          <p:spPr>
            <a:xfrm rot="10800000">
              <a:off x="3061440" y="2050200"/>
              <a:ext cx="110160" cy="3453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4" name="_s13344"/>
            <p:cNvCxnSpPr>
              <a:stCxn id="55" idx="1"/>
              <a:endCxn id="53" idx="2"/>
            </p:cNvCxnSpPr>
            <p:nvPr/>
          </p:nvCxnSpPr>
          <p:spPr>
            <a:xfrm rot="10800000">
              <a:off x="3061440" y="2050200"/>
              <a:ext cx="110160" cy="3128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6" name="_s13342"/>
            <p:cNvCxnSpPr>
              <a:stCxn id="57" idx="1"/>
              <a:endCxn id="53" idx="2"/>
            </p:cNvCxnSpPr>
            <p:nvPr/>
          </p:nvCxnSpPr>
          <p:spPr>
            <a:xfrm rot="10800000">
              <a:off x="3061440" y="2050200"/>
              <a:ext cx="110160" cy="2800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8" name="_s13340"/>
            <p:cNvCxnSpPr>
              <a:stCxn id="59" idx="1"/>
              <a:endCxn id="53" idx="2"/>
            </p:cNvCxnSpPr>
            <p:nvPr/>
          </p:nvCxnSpPr>
          <p:spPr>
            <a:xfrm rot="10800000">
              <a:off x="3061440" y="2050200"/>
              <a:ext cx="110160" cy="2473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0" name="_s13338"/>
            <p:cNvCxnSpPr>
              <a:stCxn id="61" idx="1"/>
              <a:endCxn id="53" idx="2"/>
            </p:cNvCxnSpPr>
            <p:nvPr/>
          </p:nvCxnSpPr>
          <p:spPr>
            <a:xfrm rot="10800000">
              <a:off x="3061440" y="2050200"/>
              <a:ext cx="110160" cy="2146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2" name="_s13336"/>
            <p:cNvCxnSpPr>
              <a:stCxn id="63" idx="1"/>
              <a:endCxn id="53" idx="2"/>
            </p:cNvCxnSpPr>
            <p:nvPr/>
          </p:nvCxnSpPr>
          <p:spPr>
            <a:xfrm rot="10800000">
              <a:off x="3061440" y="2050200"/>
              <a:ext cx="110160" cy="1819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4" name="_s13334"/>
            <p:cNvCxnSpPr>
              <a:stCxn id="65" idx="1"/>
              <a:endCxn id="53" idx="2"/>
            </p:cNvCxnSpPr>
            <p:nvPr/>
          </p:nvCxnSpPr>
          <p:spPr>
            <a:xfrm rot="10800000">
              <a:off x="3061440" y="2050200"/>
              <a:ext cx="110160" cy="1494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6" name="_s13332"/>
            <p:cNvCxnSpPr>
              <a:stCxn id="67" idx="1"/>
              <a:endCxn id="53" idx="2"/>
            </p:cNvCxnSpPr>
            <p:nvPr/>
          </p:nvCxnSpPr>
          <p:spPr>
            <a:xfrm rot="10800000">
              <a:off x="3061440" y="2050200"/>
              <a:ext cx="110160" cy="1167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8" name="_s13330"/>
            <p:cNvCxnSpPr>
              <a:stCxn id="69" idx="1"/>
              <a:endCxn id="53" idx="2"/>
            </p:cNvCxnSpPr>
            <p:nvPr/>
          </p:nvCxnSpPr>
          <p:spPr>
            <a:xfrm rot="10800000">
              <a:off x="3061440" y="2050200"/>
              <a:ext cx="110160" cy="840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" name="_s13326"/>
            <p:cNvCxnSpPr>
              <a:stCxn id="71" idx="1"/>
              <a:endCxn id="53" idx="2"/>
            </p:cNvCxnSpPr>
            <p:nvPr/>
          </p:nvCxnSpPr>
          <p:spPr>
            <a:xfrm rot="10800000">
              <a:off x="3061440" y="2050200"/>
              <a:ext cx="110160" cy="513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" name="_s13324"/>
            <p:cNvCxnSpPr>
              <a:stCxn id="73" idx="1"/>
              <a:endCxn id="53" idx="2"/>
            </p:cNvCxnSpPr>
            <p:nvPr/>
          </p:nvCxnSpPr>
          <p:spPr>
            <a:xfrm rot="10800000">
              <a:off x="3061440" y="2050200"/>
              <a:ext cx="110160" cy="186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3" name="_s13320"/>
            <p:cNvSpPr/>
            <p:nvPr/>
          </p:nvSpPr>
          <p:spPr>
            <a:xfrm>
              <a:off x="2048760" y="1524960"/>
              <a:ext cx="2028600" cy="525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" rIns="828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КИСЛОТЫ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13321"/>
            <p:cNvSpPr/>
            <p:nvPr/>
          </p:nvSpPr>
          <p:spPr>
            <a:xfrm>
              <a:off x="3171240" y="2096280"/>
              <a:ext cx="3779640" cy="281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" rIns="828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КИСЛОРОДНЫЕ              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, HN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3323"/>
            <p:cNvSpPr/>
            <p:nvPr/>
          </p:nvSpPr>
          <p:spPr>
            <a:xfrm>
              <a:off x="3171240" y="2422800"/>
              <a:ext cx="3779640" cy="280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" rIns="828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БЕСКИСЛОРОДНЫЕ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                 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CL, HB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13329"/>
            <p:cNvSpPr/>
            <p:nvPr/>
          </p:nvSpPr>
          <p:spPr>
            <a:xfrm>
              <a:off x="3171240" y="2749680"/>
              <a:ext cx="3779640" cy="281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" rIns="828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ОДНООСНОВНЫЕ             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CL, HN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13331"/>
            <p:cNvSpPr/>
            <p:nvPr/>
          </p:nvSpPr>
          <p:spPr>
            <a:xfrm>
              <a:off x="3171240" y="3076200"/>
              <a:ext cx="3779640" cy="280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" rIns="828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ДВУХОСНОВНЫЕ   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                  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13333"/>
            <p:cNvSpPr/>
            <p:nvPr/>
          </p:nvSpPr>
          <p:spPr>
            <a:xfrm>
              <a:off x="3171240" y="3403080"/>
              <a:ext cx="3779640" cy="281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" rIns="828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ТРЕХОСНОВНЫЕ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                                 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P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ru-RU" sz="15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 baseline="-25000">
                  <a:solidFill>
                    <a:srgbClr val="000000"/>
                  </a:solidFill>
                  <a:latin typeface="Arial"/>
                </a:rPr>
                <a:t>    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13335"/>
            <p:cNvSpPr/>
            <p:nvPr/>
          </p:nvSpPr>
          <p:spPr>
            <a:xfrm>
              <a:off x="3171240" y="3729600"/>
              <a:ext cx="3779640" cy="281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20" rIns="9720" tIns="5040" bIns="5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СИЛЬНЫЕ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                                         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, HC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13337"/>
            <p:cNvSpPr/>
            <p:nvPr/>
          </p:nvSpPr>
          <p:spPr>
            <a:xfrm>
              <a:off x="3171240" y="4056480"/>
              <a:ext cx="3779640" cy="280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20" rIns="11520" tIns="5760" bIns="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СЛАБЫЕ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3339"/>
            <p:cNvSpPr/>
            <p:nvPr/>
          </p:nvSpPr>
          <p:spPr>
            <a:xfrm>
              <a:off x="3171240" y="4383000"/>
              <a:ext cx="3779640" cy="281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320" rIns="13320" tIns="6480" bIns="6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РАСТВОРИМЫЕ             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, HN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ru-RU" sz="14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13341"/>
            <p:cNvSpPr/>
            <p:nvPr/>
          </p:nvSpPr>
          <p:spPr>
            <a:xfrm>
              <a:off x="3171240" y="4709880"/>
              <a:ext cx="3779640" cy="281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120" rIns="15120" tIns="7560" bIns="7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НЕРАСТВОРИМЫЕ               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i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13343"/>
            <p:cNvSpPr/>
            <p:nvPr/>
          </p:nvSpPr>
          <p:spPr>
            <a:xfrm>
              <a:off x="3171240" y="5036400"/>
              <a:ext cx="3779640" cy="280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560" rIns="16560" tIns="8280" bIns="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ЛЕТУЧИЕ                         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,  HC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13345"/>
            <p:cNvSpPr/>
            <p:nvPr/>
          </p:nvSpPr>
          <p:spPr>
            <a:xfrm>
              <a:off x="3171240" y="5363280"/>
              <a:ext cx="3779640" cy="281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7440" rIns="37440" tIns="18720" bIns="18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НЕЛЕТУЧИЕ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                      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P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" dur="2000" fill="hold"/>
                                        <p:tgtEl>
                                          <p:spTgt spid="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" dur="2000" fill="hold"/>
                                        <p:tgtEl>
                                          <p:spTgt spid="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Типичные реакции кисло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Кислота + основание = соль + 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2 NaOH =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2O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2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Кислота + оксид металла = соль + 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O + 2 HCL = Cu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O + 2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+ Cu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Кислота + металл = водород + сол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HCL +Zn = Zn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Z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Z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+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ловия: - в ряду напряжений металл должен стоять до водор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в результате реакции должна получиться растворимая с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Кислота + соль = новая кислота + новая с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ловия: - в результате реакции должны получиться газ, осад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в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Ba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2H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+ 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= Ba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8281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Формула кислоты эт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aOH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uCL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HCL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S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 Лакмус в растворе, полученном при взаимодействии оксида серы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V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с водо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 синий                  в) фиолетов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) красный              г) малинов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 С раствором серной кислоты взаимодействуе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 оксид магния      в) оксид фосфо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) оксид углерода   г) се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. Соляная кислота не взаимодействует с металло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 алюминием         в) серебр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) железом              г)  цинк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. Пара ионов, которая может одновременно находится в раствор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i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в) Н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u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ОН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г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6. Пара веществ взаимодействующих друг с друго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u Si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) 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 u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O  u N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г) Н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  u  NaOH 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 baseline="30000">
                <a:solidFill>
                  <a:srgbClr val="000000"/>
                </a:solidFill>
                <a:latin typeface="Arial"/>
              </a:rPr>
              <a:t>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ОТВ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209680" indent="-380880">
              <a:spcBef>
                <a:spcPts val="1001"/>
              </a:spcBef>
              <a:buClr>
                <a:srgbClr val="ff33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1001"/>
              </a:spcBef>
              <a:buClr>
                <a:srgbClr val="ff33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1001"/>
              </a:spcBef>
              <a:buClr>
                <a:srgbClr val="ff33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1001"/>
              </a:spcBef>
              <a:buClr>
                <a:srgbClr val="ff33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1001"/>
              </a:spcBef>
              <a:buClr>
                <a:srgbClr val="ff33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1001"/>
              </a:spcBef>
              <a:buClr>
                <a:srgbClr val="ff33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4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9T06:46:13Z</dcterms:created>
  <dc:creator>Alex</dc:creator>
  <dc:description/>
  <dc:language>en-US</dc:language>
  <cp:lastModifiedBy>Alex</cp:lastModifiedBy>
  <dcterms:modified xsi:type="dcterms:W3CDTF">2003-12-19T09:46:27Z</dcterms:modified>
  <cp:revision>17</cp:revision>
  <dc:subject/>
  <dc:title>КИСЛОТЫ</dc:title>
</cp:coreProperties>
</file>