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A71-599B-4992-864F-F5D4F17A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60F-443B-4871-9345-DB2B7546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CC6-B7F0-4B5E-BA7A-60CB3F9B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B3AE-BA3E-46A3-BFAB-DA3C1B06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9A9B-91FB-483D-AAF7-A63CE9B1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A679-BA2E-43DD-993A-BAC72875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CE10-1CB4-4F77-9456-2215717D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5810-A6CF-4BB3-ACD1-6E66337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23C1-C466-4ACD-A271-58CBE0B6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024-87B6-47BB-9E37-C48A5812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4E02-C7CC-4EB9-A135-0EB94CCB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ACE-5DCC-4FB0-BF14-01E7A35A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06F4-B46D-47F1-9A43-E9E245FB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22E1-113E-417A-A38A-83BE3D95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B2CA-8A33-4D68-9239-7BEE4D6C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E7C6-D5AD-4466-91B1-7C07AD59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E742-93C4-4DE9-815A-72D1B257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C6FC-CBF0-4888-B2C5-B58433D7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C6C-FB6A-4BDC-9B5D-3267A44E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3D7-B59B-43B3-814C-174CDD02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9E1-4C95-4595-9E1F-A746733D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352-5361-4CFC-8A7E-16500B3E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7BC8-294A-4358-8F12-12494138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3E6-647F-43C3-8D42-FAE5D9F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54B-BEDA-4BAD-A80F-4012CC4398A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3D60-BB72-4A2C-9427-B12D32CB8BC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Диффузные и планетарные туманности в процессе эволюции галактик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5028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полнила: Прокофьева Юлия Вячесла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едняя общеобразовательная школа № 617 Зеленоградский А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ланетарные туманности – разновидность диффузных туманностей.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Никакого отношения не имеют к процессу звездообразования и рождения планетных дисков около звезд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центре планетарных туманностей находится звез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расный гигант, окруженный яркой, газовой оболочко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относится к типу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V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Тельца и планетарная туманность – это оболочка, которую звезда сбрасывает с себ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а теряет массу в виде солнечного ветра, имеющего скорость до 30 км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2440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260360"/>
            <a:ext cx="7848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 27</a:t>
            </a:r>
            <a:br>
              <a:rPr sz="4400"/>
            </a:b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«Лисич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306600" y="838080"/>
            <a:ext cx="5837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Кошачий глаз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723888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ентральная звезда туманности погружена в светящееся в рентгеновском диапазоне облако газа с температурой в несколько миллионов градусов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ланетарная туманность «Эскимос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97240" y="1219320"/>
            <a:ext cx="67467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04920" y="0"/>
            <a:ext cx="1905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54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828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GC 675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Темные туманност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аще всего размещены в галактическом диске (видны в полосе Млечного Пути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Являются облаками космического газа и пыли, которая поглощает свет звезд, лежащих за нею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ространство между звездами заполнено разреженным веществом, излучением и магнитным полем. 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 межзвездной среде открыты огромные холодные области - 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молекулярные облака 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- с температурой 5 – 50 К и очень горячий газ с температурой 10</a:t>
            </a:r>
            <a:r>
              <a:rPr b="0" lang="ru-RU" sz="4000" spc="-1" strike="noStrike" baseline="30000">
                <a:solidFill>
                  <a:srgbClr val="ffcc66"/>
                </a:solidFill>
                <a:latin typeface="Arial"/>
              </a:rPr>
              <a:t>6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 К – </a:t>
            </a:r>
            <a:r>
              <a:rPr b="1" lang="ru-RU" sz="4000" spc="-1" strike="noStrike" u="sng">
                <a:solidFill>
                  <a:srgbClr val="ffcc66"/>
                </a:solidFill>
                <a:uFillTx/>
                <a:latin typeface="Arial"/>
              </a:rPr>
              <a:t>коронарный газ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ная туманность «Конская Голов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5345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«Курительная Трубк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0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Южный Угольный Меш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везды образуются в результате гравитационной неустойчивости в холодных и плотных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олекулярных облаках, поэтому звёзды рождаются группами, скоплениями, комплексами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нфракрасное излучение центра нашей Галактик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ста активного звездообразо -вания – холодные струи газ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7086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се диффузные туманности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сположены около горячих звезд спектрального класса О и 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ветятся за счет мощного ультрафиолетового излучения горячих звезд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яркие эмиссионные линии в спектр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меют неправильную форму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стоят из межзвёздной пыли и газов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Ориона (центральная часть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62320" y="1290600"/>
            <a:ext cx="678168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Трехраздельна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Омег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727200"/>
            <a:ext cx="85345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Диффузная туманность «Лагуна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7057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Крабовидная туманность М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812880"/>
            <a:ext cx="838188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уманность Розет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7240"/>
            <a:ext cx="838188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09:12:56Z</dcterms:created>
  <dc:creator>ELENA</dc:creator>
  <dc:description/>
  <dc:language>en-US</dc:language>
  <cp:lastModifiedBy>x</cp:lastModifiedBy>
  <dcterms:modified xsi:type="dcterms:W3CDTF">2005-05-20T13:28:55Z</dcterms:modified>
  <cp:revision>71</cp:revision>
  <dc:subject/>
  <dc:title>Самостоятельное конструирование интерактивных экспериментов по физике с использованием телекоммуникационных средств обучения </dc:title>
</cp:coreProperties>
</file>