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D4F6-56AA-4FDB-A6EC-6ACBB00E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684F-47C4-4B20-8CE9-205F5FC9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4927-12FD-46BB-86EE-985A72BD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C8C-4B44-4165-A628-3BA7C5E9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1CF3-08EC-4564-B58A-4A89B90F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87DB-2A58-47BE-8DD3-34657990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D070-026A-47B5-AFFF-AD6ACA90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1A4B-1186-4690-8064-10661099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9FF6-AA04-4673-B586-7814762E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4913-A592-4071-94F6-B414A9A5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E87A-F835-4B30-AD9D-C2B59E7E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AB6C-CE2A-4095-BDFB-8F94FD65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ACA2-17E6-4977-9302-0863D70D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C217-17DF-46C6-9352-24C5D51A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8A55-9B57-4988-A8FC-33F8FE54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24D0-7F3D-473E-9A71-D8F7FA09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4910-A136-4336-BE74-A338F4BD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634D-447B-4242-A352-2909BDEA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6228-C5D9-42BE-BD06-2367CD77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CEC-7AB4-4E7B-82E7-73791DB1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389-8D18-4B05-85BF-D3B11FD5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A7E-3F96-47F4-859B-AE5CDF98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500-141C-4C9B-8C90-6063CDAF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D717-2461-4149-9868-5702C44B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C266-E49D-4008-883E-671A8D9ED5F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932D-E114-4B91-B8AC-7D442B6DD45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Arial"/>
              </a:rPr>
              <a:t>Диффузные и планетарные туманности в процессе эволюции галактик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5028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полнила: Прокофьева Юлия Вячеслав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редняя общеобразовательная школа № 617 Зеленоградский А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ланетарные туманности – разновидность диффузных туманностей.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центре планетарных туманностей находится звезд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асный гигант, окруженный яркой, газовой оболочкой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относится к типу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V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Тельца и планетарная туманность – это оболочка, которую звезда сбрасывает с себя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теряет массу в виде солнечного ветра, имеющего скорость до 30 км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4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1260360"/>
            <a:ext cx="7848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 27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«Лисич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06600" y="838080"/>
            <a:ext cx="5837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Кошачий глаз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72388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Эскимос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97240" y="1219320"/>
            <a:ext cx="67467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1905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54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75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Темные туманност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аще всего размещены в галактическом диске (видны в полосе Млечного Пути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межзвездной среде открыты огромные холодные области - 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молекулярные облака 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- с температурой 5 – 50 К и очень горячий газ с температурой 10</a:t>
            </a:r>
            <a:r>
              <a:rPr b="0" lang="ru-RU" sz="4000" spc="-1" strike="noStrike" baseline="30000">
                <a:solidFill>
                  <a:srgbClr val="ffcc66"/>
                </a:solidFill>
                <a:latin typeface="Arial"/>
              </a:rPr>
              <a:t>6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 К –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коронарный газ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ная туманность «Конская Голов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53452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«Курительная Труб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Южный Угольный Меш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везды образуются в результате гравитационной неустойчивости в холодных и плотных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олекулярных облаках, поэтому звёзды рождаются группами, скоплениями, комплексами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нфракрасное излучение центра нашей Галактик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еста активного звездообразо -вания – холодные струи газ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се диффузные туманности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сположены около горячих звезд спектрального класса О и В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ветятся за счет мощного ультрафиолетового излучения горячих звезд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яркие эмиссионные линии в спектре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неправильную форму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стоят из межзвёздной пыли и газ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Ориона (центральная часть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62320" y="1290600"/>
            <a:ext cx="67816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Трехраздельна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Омег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727200"/>
            <a:ext cx="853452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Лагун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705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рабовидная туманность М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812880"/>
            <a:ext cx="838188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Розет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87240"/>
            <a:ext cx="838188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9:12:56Z</dcterms:created>
  <dc:creator>ELENA</dc:creator>
  <dc:description/>
  <dc:language>en-US</dc:language>
  <cp:lastModifiedBy>x</cp:lastModifiedBy>
  <dcterms:modified xsi:type="dcterms:W3CDTF">2005-05-20T13:28:55Z</dcterms:modified>
  <cp:revision>71</cp:revision>
  <dc:subject/>
  <dc:title>Самостоятельное конструирование интерактивных экспериментов по физике с использованием телекоммуникационных средств обучения </dc:title>
</cp:coreProperties>
</file>